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3710-4424-44DC-BF23-0462639CA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A4E2-FB1F-4D25-9CF8-6A486BC1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92F7-2483-4636-84A7-057F1F623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D5A6-7574-4EC3-91A0-AAB02AD72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1544-2F1B-49CC-B779-25C12F40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880E-3503-4517-A6D6-EA8B9281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330E-2302-4E36-8A93-46906783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E79F-87DD-4A11-9502-45A2F684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12C6-DF57-43B6-ABAC-6BC80AE3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08F8-88F6-46B2-8E21-40ACBBE1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DC38-22F8-4D54-B2F8-830B1611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07E6-570D-4FE7-A934-9B266F45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570EC2-D697-4317-B451-83AAD076ED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643978-B80C-4B48-B77B-D828C36548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acintosh HD:Users:klubecke:Documents:Kim's Stuff:Regular Biology:Semester One:Chapter 5 Circulation:Animations:flowthurheart.MOV" descr="/Users/klubecke/Documents/Kim's Stuff/Regular Biology/Semester One/Chapter 5 Circulation/Animations/flowthurheart.MO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9:15:41Z</dcterms:created>
  <dc:creator>Patriot</dc:creator>
  <dc:description/>
  <dc:language>en-US</dc:language>
  <cp:lastModifiedBy>Patriot</cp:lastModifiedBy>
  <dcterms:modified xsi:type="dcterms:W3CDTF">2012-03-06T19:16:35Z</dcterms:modified>
  <cp:revision>2</cp:revision>
  <dc:subject/>
  <dc:title>Slide 1</dc:title>
</cp:coreProperties>
</file>