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529-AE78-4AE8-8394-EBF0AEFE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C54-CFBB-4D50-AB54-E1D7EE68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CFC-35DA-47EE-816D-62A85C39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DC0-058E-4160-962A-3E6932CB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FA0-E37D-4E1C-83DA-D13E6A56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90C-7B9B-448E-9F84-3B469A24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4617-E7C4-4C76-89BB-CC2D77E5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468-CFBC-4C03-A012-C42836AC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521-D9EB-4FDF-9F35-42BE4B86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BC2-E27E-4BDE-9E64-135014C2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18F-AB18-459F-91B6-02B88EA7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0C8-FA49-4D95-AD42-B6876C82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1B8A0-5FE4-4984-9567-ECA883BE33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B184E-0C92-467F-A351-3B155513A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cintosh HD:Users:klubecke:Documents:Kim's Stuff:Regular Biology:Semester One:Chapter 5 Circulation:Animations:flowthurheart.MOV" descr="/Users/klubecke/Documents/Kim's Stuff/Regular Biology/Semester One/Chapter 5 Circulation/Animations/flowthurheart.M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9:15:41Z</dcterms:created>
  <dc:creator>Patriot</dc:creator>
  <dc:description/>
  <dc:language>en-US</dc:language>
  <cp:lastModifiedBy>Patriot</cp:lastModifiedBy>
  <dcterms:modified xsi:type="dcterms:W3CDTF">2012-03-06T19:16:35Z</dcterms:modified>
  <cp:revision>2</cp:revision>
  <dc:subject/>
  <dc:title>Slide 1</dc:title>
</cp:coreProperties>
</file>