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C7D-524C-4301-BAE7-FC2380D4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207-4612-4EE0-A7DD-C0A5BEDD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17C-8E79-48EF-B1C5-DCC4CCC2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3D1-161B-4B60-928D-B4C7C84E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E4B-A4AE-4E64-A09D-785F0E9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887-7567-4FCE-9C3E-AD921227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2D0-54AC-4136-A00C-106120C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270-B2C6-4AED-999A-89404A8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2C8B-77D3-400C-BDCC-A4D1D32C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652-0637-471B-8F64-FE78E315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F70-3895-431C-B828-DB9A733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F95-8764-46DC-A92A-AB9A5223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1BC35-D228-4EDE-834F-3665A1A7C6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CDEFE-91EE-4A1E-8F3A-F93CDCFBC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ay They Parachuted Ca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Borne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Drama of Ec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children’s book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eaning of li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LL life precious and irreplace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ur job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we come from? Why are we here? We are we go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the early 1950s, there was an outbreak of a serio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sease called malaria amongst the Dayak people i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orneo. The World Health Organization tried to solv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problem. They sprayed large amounts of a chemic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lled DDT to kill the mosquitoes that carried th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laria. The mosquitoes died and there was less malari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at was good. However, there were side effects. One o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first effects was that the roofs of people's hous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gan to fall down on their heads. It turned out that th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DT was also killing a parasitic wasp that ate thatcheat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terpillars. Without the wasps to eat them, t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ere more and more thatch-eating caterpillars. Wor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an that, the insects that died from being poisoned b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DT were eaten by gecko lizards, which were then eate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y cats. The cats started to die, the rats flourished, 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people were threatened by outbreaks of two new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rious diseases carried by the rats, sylvatic plague 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yphus. To cope with these problems, which it had itsel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reated, the World Health Organization had to parachut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ive cats into Borneo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7:46:48Z</dcterms:created>
  <dc:creator>Patriot</dc:creator>
  <dc:description/>
  <dc:language>en-US</dc:language>
  <cp:lastModifiedBy>Patriot</cp:lastModifiedBy>
  <dcterms:modified xsi:type="dcterms:W3CDTF">2012-05-16T17:11:03Z</dcterms:modified>
  <cp:revision>3</cp:revision>
  <dc:subject/>
  <dc:title>Slide 1</dc:title>
</cp:coreProperties>
</file>