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3C5-D45D-4D6C-8AB1-1D882222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99E2-3C50-4E8C-B214-75FF2653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7C4-D963-4975-BB97-ABDB0E18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18C-9EDB-4B25-B91C-14FB652E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0354-0880-4A53-9E50-E37D5658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EA3-6452-4AC1-8429-01FFA766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CA2-A396-4E76-8EE7-FEF09459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702-C00D-4A68-B543-85BB783E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80F6-F55C-47D6-859D-368FEE3D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8235-315F-482B-B9A9-24F3273B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BD4-C028-442B-8C86-CF68FFE4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25A-7591-4B47-93CB-590EFDDE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D421F-F02B-4A69-A361-B5AD19D095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28679-FE24-41C5-96DC-863BD06C7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Day They Parachuted Cat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 Borne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Drama of Ecolo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 children’s book 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meaning of li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LL life precious and irreplacea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our job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id we come from? Why are we here? We are we go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 the early 1950s, there was an outbreak of a seriou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isease called malaria amongst the Dayak people i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orneo. The World Health Organization tried to solv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e problem. They sprayed large amounts of a chemica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alled DDT to kill the mosquitoes that carried th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laria. The mosquitoes died and there was less malaria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at was good. However, there were side effects. One of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e first effects was that the roofs of people's hous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egan to fall down on their heads. It turned out that th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DT was also killing a parasitic wasp that ate thatcheat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aterpillars. Without the wasps to eat them, ther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ere more and more thatch-eating caterpillars. Wor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an that, the insects that died from being poisoned b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DT were eaten by gecko lizards, which were then eate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y cats. The cats started to die, the rats flourished, an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e people were threatened by outbreaks of two new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rious diseases carried by the rats, sylvatic plague an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yphus. To cope with these problems, which it had itself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reated, the World Health Organization had to parachut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live cats into Borneo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17:46:48Z</dcterms:created>
  <dc:creator>Patriot</dc:creator>
  <dc:description/>
  <dc:language>en-US</dc:language>
  <cp:lastModifiedBy>Patriot</cp:lastModifiedBy>
  <dcterms:modified xsi:type="dcterms:W3CDTF">2012-05-16T17:11:03Z</dcterms:modified>
  <cp:revision>3</cp:revision>
  <dc:subject/>
  <dc:title>Slide 1</dc:title>
</cp:coreProperties>
</file>