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33DC-01AC-462E-801A-7DB3640B4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4DB1-6FE1-4FE6-83B5-7057AE078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A0B7-AEF9-4B96-8606-08E632E0F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therap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DC6C-EB0C-475F-B2F5-9B0AB1E12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therap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721D-89E1-4F4C-B6FD-CB1C05ED8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therap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297D-7A96-4AE2-912B-A8C021F99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6C97-E84F-4E9F-9BE8-84804F4E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04B4-FF19-4834-8927-8E24CE32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E322-37A5-4483-9BC3-FABE2603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2160-8EDD-424A-A57B-E532A5DE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85C4-184A-45FB-8A48-3AD86EC9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F8B9-0473-4350-BCDE-72B35CB0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53AD-08D8-4944-BC24-403C27D8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2013-E58A-408B-A5AB-6B9DCA61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6B6B-0094-4CDF-8329-ED3D4211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5366-311E-4A11-8CB2-2D1C10CA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244B-D89D-4C8A-AA65-77C73DB5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D6B-3C53-433A-8193-99343FA5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A4AD-BFF8-4D05-B6C0-6633034B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9924-BC8D-4E6D-AC35-B9C101DA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4E2D-E5B3-4CAA-9CE1-7E02C9EB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3590-3606-45C6-A78D-755081E1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5CC9-215B-422F-8437-7B4ECFB8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0F7-EA11-4B14-9221-8744B560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70FF-0B8E-4BF7-B72A-249653D6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3278-9FBC-4106-869E-C16634AA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EA4-C582-455E-841D-D0D11A52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67D0-66DE-4BCA-9E18-6969BECB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36F-29A6-4217-A4D2-26E9FE8F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819B-9FD5-4DDF-BFAC-BCA28FF6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5702400"/>
            <a:ext cx="9175680" cy="1171440"/>
            <a:chOff x="-12600" y="5702400"/>
            <a:chExt cx="9175680" cy="1171440"/>
          </a:xfrm>
        </p:grpSpPr>
        <p:sp>
          <p:nvSpPr>
            <p:cNvPr id="1" name="Freeform 3"/>
            <p:cNvSpPr/>
            <p:nvPr/>
          </p:nvSpPr>
          <p:spPr>
            <a:xfrm>
              <a:off x="111240" y="5702400"/>
              <a:ext cx="8997840" cy="928440"/>
            </a:xfrm>
            <a:prstGeom prst="pie">
              <a:avLst/>
            </a:pr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12600" y="5743440"/>
              <a:ext cx="9175680" cy="113040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DB9A-226B-45AB-9B9B-E26757B25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3416400"/>
            <a:ext cx="9167760" cy="3457440"/>
            <a:chOff x="0" y="3416400"/>
            <a:chExt cx="9167760" cy="3457440"/>
          </a:xfrm>
        </p:grpSpPr>
        <p:sp>
          <p:nvSpPr>
            <p:cNvPr id="45" name="Freeform 3"/>
            <p:cNvSpPr/>
            <p:nvPr/>
          </p:nvSpPr>
          <p:spPr>
            <a:xfrm>
              <a:off x="146160" y="3416400"/>
              <a:ext cx="8993160" cy="3436920"/>
            </a:xfrm>
            <a:prstGeom prst="pie">
              <a:avLst/>
            </a:pr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3427560"/>
              <a:ext cx="9167760" cy="34462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A5C6-CEAE-4B92-97B3-BEF82188C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rainpop.com/health/digestive/digestivesystem/index.wem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he Digestive Syste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lerated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omach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ly breaks down food by using peristaltic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s gastric juices that is a mixture of HCl acid and the enzyme pep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psin – breaks down proteins into amino acids. Only effective in acidic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omach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 spends 2–6 hours in the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mach produces 2 L of HCl a da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Ulcer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ating of mucous protects the lining of the stomach from the gastric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cers result when this lining is dam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2981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1374840" y="4495680"/>
            <a:ext cx="20541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Heartbur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nothing to do with the hear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time, the sphincter that separates the esophagus and stomach can become rela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s from the stomach burn the lining of the esopha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556080" cy="37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mall Intestin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meter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 in the digestion and absorption of nutrients into the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ed with villi – tiny fingerlike projections that increase the surface area for 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4648320" y="2538360"/>
            <a:ext cx="38098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Villi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1447920" y="1649520"/>
            <a:ext cx="6248160" cy="4674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6553080" y="4572000"/>
            <a:ext cx="2362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mall Intestin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se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odenum – first section that receives secretions from the liver, pancreas, and gallblad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junum – middle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eum – last section connects the small intestine to the large inte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mall Intestin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1655640" y="1676520"/>
            <a:ext cx="5842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mall Intestin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e – produced by the liver and enters duodenum. Breaks up fat globules into tiny dro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creatic lipase – enzyme secreted by the pancreas and enters the duodenum. Breaks down lipids into fatty acids and glycerol in the small intest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arge Intestin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alled the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igestion takes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bs minerals &amp;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s wastes for elimination from the body. All food components that are not for energy production are considered w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572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Functions of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he Digestive Syste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in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it down into molecules small enough for the body to abs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rid of undigested molecules and w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Times New Roman"/>
                <a:hlinkClick r:id="rId2"/>
              </a:rPr>
              <a:t>Brainpop an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3"/>
          <a:stretch/>
        </p:blipFill>
        <p:spPr>
          <a:xfrm>
            <a:off x="5791320" y="2057400"/>
            <a:ext cx="277812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arge Intestin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balance is importa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ood is rushed through you end up with diarrhea (watery fe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ood remains in the colon too long you become constipated (hard fe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572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arge Intestin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of the contents are dead cells, mucus, secre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ony of bacteria live in the colon and help the body synthesize many compounds you cant get from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tamin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ral B vitam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572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ectu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tum – solid waste is stored here until you find a socially acceptable time and place!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us – solid waste eliminated through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572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ive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ory 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retes the bile that aids in the emulsification of f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s extra sugar into glycogen for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ver then breaks down glycogen when it is needed for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411948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ive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ver also detoxifies poi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rhosis – scaring of the liver caused by chronic drug use, drinking, viral inf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81024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ive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undice – a condition in which the eyes, skin, and urine become abnormally yellow as a result of increased amounts of bile pigments in the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Gallbladde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ed and stores the bile produced by the liver until it is needed in the small inte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ancrea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ory 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retes lipase and protease that aid in the chemical breakdown of lipids and proteins in the small inte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ppendix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estigial structure on the the large intes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ndicitis – when the appendix becomes inflamed. If immediate medical attention is not received, the appendix may burs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4521240" y="1998720"/>
            <a:ext cx="462276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igestive Enzym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75" name="Table 4" descr=""/>
          <p:cNvPicPr/>
          <p:nvPr/>
        </p:nvPicPr>
        <p:blipFill>
          <a:blip r:embed="rId2"/>
          <a:stretch/>
        </p:blipFill>
        <p:spPr>
          <a:xfrm>
            <a:off x="-73080" y="1755720"/>
            <a:ext cx="929016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tages of Diges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estion – act of eating or dr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estion – breaking down food into molecules the body can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ption – uptake of small nutrient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ion – passage of undigested material from the digestive 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ypes of Diges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– chewing in mouth and churning in stomach break food into smaller pie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– enzymes break the bonds between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molecul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nomer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athway through</a:t>
            </a:r>
            <a:br>
              <a:rPr sz="4400"/>
            </a:b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he Digestive Syste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long tube, 26 fee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t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haryn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ophagu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mac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mall intestin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rge intestin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tu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ver and pancreas are accessory organs that deliver secretions into the digestive tract through du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age regulated at each step by sphin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outh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Di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eth – rip and chew food into shr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gue – mixes food with sal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3809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Mouth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Di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ivary glands – secrete saliva which moistens and lubricates food so it can be swallowed more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99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iva – contains the enzyme amylase that begins the break down of carbohydrates into monosacchar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3809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sophagu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ong tube that connects the mouth to the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igestion takes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stalsis – successive rhythmic waves of smooth muscle contractions move the food to the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s 5–10 seconds for food to reach the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39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eristalsi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2120760" y="1828800"/>
            <a:ext cx="488952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16:18:14Z</dcterms:created>
  <dc:creator>Patriot</dc:creator>
  <dc:description/>
  <dc:language>en-US</dc:language>
  <cp:lastModifiedBy>Patriot</cp:lastModifiedBy>
  <dcterms:modified xsi:type="dcterms:W3CDTF">2012-03-20T13:09:00Z</dcterms:modified>
  <cp:revision>231</cp:revision>
  <dc:subject/>
  <dc:title>What is in the food you eat?</dc:title>
</cp:coreProperties>
</file>