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1A9D-1C06-47EF-AD9A-159ED9415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2D9A-D6EF-4794-AB18-C669FF139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AC37-DF45-4458-853C-B23D562AB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therap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F74D-DDA3-4F22-9BFC-3997A617C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therap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7B43-D59F-4358-A456-943349A3E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therap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8425-9AEE-407D-850B-9EF48A956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B87-6515-4F34-9A78-CF36DB49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1B7-E8AE-4AB6-9FEE-44D77BEC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9CE-20EF-4B59-ACE3-0179563B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C94-96F8-4EE9-AE79-15619214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3249-7843-4EA3-92E8-92C26B2F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A814-0DAF-456F-94B0-A17E8EA3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4C5E-A3DD-40AC-B052-B012EF8D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ECE7-A3AB-4CAE-A782-D828F0AE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FE53-F99E-4645-BF7F-F75CC72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9398-FD15-41A0-B274-AA7752DE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9969-9174-4FFB-BDCD-BE7981EA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208-58EE-461A-BD8D-7E31264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C5F1-0372-493D-81F9-3C4EEE72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1E85-C58D-41AE-A15C-620E952F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01CA-6EF1-42F5-92BB-C2FBD26C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346E-F279-4333-B0B1-CC7A2EA7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E938-E2B8-4B30-BC49-650C2763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5C2-A281-4ECE-8ACB-F4029349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688-DA86-49B0-B4C1-77EE7CC0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0AA-911E-4118-8D7D-0B7B614B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5F9-D224-4DCF-A964-BDF0D367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F23-CA39-4D3B-B476-42842742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8F7-E991-46AD-B210-87DBB2E4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319-D956-4187-B28E-46877AB8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Freeform 3"/>
            <p:cNvSpPr/>
            <p:nvPr/>
          </p:nvSpPr>
          <p:spPr>
            <a:xfrm>
              <a:off x="111240" y="5702400"/>
              <a:ext cx="8997840" cy="92844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12600" y="5743440"/>
              <a:ext cx="9175680" cy="113040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CB6A-64FD-4138-9F70-A73B43697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Freeform 3"/>
            <p:cNvSpPr/>
            <p:nvPr/>
          </p:nvSpPr>
          <p:spPr>
            <a:xfrm>
              <a:off x="146160" y="3416400"/>
              <a:ext cx="8993160" cy="343692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427560"/>
              <a:ext cx="9167760" cy="34462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C166-3150-4CF5-8946-B31E4C74E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ainpop.com/health/digestive/digestivesystem/index.we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Digestive Syste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ed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omac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ly breaks down food by using peristaltic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gastric juices that is a mixture of HCl acid and the enzyme pep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psin – breaks down proteins into amino acids. Only effective in acidic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omac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spends 2–6 hours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produces 2 L of HCl a d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Ulcer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ating of mucous protects the lining of the stomach from the gastric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cers result when this lining is dam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2981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1374840" y="4495680"/>
            <a:ext cx="2054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eartbur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nothing to do with the hea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time, the sphincter that separates the esophagus and stomach can become rela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s from the stomach burn the lining of the esopha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55608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mall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meter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in the digestion and absorption of nutrients into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ed with villi – tiny fingerlike projections that increase the surface area for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4648320" y="2538360"/>
            <a:ext cx="38098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Vill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1447920" y="1649520"/>
            <a:ext cx="6248160" cy="4674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6553080" y="457200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mall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s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odenum – first section that receives secretions from the liver, pancreas, and gallb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junum – middle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eum – last section connects the small intestine to the large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mall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1655640" y="1676520"/>
            <a:ext cx="584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mall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e – produced by the liver and enters duodenum. Breaks up fat globules into tiny dro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creatic lipase – enzyme secreted by the pancreas and enters the duodenum. Breaks down lipids into fatty acids and glycerol in the small intest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rge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the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gestion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s minerals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s wastes for elimination from the body. All food components that are not for energy production are considere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unctions of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Digestive Syste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in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it down into molecules small enough for the body to abs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id of undigested molecules an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Times New Roman"/>
                <a:hlinkClick r:id="rId2"/>
              </a:rPr>
              <a:t>Brainpop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77812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rge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balance is import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ood is rushed through you end up with diarrhea (watery fe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ood remains in the colon too long you become constipated (hard fe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rge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 the contents are dead cells, mucus, secre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ony of bacteria live in the colon and help the body synthesize many compounds you cant get from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tamin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B vitam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ctu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um – solid waste is stored here until you find a socially acceptable time and place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s – solid waste eliminated through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iv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ory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es the bile that aids in the emulsification of f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s extra sugar into glycogen for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ver then breaks down glycogen when it is needed for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411948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iv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ver also detoxifies po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rhosis – scaring of the liver caused by chronic drug use, drinking, viral inf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81024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iv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undice – a condition in which the eyes, skin, and urine become abnormally yellow as a result of increased amounts of bile pigments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llbladd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d and stores the bile produced by the liver until it is needed in the small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ncrea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ory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es lipase and protease that aid in the chemical breakdown of lipids and proteins in the small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ppendix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stigial structure on the the large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icitis – when the appendix becomes inflamed. If immediate medical attention is not received, the appendix may bu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4521240" y="1998720"/>
            <a:ext cx="462276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gestive Enzym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75" name="Table 4" descr=""/>
          <p:cNvPicPr/>
          <p:nvPr/>
        </p:nvPicPr>
        <p:blipFill>
          <a:blip r:embed="rId2"/>
          <a:stretch/>
        </p:blipFill>
        <p:spPr>
          <a:xfrm>
            <a:off x="-73080" y="1755720"/>
            <a:ext cx="9290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ages of Diges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stion – act of eating or dr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estion – breaking down food into molecules the body ca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 – uptake of small nutrient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ion – passage of undigested material from the digestive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ypes of Diges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– chewing in mouth and churning in stomach break food into smaller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– enzymes break the bonds between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molecu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nomer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thway through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Digestive Syste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long tube, 26 fe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haryn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ophag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mac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 intest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rge intest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tu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ver and pancreas are accessory organs that deliver secretions into the digestive tract through 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age regulated at each step by sphin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out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Di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eth – rip and chew food into sh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gue – mixes food with sal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809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out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Di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ivary glands – secrete saliva which moistens and lubricates food so it can be swallowed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iva – contains the enzyme amylase that begins the break down of carbohydrates into monosacchar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809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sophagu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ng tube that connects the mouth to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gestion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stalsis – successive rhythmic waves of smooth muscle contractions move the food to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5–10 seconds for food to reach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eristalsi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2120760" y="1828800"/>
            <a:ext cx="488952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6:18:14Z</dcterms:created>
  <dc:creator>Patriot</dc:creator>
  <dc:description/>
  <dc:language>en-US</dc:language>
  <cp:lastModifiedBy>Patriot</cp:lastModifiedBy>
  <dcterms:modified xsi:type="dcterms:W3CDTF">2012-03-20T13:09:00Z</dcterms:modified>
  <cp:revision>231</cp:revision>
  <dc:subject/>
  <dc:title>What is in the food you eat?</dc:title>
</cp:coreProperties>
</file>