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ftr" idx="3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 type="sldNum" idx="3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A6E6-C180-4E68-B177-C818DAA7F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C18C-7EC4-4F0F-91A3-F354A133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7CBE-9B53-4140-8505-52E94DC90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2F13-849E-4D6C-B2BF-A94D057D9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48EC-86CB-4A62-A462-B8DA2F15E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EC3-1DF0-418D-B466-FD4B52D7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E21-5DB5-4271-A6AA-7354EBDB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04A2-18E6-4BEE-8F73-8CC30F7E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84847-5D74-4666-B879-88EC5312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4D321-50E5-4C04-A02F-19E236AD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D4A54-4972-4EF3-A951-3636B49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96AA5-E758-4599-A0A6-BE6EC75A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FA9A8-00FD-4698-A0D6-C860DFD1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2A56-A66C-479B-B4FA-B528359E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A97FD-41EA-492A-B330-DB4B3079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0D3B6-2CE3-440F-AF47-44AF5BB3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B88B-762D-4AEC-BB62-5AE2CDDD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C44-3374-4F03-9697-49A66271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0A20C-5343-4B16-9ABE-4A5B976C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B2E8-9A36-4448-965B-BF3A04A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B9C5-8DF5-4FAB-B78F-79FE5251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A1DF8-5A64-4BCD-932C-099F6AE0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543E3-4F5B-4164-92BE-F229522A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25A2B-BA68-40E3-8C9F-FDBEA3A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EF634-81CB-4296-A0BD-6F41A756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0C6B8-8A67-4782-8428-12DA80B4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C9792-91E3-430D-A4FB-74475D1C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D7420-5459-46EA-BC2D-94E9102F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32E-2262-457C-839B-7368E3AA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D818D-698C-4D08-ADB3-DA5834C8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E1214-1C5B-49B5-B364-3D75BE37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049D5-1810-486A-877A-FE023FDF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C31B9-C3FE-44C0-AF4E-ACF42927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0F15E-12FC-46BE-A3E8-5B77F54A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7284-D7C0-44A0-A9A5-5CA2DA6B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18AF0-3AB1-472B-AFF5-1263D493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2BA9C-A680-44DB-A3A3-FA5DFAD4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B50ED-1E71-49A8-B6F2-88B7643E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8D1A-A628-4F80-9874-F05D177F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A9E33-5A01-42D0-B953-7FC8F525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3942F-AC39-4D30-8E50-D35F69FC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F5BCB-8E57-4452-82F8-91B034DF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0F4DB-A9C3-4266-A8FB-9AA4B7C8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12E31-6D7E-4E33-A973-FF4B8F4C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5901E-243C-42C1-BEE1-1C9C2F8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785C3-05FE-4938-9D60-03CEE39C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2BCCF-96CB-4EB4-A9B6-A4A8F919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71B93-2907-4857-BCE2-F9456B1F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EFA28-E634-4490-9C5B-370CCBD1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6DBFB-0B71-462E-845B-501C57B1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C2350-F013-4BAA-AD1A-076202CD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91F0F-2F01-4AB3-9624-0385ED8C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06A48-6920-47D8-B918-02925F32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B6140-16D7-4349-A6D9-BE39796E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F98FC-7440-44C9-B0F0-682452EE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4B028-2E9F-43C4-9256-4C961F7E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34F8F-2869-4F7B-AC21-11D8D17E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432A3-4DC7-4D6F-AF6F-D9D773D8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F6D01-5E49-40F4-AFE9-73858435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99A75-1D64-4139-83FE-B970EFEC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DF98D-EE5D-4F9E-9E5D-ACBC470F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73B7B-1814-45A8-A29C-F5FF290A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03760-39EF-4B0D-8935-0A1D2D8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A4828-0203-4491-82C7-7F467E8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AA5FE-DA12-470A-BC68-57C9BC3D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0AD00-8E2F-40BD-BD53-2DA0098D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0EEE7-DB82-442D-AE16-02BAAB57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B4EAC-1061-4859-864A-4D71C0BC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A5B52-6B40-44F1-B1A0-0FAE22B2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72964-E7FA-41AD-92DD-D67E89F9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DD20A-02CC-4527-ACD8-505385C2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3511E-5F80-46BB-9165-15A51C88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C8CD2-8CA4-4DF1-B0BD-DCBE5CFA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5DE70-E3A1-4A4D-8E8C-A4A6C77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4A189-2B98-40F1-9637-63C7217D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8D86-C9B2-4E86-93FC-C19751A9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7C92-CDE8-4123-80FF-C2C18FB8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282F4-C22F-4AAD-A363-B1BC36B1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D0B-5242-424B-8A87-755227A0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0600-384E-4DB6-B03D-CC537B06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0A76-A785-4BAF-BE6E-8295805E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9D60-24F3-44A8-A147-53A0F9E9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B511-43DC-4E45-9EF6-D17BE5BC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557B-D842-45A1-991A-B50C2455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939-0758-4E59-85A0-0ED5ACCA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8031-EB73-4A5F-9686-977B265E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460B-00AA-4768-95EF-5CDB712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1982-E652-48E5-8E1E-F0A3E2E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455B-0DB4-4992-9A60-F204BC4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8666-E687-40ED-A65B-3534ACAB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83A3-419E-48EB-93EB-7BF9F6E3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5C50-AE21-4AC7-9A79-FDF02946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90D-FC15-49A4-9D73-CB69C8C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246-912F-4C56-A5A3-BA9EC3B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714-B371-4566-9DE5-0FCC80F2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DE5E-6D4A-456F-8A77-397C9F30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7D2CD-321D-45CD-BA3E-9211D397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97DE-99C7-496A-808E-D357AF21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9A4F-E850-441E-AE20-8B030360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647E-615E-40AF-8242-BF0EB496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A64DE-FEA5-4B98-B6B8-3651F1DB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E4A8-36FF-44AC-AD2D-06FDA523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1CD2-CA19-4F14-8904-2C78A4F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963C-92A8-4CBA-9572-D1CC91A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2F5-2501-4FBC-A8D0-5102D705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F5F9-B31A-46BB-90C9-F0F62A23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6674-1D81-4E2B-A2CC-63091796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29DCB-9483-4BEC-B7B2-46769E7A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CDEC-50AF-410C-8F07-B58A99B3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ACF8-0D53-43C2-9E4B-BDFCFE40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CCE1F-867E-4A8E-9DDF-B6CFBBC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DC5A4-8027-41C0-AD6F-ACB16B9C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A5C9-DB5E-4D80-BF5F-83E003BD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8CCC-7260-4119-BA44-7F0DA9E6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D6E0-8899-4F1E-93DD-100D41E5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B74A-D3BD-4367-B822-760A8632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DA756-66E5-46DE-8C8F-F3A769FE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17A6-898A-45E1-9985-2A964B99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65EC-4738-4B33-8FC9-7298F7DB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2429-660E-46EC-BB51-DDB97BF7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A38FA-019B-4E75-8C0C-88103F90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F1C9B-7E60-4294-B8D1-7C4D2B14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754B3-9052-47E5-AC83-ACFBD879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17D42-58B7-4DB2-8EF6-4B7B1E23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FFFC7-E1C3-4180-8DBF-1A85A2CF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0DE9-283F-4357-9314-FC80D3E1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9BC-ACC7-49E6-9163-7B92634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7917E-F7F7-465C-9CDB-54839D6D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BED37-881A-4762-9C85-C26C636F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6D137-1E39-44AC-A954-758F9AF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A0DB3-734F-4BA1-A2A6-C41C258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EAEBA-42BF-44DD-B593-DBC35B77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76D50-4A0C-49BF-A4EE-E01E9866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9D39-C35F-4A74-8971-E8EC3CA6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146A-CF9D-4C96-A2FB-445546F1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8D3E-1603-45B5-8F6E-1990EDB2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32DF9-9A26-44C1-BAF4-CA69D19C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B43B-8ACE-46F8-8C15-F7E08485BD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1ACD-6018-4BA4-926D-3DC48467BC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33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7E2-D32D-4D89-BC2A-9EA7F93722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35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78B1-61D4-4FBD-9547-59370F9ACA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6BC-E2A4-4D23-AA35-D28A076D11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A0DA-8577-4C56-92F8-6B290BB41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2"/>
          <p:cNvGrpSpPr/>
          <p:nvPr/>
        </p:nvGrpSpPr>
        <p:grpSpPr>
          <a:xfrm>
            <a:off x="-360" y="1577880"/>
            <a:ext cx="9472320" cy="4641120"/>
            <a:chOff x="-360" y="1577880"/>
            <a:chExt cx="9472320" cy="464112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2040"/>
              <a:ext cx="2065680" cy="9264600"/>
            </a:xfrm>
            <a:prstGeom prst="pie">
              <a:avLst/>
            </a:pr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240"/>
              <a:ext cx="1041480" cy="7135920"/>
            </a:xfrm>
            <a:prstGeom prst="pie">
              <a:avLst/>
            </a:pr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1680" cy="5297400"/>
            </a:xfrm>
            <a:prstGeom prst="pie">
              <a:avLst/>
            </a:pr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720" cy="6321600"/>
            </a:xfrm>
            <a:prstGeom prst="pie">
              <a:avLst/>
            </a:pr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4320" y="-279360"/>
              <a:ext cx="552240" cy="5105520"/>
            </a:xfrm>
            <a:prstGeom prst="pie">
              <a:avLst/>
            </a:pr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200" y="1177920"/>
              <a:ext cx="536400" cy="2935080"/>
            </a:xfrm>
            <a:prstGeom prst="pie">
              <a:avLst/>
            </a:prstGeom>
            <a:solidFill>
              <a:srgbClr val="073779"/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9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960" y="-765000"/>
              <a:ext cx="3505320" cy="15206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7560" y="-17748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60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520" y="-1039680"/>
              <a:ext cx="1906560" cy="20462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F0FB-9FA0-4E80-A6D8-B5A8133763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prstGeom prst="pie">
            <a:avLst/>
          </a:pr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6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960" y="-765000"/>
              <a:ext cx="3505320" cy="15206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7560" y="-17748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60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520" y="-1039680"/>
              <a:ext cx="1906560" cy="20462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prstGeom prst="pie">
            <a:avLst/>
          </a:pr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prstGeom prst="pie">
            <a:avLst/>
          </a:pr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prstGeom prst="pie">
            <a:avLst/>
          </a:pr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prstGeom prst="pie">
            <a:avLst/>
          </a:prstGeom>
          <a:solidFill>
            <a:srgbClr val="073779"/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prstGeom prst="pie">
            <a:avLst/>
          </a:pr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prstGeom prst="pie">
            <a:avLst/>
          </a:pr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2"/>
          <p:cNvGrpSpPr/>
          <p:nvPr/>
        </p:nvGrpSpPr>
        <p:grpSpPr>
          <a:xfrm>
            <a:off x="2741400" y="-1206360"/>
            <a:ext cx="4668840" cy="2958840"/>
            <a:chOff x="2741400" y="-1206360"/>
            <a:chExt cx="4668840" cy="295884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Group 30"/>
            <p:cNvGrpSpPr/>
            <p:nvPr/>
          </p:nvGrpSpPr>
          <p:grpSpPr>
            <a:xfrm>
              <a:off x="2741400" y="-932040"/>
              <a:ext cx="2014560" cy="1892880"/>
              <a:chOff x="2741400" y="-932040"/>
              <a:chExt cx="2014560" cy="189288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2200" y="-834120"/>
                <a:ext cx="1452600" cy="167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6960" y="317880"/>
                <a:ext cx="757080" cy="64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0360" y="15768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29"/>
            <p:cNvGrpSpPr/>
            <p:nvPr/>
          </p:nvGrpSpPr>
          <p:grpSpPr>
            <a:xfrm>
              <a:off x="3218400" y="-1206360"/>
              <a:ext cx="4191840" cy="2355840"/>
              <a:chOff x="3218400" y="-1206360"/>
              <a:chExt cx="4191840" cy="235584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9040" y="-776160"/>
                <a:ext cx="3197520" cy="1520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6120" y="12996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2320" y="-188280"/>
                <a:ext cx="1033560" cy="830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2360" y="-961560"/>
                <a:ext cx="1905120" cy="18669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4600"/>
              <a:ext cx="18252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prstGeom prst="pie">
            <a:avLst/>
          </a:pr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prstGeom prst="pie">
            <a:avLst/>
          </a:prstGeom>
          <a:solidFill>
            <a:srgbClr val="073779"/>
          </a:solidFill>
          <a:ln w="12708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prstGeom prst="pie">
            <a:avLst/>
          </a:prstGeom>
          <a:solidFill>
            <a:srgbClr val="073779"/>
          </a:solidFill>
          <a:ln w="6336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FDB5-01EB-484B-85D0-42677AAE8F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1CA0-D229-4CC5-8A8A-8B98E3A3F2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D366-CAF7-4477-BCCB-BB82D2E76E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B1A-EAC2-4D33-B17B-CE1D3A5978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Ecology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 rot="21060000">
            <a:off x="2550960" y="47048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ccelerated Biolog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Exponential Growth</a:t>
            </a:r>
            <a:endParaRPr b="0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"Although some species may be now increasing, more or less rapidly, in numbers, all cannot do so, for the world would not hold them."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~ Charles Darwi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On the Origin of Specie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Logistic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Rounded MT Bold"/>
              </a:rPr>
              <a:t>Logistic growth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– Population growth that accounts for limiting factors. Growth occurs until the carrying capacity is reached and then levels off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alled an S–shaped curv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Rounded MT Bold"/>
              </a:rPr>
              <a:t>Carrying Capacity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– (symbolized by K) K = the number of individuals the environment can support at one time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Logistic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240984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Picture 11" descr="Picture 12.png"/>
          <p:cNvPicPr/>
          <p:nvPr/>
        </p:nvPicPr>
        <p:blipFill>
          <a:blip r:embed="rId2"/>
          <a:stretch/>
        </p:blipFill>
        <p:spPr>
          <a:xfrm>
            <a:off x="2205000" y="2971800"/>
            <a:ext cx="473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Disturbances in Ecosystems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ll things interact freely in an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ecosyste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, making the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balance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fficult (yet important) to maintai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wo types of factors may change an ecosystem: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Density Dependent Factor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Density Independent Factor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Density Dependant Factors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712800" y="3011040"/>
            <a:ext cx="57643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ffects a population and DEPENDS on the size of the popula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ffects a large population differently than a small on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) competition, predation, herbivory, parasitism, disease, and stress from overcrowding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63" name="Picture 3" descr="Picture 15.png"/>
          <p:cNvPicPr/>
          <p:nvPr/>
        </p:nvPicPr>
        <p:blipFill>
          <a:blip r:embed="rId2"/>
          <a:stretch/>
        </p:blipFill>
        <p:spPr>
          <a:xfrm>
            <a:off x="6477120" y="2817720"/>
            <a:ext cx="26668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" descr="Picture 16.png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Density Independent Factors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ffects a population and does NOT DEPEND on  the size of the populati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ffects a small population the </a:t>
            </a: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sam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as a large on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) natural disasters such as hurricanes, drought, floods, wildfire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Picture 18.png"/>
          <p:cNvPicPr/>
          <p:nvPr/>
        </p:nvPicPr>
        <p:blipFill>
          <a:blip r:embed="rId2"/>
          <a:stretch/>
        </p:blipFill>
        <p:spPr>
          <a:xfrm>
            <a:off x="1690560" y="609480"/>
            <a:ext cx="5765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 Rounded MT Bold"/>
              </a:rPr>
              <a:t>Either humans must voluntary control their numbers, or nature will definitely control them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pulation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ur factors affect growth rate: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Birth rate (natality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Immigration – Individuals move into the population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Death rate (mortality)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migration – Individuals exit the population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pulation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ge structures can indicate future growth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oportion of people in different age groups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edict future population growth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pulation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 Rounded MT Bold"/>
              </a:rPr>
              <a:t>Exponential Growth</a:t>
            </a: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 – Population increases </a:t>
            </a:r>
            <a:r>
              <a:rPr b="1" lang="en-US" sz="2100" spc="-1" strike="noStrike">
                <a:solidFill>
                  <a:srgbClr val="ffffff"/>
                </a:solidFill>
                <a:latin typeface="Arial Rounded MT Bold"/>
              </a:rPr>
              <a:t>rapidly</a:t>
            </a: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 after only a few generations; birth and death remains constant; due to a lack of limiting factors</a:t>
            </a: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Called a J–shaped curve</a:t>
            </a: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 Rounded MT Bold"/>
              </a:rPr>
              <a:t>Limiting Factors</a:t>
            </a: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 – Factors that limit the growth of a population</a:t>
            </a: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lnSpc>
                <a:spcPct val="80000"/>
              </a:lnSpc>
              <a:spcAft>
                <a:spcPts val="1001"/>
              </a:spcAft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Rounded MT Bold"/>
              </a:rPr>
              <a:t>Ex) competition, predation, parasitism, disease, unusual weather, and natural disasters</a:t>
            </a: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Limiting Factors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38" name="Picture 4" descr="Picture 9.png"/>
          <p:cNvPicPr/>
          <p:nvPr/>
        </p:nvPicPr>
        <p:blipFill>
          <a:blip r:embed="rId2"/>
          <a:stretch/>
        </p:blipFill>
        <p:spPr>
          <a:xfrm>
            <a:off x="1927080" y="2971800"/>
            <a:ext cx="5289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xponential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0" name="Rectangle 4"/>
          <p:cNvSpPr/>
          <p:nvPr/>
        </p:nvSpPr>
        <p:spPr>
          <a:xfrm>
            <a:off x="240984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Picture 12" descr="Picture 10.png"/>
          <p:cNvPicPr/>
          <p:nvPr/>
        </p:nvPicPr>
        <p:blipFill>
          <a:blip r:embed="rId2"/>
          <a:stretch/>
        </p:blipFill>
        <p:spPr>
          <a:xfrm>
            <a:off x="4724280" y="2971800"/>
            <a:ext cx="4191120" cy="3657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3" descr="Picture 11.png"/>
          <p:cNvPicPr/>
          <p:nvPr/>
        </p:nvPicPr>
        <p:blipFill>
          <a:blip r:embed="rId3"/>
          <a:stretch/>
        </p:blipFill>
        <p:spPr>
          <a:xfrm>
            <a:off x="246240" y="2971800"/>
            <a:ext cx="4325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xponential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240984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Picture 6" descr="Screen shot 2012-05-16 at 12.00.30 PM.png"/>
          <p:cNvPicPr/>
          <p:nvPr/>
        </p:nvPicPr>
        <p:blipFill>
          <a:blip r:embed="rId2"/>
          <a:stretch/>
        </p:blipFill>
        <p:spPr>
          <a:xfrm>
            <a:off x="2136600" y="2933640"/>
            <a:ext cx="48736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Exponential Growth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7" name="Rectangle 4"/>
          <p:cNvSpPr/>
          <p:nvPr/>
        </p:nvSpPr>
        <p:spPr>
          <a:xfrm>
            <a:off x="2409840" y="2760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Picture 4" descr=""/>
          <p:cNvPicPr/>
          <p:nvPr/>
        </p:nvPicPr>
        <p:blipFill>
          <a:blip r:embed="rId2"/>
          <a:stretch/>
        </p:blipFill>
        <p:spPr>
          <a:xfrm>
            <a:off x="1865160" y="2720880"/>
            <a:ext cx="54104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712800" y="3011040"/>
            <a:ext cx="38592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In 1798 Thomas Malthus wrote 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 Rounded MT Bold"/>
              </a:rPr>
              <a:t>An Essay on the Principle of Population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Suggested that growing population rates would contribute to a rising supply of labor that would inevitably lower wages. Malthus feared that continued population growth would lend itself to poverty.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Rounded MT Bold"/>
              </a:rPr>
              <a:t>Malthus had a profound influence on Darwin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51" name="Picture 3" descr=""/>
          <p:cNvPicPr/>
          <p:nvPr/>
        </p:nvPicPr>
        <p:blipFill>
          <a:blip r:embed="rId5"/>
          <a:stretch/>
        </p:blipFill>
        <p:spPr>
          <a:xfrm>
            <a:off x="6527880" y="2362320"/>
            <a:ext cx="2311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7:51:20Z</dcterms:created>
  <dc:creator>Pariot</dc:creator>
  <dc:description/>
  <dc:language>en-US</dc:language>
  <cp:lastModifiedBy>Patriot</cp:lastModifiedBy>
  <dcterms:modified xsi:type="dcterms:W3CDTF">2012-05-22T15:13:23Z</dcterms:modified>
  <cp:revision>65</cp:revision>
  <dc:subject/>
  <dc:title>PowerPoint Presentation</dc:title>
</cp:coreProperties>
</file>