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C6F5-934B-479D-A267-6A84665B1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D51F-FB08-4E20-8DDB-C4E90D81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8036-0C30-483B-B03B-3ED4D435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59D-D6C5-4255-B609-35D930836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2F6E-6AA3-4669-9595-8B8D38A1E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CAC-85A7-4964-AA0F-346FCF8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69F-8505-43E7-978E-6669810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80B35-D209-4A1A-8FA1-B79C6912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EDCB-5F43-4D93-A54A-7FD65D4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039A9-F219-4D5F-87A1-B97D65FB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26924-DC75-48FB-8894-033340D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1A4B-5917-42A0-9A21-5FB89CE0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472E-34C7-48E1-9149-3BC0256A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C2CF5-6CC5-41B7-AEC6-24E156C8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DB3C-9E2A-4C60-B8E2-03992EE5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C6F7F-6702-46E8-B4A0-5A5AE79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6F3BB-FE0E-4A99-BB59-52340257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ADC-7995-4EAE-9EFD-372EAA2D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0B00C-B87D-4820-9A89-4D40EF5B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CB5B3-5300-4E97-81F7-BA82806B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D8783-C185-45A4-B1BB-310B125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B0A0-6FB6-405A-B595-DFC58C55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72A35-DC7B-4BEB-B27E-B19EFC9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ED773-4F19-423C-A017-E58D9E6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C6E2-5B18-4156-96F5-C015389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1419-C734-4DCB-893C-9B129D6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4A0D8-15EC-497F-8E3E-6B55E76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EC445-4C83-4DCF-A873-DBC85DF5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F4B-F8DF-4D26-9371-DD485CDB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48F7D-2076-4F42-B3A5-0B28B2FC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BCE9-CB54-4365-9363-D9204F36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C2A2-4997-4FF7-9CB1-C7BE36D8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E3E46-6CED-41F9-A2F0-668D51D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3C36-EB9B-401B-AC16-47CA66E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F3F6-9842-4C50-9C87-CB7E909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C1272-66E1-477E-ABF7-62A123F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C08F-6026-41EB-8B50-E8239A9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0A7E8-549A-47A7-BDFF-C5D7AA50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645F-DA7A-4E11-ABF0-EAA5305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B4FAC-EF7A-4BC0-AAE8-E67BB191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6F6F3-D79E-45EB-958D-6A9129A5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D2BA9-59D6-4832-B047-CAA19BD5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F639C-F4AC-4D18-BCA4-3D192D68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C617E-233B-4507-94B2-6EC1CF4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19719-11E3-469A-B14E-44FEFEEB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28B32-797C-4393-BCD7-E9E71F0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1D6AA-6E6A-4BF7-BB1D-8E93E7C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845E0-8370-43B3-B7B0-F305A5CE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A7D32-D7A0-4304-8395-0FD1E5F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8FE02-9A11-4F6A-ADEC-53F34F5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A2CE3-76B6-4F2B-B24C-ABD9FEF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C1AF0-8CA4-4F18-9AC9-469BA5A1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F803D-30F4-473E-9C54-EDE2AD24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E78C5-AFC4-4701-9370-341BD18E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B743-F4B4-4F05-8183-22D97F37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0E075-E6E5-4964-B0E0-5CE8B96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18342-C99E-4A54-91FC-2BF1A7B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8FBFD-DFC1-4AE7-ADD8-195E6186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B50F3-B678-4D42-B86E-113B9BF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5EBA2-D218-47E7-BAE1-1CA4113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51A9B-1BD0-4CF1-99AB-9C14E423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65E93-7BFE-49E1-B39E-2A662A7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883EC-A899-4B0B-A1E0-900E5C9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E7CAF-65BD-42ED-B2DF-63078F8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7D7D6-8D61-40C0-BDC0-8BB66DF3C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A2A17-5112-4DC3-A595-0ACECD2D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47AD9-336F-4EA0-8D6E-E584A034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000F2-B927-4249-8A08-703DBB53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94445-9572-4F20-9252-9D010787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A322-8FB0-48CF-AD0C-CA9A420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F617A-2B8D-4660-BC05-41E71E88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7DAA7-F985-4A54-9146-182FCF4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EB0AC-BCE9-4E0A-96A3-6152C65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07D88-3524-4472-AE47-7B293EC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F312F-68AE-4D05-8C67-81D7937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7DDEB-ECEF-48A8-8603-29E08264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D6A17-E91D-4148-B2BF-A7FC21D3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72D2-ED9F-45D1-A07D-58CA476C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A4D-9AD7-473B-B5EA-A509F50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5788-AFE8-4B66-9A25-43194030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3859-38A6-450F-9A23-1C36741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340-27C0-45DE-808A-E3D6C8B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705C-8FBE-4631-9B7A-52D68BF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760F-B746-4296-A654-415C401B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4DB-940D-408D-A922-3ED1AF6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2FFB-434C-459E-AF2F-D7DADD56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A97-912C-42F5-98D1-1FA3C39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8B28-5B05-434E-9356-224E649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4458-E951-417E-BD37-097C7D5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20DF-9F24-4066-B7BD-46747F69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426-21E2-49A4-BE63-335D1152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0145-D332-4DF6-B67D-089055B0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59C-A509-46AC-8E7C-68B7525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966-E9BB-4804-BA3C-25D88343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58E-9510-40AE-8714-A5B3B5EE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B9F4-B787-4822-BBBE-A28F3226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4270-0A0B-4510-BD0D-9E137F08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80BA-30F3-4E61-8D45-85AE092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4F9A2-268D-439A-B77C-B652FDD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7E80-A76E-4C2E-93DD-625758B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7297-F161-412B-9286-7EA8262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576F-6131-4D98-A853-0831EE8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A729-4EB8-439A-806E-1D9ED04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AA61-5605-42B3-A783-E4F6493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DE3-575F-4753-A9FD-04F7101D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4E98-9A75-469A-B6B4-F899ABF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94E5-AC38-426C-BD34-97D8145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7926-C956-4306-9615-59EA9DE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9E8E-8537-4113-A3EC-0826D8E0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1C912-2F25-487C-80F5-E9EAE87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821B-7312-4621-A417-B7DF7CF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297AC-65FE-472C-8A07-02195C9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BD7F-5C91-4DCD-810E-F61B0835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1682-C57E-4D2F-BA6E-0698DFB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AD43-D6AB-4446-B9EF-685F3E21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7C0-6DF6-411E-B846-F2232ED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BD7C-6390-49F3-B77F-B72760E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8A57-27F4-4866-858D-E68AFC2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63582-EA12-42EA-8E92-744B826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A08D5-11BE-4467-95CD-FE927E2B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0AE2-A0BF-4E5A-A52B-63C4E828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EE21-EDE6-4FB6-AED5-A0651E6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B6E6-429B-4B87-AE3E-BA6F15F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CBE9-8475-4578-9050-4CAE5CF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2EFA-3273-4D21-9065-C5A7F055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5A32-7940-405C-B4C3-FBD8BB4C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CBC-CF54-4F82-B2D3-431B0119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9FB7-8FFF-4EE3-9B20-6BB1D28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4D3D-3D37-477F-A943-8A5EE5B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73A0-0F28-4FA9-ADFC-C0E30169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BEFE0-E6F7-46A1-A759-87988659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00F01-14B4-4D6A-A614-1A05E5D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B91D4-1929-4C13-9600-188E8799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91DA-C734-44F2-8B57-6F27BD6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40B7-7995-4B40-8781-BE85A9D6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DD42-5E20-4AB0-B98A-E4B0FCE1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60B7-6E07-4FC5-BA73-F6336FE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E0D4-4360-49DC-8B94-34C00F7E8B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557-E097-468A-899B-8BFA98DFC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CC97-83EC-48AB-9AE3-5ACD77816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35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9638-A3C9-4ACA-BBEB-743D64528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BB09-C3D0-481E-B8A1-AEB45A905D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B56-234F-4DB5-8742-0596EC595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prstGeom prst="pie">
              <a:avLst/>
            </a:pr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prstGeom prst="pie">
              <a:avLst/>
            </a:pr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prstGeom prst="pie">
              <a:avLst/>
            </a:pr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prstGeom prst="pie">
              <a:avLst/>
            </a:pr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prstGeom prst="pie">
              <a:avLst/>
            </a:pr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prstGeom prst="pie">
              <a:avLst/>
            </a:prstGeom>
            <a:solidFill>
              <a:srgbClr val="073779"/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9E9-72EA-4D94-8909-566112E8C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prstGeom prst="pie">
            <a:avLst/>
          </a:pr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6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prstGeom prst="pie">
            <a:avLst/>
          </a:pr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prstGeom prst="pie">
            <a:avLst/>
          </a:pr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prstGeom prst="pie">
            <a:avLst/>
          </a:pr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prstGeom prst="pie">
            <a:avLst/>
          </a:prstGeom>
          <a:solidFill>
            <a:srgbClr val="073779"/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prstGeom prst="pie">
            <a:avLst/>
          </a:pr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prstGeom prst="pie">
            <a:avLst/>
          </a:pr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2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30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9040" y="-776160"/>
                <a:ext cx="3197520" cy="1520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prstGeom prst="pie">
            <a:avLst/>
          </a:pr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prstGeom prst="pie">
            <a:avLst/>
          </a:prstGeom>
          <a:solidFill>
            <a:srgbClr val="073779"/>
          </a:solidFill>
          <a:ln w="12708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prstGeom prst="pie">
            <a:avLst/>
          </a:prstGeom>
          <a:solidFill>
            <a:srgbClr val="073779"/>
          </a:solidFill>
          <a:ln w="6336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F5E-E43C-4658-8CE7-A0D2A1A11B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CFC4-2560-4327-A9E0-2A55E4711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7FF-FF67-4DC0-89CF-C3D8F3D58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4422-5E15-4CBD-AF0A-66F7D22265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cology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ccelerated Biolog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"Although some species may be now increasing, more or less rapidly, in numbers, all cannot do so, for the world would not hold them."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 Charles Darw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On the Origin of Speci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ogistic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Logistic growth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– Population growth that accounts for limiting factors. Growth occurs until the carrying capacity is reached and then levels off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lled an S–shaped curv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Carrying Capacity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– (symbolized by K) K = the number of individuals the environment can support at one tim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ogistic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11" descr="Picture 12.png"/>
          <p:cNvPicPr/>
          <p:nvPr/>
        </p:nvPicPr>
        <p:blipFill>
          <a:blip r:embed="rId2"/>
          <a:stretch/>
        </p:blipFill>
        <p:spPr>
          <a:xfrm>
            <a:off x="2205000" y="2971800"/>
            <a:ext cx="47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isturbances in Ecosystem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ll things interact freely in an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ecosyste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making the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alance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fficult (yet important) to maintai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wo types of factors may change an ecosystem: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Density Dependent Factor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Density Independent Factor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ensity Dependant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12800" y="3011040"/>
            <a:ext cx="57643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population and DEPENDS on the size of the popul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large population differently than a small o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) competition, predation, herbivory, parasitism, disease, and stress from overcrowding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63" name="Picture 3" descr="Picture 15.png"/>
          <p:cNvPicPr/>
          <p:nvPr/>
        </p:nvPicPr>
        <p:blipFill>
          <a:blip r:embed="rId2"/>
          <a:stretch/>
        </p:blipFill>
        <p:spPr>
          <a:xfrm>
            <a:off x="6477120" y="2817720"/>
            <a:ext cx="26668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Picture 16.png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ensity Independent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population and does NOT DEPEND on  the size of the popul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small populati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sam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s a large o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) natural disasters such as hurricanes, drought, floods, wildfir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Picture 18.png"/>
          <p:cNvPicPr/>
          <p:nvPr/>
        </p:nvPicPr>
        <p:blipFill>
          <a:blip r:embed="rId2"/>
          <a:stretch/>
        </p:blipFill>
        <p:spPr>
          <a:xfrm>
            <a:off x="1690560" y="609480"/>
            <a:ext cx="5765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Rounded MT Bold"/>
              </a:rPr>
              <a:t>Either humans must voluntary control their numbers, or nature will definitely control them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 factors affect growth rate: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rth rate (natality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mmigration – Individuals move into the population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eath rate (mortality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migration – Individuals exit the population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ge structures can indicate future growth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oportion of people in different age group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dict future population growth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 Rounded MT Bold"/>
              </a:rPr>
              <a:t>Exponential Growth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– Population increases </a:t>
            </a:r>
            <a:r>
              <a:rPr b="1" lang="en-US" sz="2100" spc="-1" strike="noStrike">
                <a:solidFill>
                  <a:srgbClr val="ffffff"/>
                </a:solidFill>
                <a:latin typeface="Arial Rounded MT Bold"/>
              </a:rPr>
              <a:t>rapidly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after only a few generations; birth and death remains constant; due to a lack of limiting factors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Called a J–shaped curve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 Rounded MT Bold"/>
              </a:rPr>
              <a:t>Limiting Factors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– Factors that limit the growth of a population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Ex) competition, predation, parasitism, disease, unusual weather, and natural disasters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imiting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8" name="Picture 4" descr="Picture 9.png"/>
          <p:cNvPicPr/>
          <p:nvPr/>
        </p:nvPicPr>
        <p:blipFill>
          <a:blip r:embed="rId2"/>
          <a:stretch/>
        </p:blipFill>
        <p:spPr>
          <a:xfrm>
            <a:off x="1927080" y="2971800"/>
            <a:ext cx="528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Picture 12" descr="Picture 10.png"/>
          <p:cNvPicPr/>
          <p:nvPr/>
        </p:nvPicPr>
        <p:blipFill>
          <a:blip r:embed="rId2"/>
          <a:stretch/>
        </p:blipFill>
        <p:spPr>
          <a:xfrm>
            <a:off x="4724280" y="297180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3" descr="Picture 11.png"/>
          <p:cNvPicPr/>
          <p:nvPr/>
        </p:nvPicPr>
        <p:blipFill>
          <a:blip r:embed="rId3"/>
          <a:stretch/>
        </p:blipFill>
        <p:spPr>
          <a:xfrm>
            <a:off x="246240" y="2971800"/>
            <a:ext cx="4325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6" descr="Screen shot 2012-05-16 at 12.00.30 PM.png"/>
          <p:cNvPicPr/>
          <p:nvPr/>
        </p:nvPicPr>
        <p:blipFill>
          <a:blip r:embed="rId2"/>
          <a:stretch/>
        </p:blipFill>
        <p:spPr>
          <a:xfrm>
            <a:off x="2136600" y="2933640"/>
            <a:ext cx="4873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2"/>
          <a:stretch/>
        </p:blipFill>
        <p:spPr>
          <a:xfrm>
            <a:off x="1865160" y="2720880"/>
            <a:ext cx="5410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12800" y="3011040"/>
            <a:ext cx="38592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In 1798 Thomas Malthus wrote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 Rounded MT Bold"/>
              </a:rPr>
              <a:t>An Essay on the Principle of Population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uggested that growing population rates would contribute to a rising supply of labor that would inevitably lower wages. Malthus feared that continued population growth would lend itself to poverty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Malthus had a profound influence on Darwin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5"/>
          <a:stretch/>
        </p:blipFill>
        <p:spPr>
          <a:xfrm>
            <a:off x="6527880" y="2362320"/>
            <a:ext cx="2311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7:51:20Z</dcterms:created>
  <dc:creator>Pariot</dc:creator>
  <dc:description/>
  <dc:language>en-US</dc:language>
  <cp:lastModifiedBy>Patriot</cp:lastModifiedBy>
  <dcterms:modified xsi:type="dcterms:W3CDTF">2012-05-22T15:13:23Z</dcterms:modified>
  <cp:revision>65</cp:revision>
  <dc:subject/>
  <dc:title>PowerPoint Presentation</dc:title>
</cp:coreProperties>
</file>