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png" ContentType="image/png"/>
  <Override PartName="/ppt/media/image26.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68852-155F-4565-AAD1-9230A2BBA0E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1CFB4-B6C0-4443-9302-00E71688A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126D9-CFC7-4571-A2F5-F18EA8857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58BC2-F392-4702-8526-30A86491B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BCFB2-8A38-47E9-91BF-2BCD7B15E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B05E0-941C-4138-A709-986F987DB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7A5C1D-FCD2-4EE2-AA8D-C7EE5B6FB1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49455F-384F-40BA-B86A-0E640084C6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E411EB-76B0-4F67-A39B-8F3145EBA6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7E6A37-9C8A-4CB6-9B51-DD8F5C55C8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847EAB-6FD7-434D-95E2-58CFA4A883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0E6FC0-74C3-485B-BBFD-2C3B0BEEC2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D6523B-B849-4531-AE1A-0D2D2EEA09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6A89F1-FFE3-44EA-9488-65C754A2E0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F507EA-000A-4173-B280-654FB05140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EE92A-77BC-4EDF-AB5E-B4BB2763C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EE284-D6BF-4427-8ABD-6BE86C280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311EA-E6E5-4917-B745-3BEB89D57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97687-85F0-4C1D-9168-3460D07FE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F3C36-A439-4022-9E0F-4B0B95CCF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E8B73-5101-4101-A2F1-EBDA84B7F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FB2A33-E001-42B4-8B70-2D72A875D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964C9-F569-440B-BE7D-27BC54E4C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52418-F123-4902-9865-3379EEF52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B2E80-CE10-4C24-8B4A-B18737D3D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9CCE3-C300-4BA2-BD6D-DB01E05C6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C4F99-4CD9-4F11-9AF2-55C3368C5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656F5-F3D0-456C-BA3A-5D9A71F11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507A5-F143-41BC-B52A-CD49F2071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CBE01-15D4-4F2D-9A1F-30C43B928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5DE8AE-1488-476E-982D-6A3234B9F1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C0C3A-9682-4C86-8C80-D09E8ABAB0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C9FB13-1918-43F9-9496-42871C926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E39292-D69E-45FB-A5D8-3E9FE3592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7E6A4F-F2EA-4D23-B65F-00316CAAEE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47F92-FAFB-42F0-B635-85588E762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DC00DB-49DC-47D2-9605-10DEDE85FB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D1BB8-FF36-4561-A2B6-F901A5457C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BF055C-A2B1-4AE9-B967-9BD81F115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80CAA-EBD2-4B9B-9513-506FF782E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EE344B-377C-40D1-88A3-A3C73CE6AB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2CA2D0-2087-42E4-9EDC-2CC049F557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D8E956-C0A7-4A6C-9EE7-E17E43DCBF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E27A3E-B48F-47CD-80F2-6140A43A5D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25CEE4-12CF-438B-8A79-20C6BCF76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0B48EB-D866-4708-A7CA-7FC298B265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D79FD-012D-4E2F-B94C-3B13CC3F1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4CEFB8-DC40-4747-B0BE-7970272D7E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0581CE-3CDB-4E2F-9B1D-26E5D03D2D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1C59F4-7F4F-46E7-8A3E-0EB2311EA6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411F9-3A17-428C-9D44-8FE4C4856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17671-D0BA-48B8-96EC-09AF293960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56FAD-3EFE-4B28-9B2D-2EB1965222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1E9DD2-51E6-467A-8C44-DD165E9BF8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31A482-1C93-446C-AF85-63DD86455F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1664F0-B6AA-4033-9794-2151BABC09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64C0FA-1678-461D-992A-FA5648753F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72CE6-CA5D-40BD-93A5-9996B52FF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DA81F6-0D21-47CB-B55B-21C41F5824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ECAFD7-6F86-4AAF-AA8E-7150794CCB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A8B2EA-A27C-4DCF-BFFB-86F73B6EB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78BA03-7BFF-4CCC-B746-3EA4E9C160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C406F6-0EA5-4044-8F04-A1782BCE71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D5766-860D-4485-8350-071984DD3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5B731-E3D1-43B1-B37B-D74C07A635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0F896D-86BE-410E-B196-5B3D60618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0AAB7A-6B72-4EDE-AB0C-AFA4EE2A8A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F523AA-A96B-401D-80D4-F23FD3F0FF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CC38E-559B-4B5A-A83B-67951C218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836ACC-C36F-4F28-B6D4-EDDF891C73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85660E-950D-49C7-B472-6167EA1967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9618FE-6EF3-4E83-820C-ED1E0DC26D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665448-4F08-4791-85F7-D5353353EF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095C26-5458-486C-A9FB-07F4669679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F2D2A0-F161-4CBC-B7EA-40D6A4F923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DA0E58-A0F7-4139-B970-09F1CD28A6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C495C-82FF-44F6-9862-097B9A0A67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B64A6-A1CA-4C90-8854-BF0F7F660E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AFDD09-3140-464C-8E3F-70D55BC859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419E2-6187-4F3D-BEB8-C6DD63D3B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5426B5-01D5-4020-BC58-8093A3D3A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752352-6FC8-479D-9902-4D607250DA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9967AE-9208-4045-9373-07B5E0CC1C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BDE69C-D262-4AC3-A870-48C1A8BB25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2A5C3A-9D26-4CF2-AB74-9BE56F0CF7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39B51D-00D3-4EAA-931C-FC4E2E3690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94E923-8655-43A3-9C1C-F64A0546FF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2FE149-A0A0-48C3-BDC0-828D269749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D9503B-75A8-461D-92FE-E67136DC76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398F2C-184E-4AEF-A496-D69361CB2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29573-71DE-4763-8F45-D91B079DA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6F45A3-2A12-45D1-B734-8086C6810C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173C35-EBD5-4B57-A77C-9C1440F5CD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15C15D-F8C3-4891-8B3B-D05758C9F2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11D61A-C2FE-44C9-8308-A44D93DB6B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E4A836-24C7-4A12-937A-556F8E2BDD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D94B31-A900-4AB9-91CD-A6EEA2E183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F50E38-5AB6-439B-813B-AB88922457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3C5087-8359-4154-88B4-5F7960FEAC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A23AC5-6761-41DB-968B-A48D3C4C11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D945A9-5EC6-4C41-9F51-CD48CE851D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B1A78-83CE-48A4-B757-4C8FA3836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1E3DE0-AEEE-4903-B75E-BFA32F10FD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2DAC9F-66A5-4182-A2F1-8CEA397408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1BBF95-5F9B-4E64-AE58-2BEF578C3A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41A58E-ABBE-423F-A8E3-D6620997B3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9D626E-CC0C-4656-9F72-7E4844D564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E1E571-39EB-4247-8C17-B425C2981F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B457EE-991D-4571-A942-FF2BBCED71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910758-1A13-489A-A8CD-9CD64DFEC2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193D3E-A3F2-4B18-AFEA-FD12DC7F7B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710381-E701-4C34-A195-581AF89EEF5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E3475-B2FB-4168-BF8E-4A57490043E9}"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F8046-7044-4385-AA9B-E87E870C9844}"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03CAE-01BF-4998-98AD-0827953AE23C}"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39FF1-957E-4771-A524-04ECF3C88EC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EF80B-D7C6-41A2-86DF-C2C48F39C149}"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84642-CCA2-4B1F-87FF-C4C772B1CBE2}"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E0C39-84B7-4DDF-9715-9933CB6608F6}"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04B41D-27D7-4AD9-8209-DD284278C101}"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72B66-86A8-4C72-AB2D-F6DFCFEC432B}"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71FF5-78BA-4C87-B9D4-51B58D74B20B}"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36BA6-2384-4B47-A360-329F54260C40}"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777AE-DF84-449B-80CE-5BFCC87DD66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D478F-FD75-4E6B-9CBC-4C260247B4B7}"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31FE4-C72D-48C4-AE5A-E66918441EF9}"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8ABDE-71DF-4767-83B1-E6E718F488B5}"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149A4-6D48-4921-902A-8AF49EB40E0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7E5ED-AF5B-4D7E-BD23-29E5EF6FC143}"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C0A28-9922-4F7E-8969-F5BD8ADB74B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hyperlink" Target="http://highered.mcgraw-hill.com/sites/0072495855/student_view0/chapter20/animation__positive_and_negative_feedback__quiz_1_.html" TargetMode="External"/><Relationship Id="rId4" Type="http://schemas.openxmlformats.org/officeDocument/2006/relationships/image" Target="../media/image23.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Title 1" descr=""/>
          <p:cNvPicPr/>
          <p:nvPr/>
        </p:nvPicPr>
        <p:blipFill>
          <a:blip r:embed="rId2"/>
          <a:stretch/>
        </p:blipFill>
        <p:spPr>
          <a:xfrm>
            <a:off x="378000" y="4846680"/>
            <a:ext cx="8467560" cy="1236600"/>
          </a:xfrm>
          <a:prstGeom prst="rect">
            <a:avLst/>
          </a:prstGeom>
          <a:ln w="0">
            <a:noFill/>
          </a:ln>
        </p:spPr>
      </p:pic>
      <p:sp>
        <p:nvSpPr>
          <p:cNvPr id="407"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Accelerated Biology</a:t>
            </a:r>
            <a:endParaRPr b="0" lang="en-US" sz="2400" spc="-1" strike="noStrike">
              <a:solidFill>
                <a:srgbClr val="4e3b30"/>
              </a:solidFill>
              <a:latin typeface="Franklin Gothic Book"/>
            </a:endParaRPr>
          </a:p>
        </p:txBody>
      </p:sp>
      <p:pic>
        <p:nvPicPr>
          <p:cNvPr id="408" name="Picture 3" descr="Screen shot 2012-02-16 at 7.22.27 PM.png"/>
          <p:cNvPicPr/>
          <p:nvPr/>
        </p:nvPicPr>
        <p:blipFill>
          <a:blip r:embed="rId3"/>
          <a:stretch/>
        </p:blipFill>
        <p:spPr>
          <a:xfrm>
            <a:off x="1251000" y="1353960"/>
            <a:ext cx="6629400" cy="255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Title 1" descr=""/>
          <p:cNvPicPr/>
          <p:nvPr/>
        </p:nvPicPr>
        <p:blipFill>
          <a:blip r:embed="rId2"/>
          <a:stretch/>
        </p:blipFill>
        <p:spPr>
          <a:xfrm>
            <a:off x="298440" y="450720"/>
            <a:ext cx="8699400" cy="1054080"/>
          </a:xfrm>
          <a:prstGeom prst="rect">
            <a:avLst/>
          </a:prstGeom>
          <a:ln w="0">
            <a:noFill/>
          </a:ln>
        </p:spPr>
      </p:pic>
      <p:sp>
        <p:nvSpPr>
          <p:cNvPr id="429" name=""/>
          <p:cNvSpPr txBox="1"/>
          <p:nvPr/>
        </p:nvSpPr>
        <p:spPr>
          <a:xfrm>
            <a:off x="304920" y="1554120"/>
            <a:ext cx="4357440" cy="4525920"/>
          </a:xfrm>
          <a:prstGeom prst="rect">
            <a:avLst/>
          </a:prstGeom>
          <a:noFill/>
          <a:ln w="0">
            <a:noFill/>
          </a:ln>
        </p:spPr>
        <p:txBody>
          <a:bodyPr anchor="t">
            <a:normAutofit fontScale="98000"/>
          </a:bodyPr>
          <a:p>
            <a:pPr marL="335880" indent="-3358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rea in the brain that coordinates the activities of the nervous and endocrine systems </a:t>
            </a:r>
            <a:endParaRPr b="0" lang="en-US" sz="2400" spc="-1" strike="noStrike">
              <a:solidFill>
                <a:srgbClr val="4e3b30"/>
              </a:solidFill>
              <a:latin typeface="Franklin Gothic Book"/>
            </a:endParaRPr>
          </a:p>
          <a:p>
            <a:pPr marL="335880" indent="-3358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t monitors your internal environment (temperature, blood pressure, HORMONE LEVELS!) and responds to these conditions by sending signals to the pituitary gland in the form of hormones</a:t>
            </a:r>
            <a:endParaRPr b="0" lang="en-US" sz="2400" spc="-1" strike="noStrike">
              <a:solidFill>
                <a:srgbClr val="4e3b30"/>
              </a:solidFill>
              <a:latin typeface="Franklin Gothic Book"/>
            </a:endParaRPr>
          </a:p>
          <a:p>
            <a:pPr lvl="1" marL="727920" indent="-280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lvl="1" marL="727920" indent="-280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30" name="Picture 3" descr=""/>
          <p:cNvPicPr/>
          <p:nvPr/>
        </p:nvPicPr>
        <p:blipFill>
          <a:blip r:embed="rId3"/>
          <a:stretch/>
        </p:blipFill>
        <p:spPr>
          <a:xfrm>
            <a:off x="4838760" y="1554120"/>
            <a:ext cx="4059000" cy="32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1" name="Title 1" descr=""/>
          <p:cNvPicPr/>
          <p:nvPr/>
        </p:nvPicPr>
        <p:blipFill>
          <a:blip r:embed="rId2"/>
          <a:stretch/>
        </p:blipFill>
        <p:spPr>
          <a:xfrm>
            <a:off x="298440" y="450720"/>
            <a:ext cx="8699400" cy="1054080"/>
          </a:xfrm>
          <a:prstGeom prst="rect">
            <a:avLst/>
          </a:prstGeom>
          <a:ln w="0">
            <a:noFill/>
          </a:ln>
        </p:spPr>
      </p:pic>
      <p:sp>
        <p:nvSpPr>
          <p:cNvPr id="432" name=""/>
          <p:cNvSpPr txBox="1"/>
          <p:nvPr/>
        </p:nvSpPr>
        <p:spPr>
          <a:xfrm>
            <a:off x="304920" y="1554120"/>
            <a:ext cx="435744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t is called the “master gland” in the body.</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t receives signals from the hypothalamus and then sends signals out to many other glands in the body to secrete hormones</a:t>
            </a:r>
            <a:endParaRPr b="0" lang="en-US" sz="2400" spc="-1" strike="noStrike">
              <a:solidFill>
                <a:srgbClr val="4e3b30"/>
              </a:solidFill>
              <a:latin typeface="Franklin Gothic Book"/>
            </a:endParaRPr>
          </a:p>
        </p:txBody>
      </p:sp>
      <p:pic>
        <p:nvPicPr>
          <p:cNvPr id="433" name="Picture 3" descr=""/>
          <p:cNvPicPr/>
          <p:nvPr/>
        </p:nvPicPr>
        <p:blipFill>
          <a:blip r:embed="rId3"/>
          <a:stretch/>
        </p:blipFill>
        <p:spPr>
          <a:xfrm>
            <a:off x="4838760" y="1554120"/>
            <a:ext cx="4059000" cy="32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4" name="Title 1" descr=""/>
          <p:cNvPicPr/>
          <p:nvPr/>
        </p:nvPicPr>
        <p:blipFill>
          <a:blip r:embed="rId2"/>
          <a:stretch/>
        </p:blipFill>
        <p:spPr>
          <a:xfrm>
            <a:off x="298440" y="450720"/>
            <a:ext cx="8699400" cy="1054080"/>
          </a:xfrm>
          <a:prstGeom prst="rect">
            <a:avLst/>
          </a:prstGeom>
          <a:ln w="0">
            <a:noFill/>
          </a:ln>
        </p:spPr>
      </p:pic>
      <p:sp>
        <p:nvSpPr>
          <p:cNvPr id="435" name=""/>
          <p:cNvSpPr txBox="1"/>
          <p:nvPr/>
        </p:nvSpPr>
        <p:spPr>
          <a:xfrm>
            <a:off x="304560" y="1554120"/>
            <a:ext cx="435276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obert Wadlow had a tumor in his pituitary gland that caused an excess of growth hormone to be released. He grew to a height of 8 ft 11 inches!</a:t>
            </a:r>
            <a:endParaRPr b="0" lang="en-US" sz="2400" spc="-1" strike="noStrike">
              <a:solidFill>
                <a:srgbClr val="4e3b30"/>
              </a:solidFill>
              <a:latin typeface="Franklin Gothic Book"/>
            </a:endParaRPr>
          </a:p>
        </p:txBody>
      </p:sp>
      <p:pic>
        <p:nvPicPr>
          <p:cNvPr id="436" name="Picture 3" descr=""/>
          <p:cNvPicPr/>
          <p:nvPr/>
        </p:nvPicPr>
        <p:blipFill>
          <a:blip r:embed="rId3"/>
          <a:stretch/>
        </p:blipFill>
        <p:spPr>
          <a:xfrm>
            <a:off x="5483160" y="1554120"/>
            <a:ext cx="2793960" cy="478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Title 1" descr=""/>
          <p:cNvPicPr/>
          <p:nvPr/>
        </p:nvPicPr>
        <p:blipFill>
          <a:blip r:embed="rId2"/>
          <a:stretch/>
        </p:blipFill>
        <p:spPr>
          <a:xfrm>
            <a:off x="298440" y="450720"/>
            <a:ext cx="8699400" cy="1054080"/>
          </a:xfrm>
          <a:prstGeom prst="rect">
            <a:avLst/>
          </a:prstGeom>
          <a:ln w="0">
            <a:noFill/>
          </a:ln>
        </p:spPr>
      </p:pic>
      <p:sp>
        <p:nvSpPr>
          <p:cNvPr id="438" name=""/>
          <p:cNvSpPr txBox="1"/>
          <p:nvPr/>
        </p:nvSpPr>
        <p:spPr>
          <a:xfrm>
            <a:off x="304560" y="1554120"/>
            <a:ext cx="4352760" cy="4525920"/>
          </a:xfrm>
          <a:prstGeom prst="rect">
            <a:avLst/>
          </a:prstGeom>
          <a:noFill/>
          <a:ln w="0">
            <a:noFill/>
          </a:ln>
        </p:spPr>
        <p:txBody>
          <a:bodyPr anchor="t">
            <a:normAutofit fontScale="94000"/>
          </a:bodyPr>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nie Jones toured with P.T. Barnum’s circus since she was a young child.</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f a women secretes excess males sex hormones, she can develop secondary male sex characteristics, such as a beard. This is a symptom of a serious medical condition, such as adrenal tumor</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st of the “bearded ladies” at freak shows were fakes</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39" name="Picture 4" descr=""/>
          <p:cNvPicPr/>
          <p:nvPr/>
        </p:nvPicPr>
        <p:blipFill>
          <a:blip r:embed="rId3"/>
          <a:stretch/>
        </p:blipFill>
        <p:spPr>
          <a:xfrm>
            <a:off x="5740560" y="1876320"/>
            <a:ext cx="2793960" cy="42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Title 1" descr=""/>
          <p:cNvPicPr/>
          <p:nvPr/>
        </p:nvPicPr>
        <p:blipFill>
          <a:blip r:embed="rId2"/>
          <a:stretch/>
        </p:blipFill>
        <p:spPr>
          <a:xfrm>
            <a:off x="298440" y="450720"/>
            <a:ext cx="8699400" cy="1054080"/>
          </a:xfrm>
          <a:prstGeom prst="rect">
            <a:avLst/>
          </a:prstGeom>
          <a:ln w="0">
            <a:noFill/>
          </a:ln>
        </p:spPr>
      </p:pic>
      <p:sp>
        <p:nvSpPr>
          <p:cNvPr id="410" name=""/>
          <p:cNvSpPr txBox="1"/>
          <p:nvPr/>
        </p:nvSpPr>
        <p:spPr>
          <a:xfrm>
            <a:off x="304560" y="1554120"/>
            <a:ext cx="4367160" cy="4525920"/>
          </a:xfrm>
          <a:prstGeom prst="rect">
            <a:avLst/>
          </a:prstGeom>
          <a:noFill/>
          <a:ln w="0">
            <a:noFill/>
          </a:ln>
        </p:spPr>
        <p:txBody>
          <a:bodyPr anchor="t">
            <a:normAutofit fontScale="87000"/>
          </a:bodyPr>
          <a:p>
            <a:pPr marL="298440" indent="-2984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ts name is derived from the Greek words</a:t>
            </a:r>
            <a:endParaRPr b="0" lang="en-US" sz="2400" spc="-1" strike="noStrike">
              <a:solidFill>
                <a:srgbClr val="4e3b30"/>
              </a:solidFill>
              <a:latin typeface="Franklin Gothic Book"/>
            </a:endParaRPr>
          </a:p>
          <a:p>
            <a:pPr lvl="1" marL="646200" indent="-248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ndo” = inside or within</a:t>
            </a:r>
            <a:endParaRPr b="0" lang="en-US" sz="2400" spc="-1" strike="noStrike">
              <a:solidFill>
                <a:srgbClr val="4e3b30"/>
              </a:solidFill>
              <a:latin typeface="Franklin Gothic Book"/>
            </a:endParaRPr>
          </a:p>
          <a:p>
            <a:pPr lvl="1" marL="646200" indent="-248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rinis” = to secrete</a:t>
            </a:r>
            <a:endParaRPr b="0" lang="en-US" sz="2400" spc="-1" strike="noStrike">
              <a:solidFill>
                <a:srgbClr val="4e3b30"/>
              </a:solidFill>
              <a:latin typeface="Franklin Gothic Book"/>
            </a:endParaRPr>
          </a:p>
          <a:p>
            <a:pPr marL="298440" indent="-2984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sists of many glands that secrete hormones into the blood stream.</a:t>
            </a:r>
            <a:endParaRPr b="0" lang="en-US" sz="2400" spc="-1" strike="noStrike">
              <a:solidFill>
                <a:srgbClr val="4e3b30"/>
              </a:solidFill>
              <a:latin typeface="Franklin Gothic Book"/>
            </a:endParaRPr>
          </a:p>
          <a:p>
            <a:pPr marL="298440" indent="-2984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 this unit, we will focus on the hypothalamus, pituitary gland, ovaries, and testes.</a:t>
            </a:r>
            <a:endParaRPr b="0" lang="en-US" sz="2400" spc="-1" strike="noStrike">
              <a:solidFill>
                <a:srgbClr val="4e3b30"/>
              </a:solidFill>
              <a:latin typeface="Franklin Gothic Book"/>
            </a:endParaRPr>
          </a:p>
          <a:p>
            <a:pPr marL="298440" indent="-2984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You will learn about other endocrine glands in later units.</a:t>
            </a:r>
            <a:endParaRPr b="0" lang="en-US" sz="2400" spc="-1" strike="noStrike">
              <a:solidFill>
                <a:srgbClr val="4e3b30"/>
              </a:solidFill>
              <a:latin typeface="Franklin Gothic Book"/>
            </a:endParaRPr>
          </a:p>
        </p:txBody>
      </p:sp>
      <p:pic>
        <p:nvPicPr>
          <p:cNvPr id="411" name="Picture 3" descr=""/>
          <p:cNvPicPr/>
          <p:nvPr/>
        </p:nvPicPr>
        <p:blipFill>
          <a:blip r:embed="rId3"/>
          <a:stretch/>
        </p:blipFill>
        <p:spPr>
          <a:xfrm>
            <a:off x="5021280" y="1542960"/>
            <a:ext cx="3722760" cy="483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Title 1" descr=""/>
          <p:cNvPicPr/>
          <p:nvPr/>
        </p:nvPicPr>
        <p:blipFill>
          <a:blip r:embed="rId2"/>
          <a:stretch/>
        </p:blipFill>
        <p:spPr>
          <a:xfrm>
            <a:off x="298440" y="450720"/>
            <a:ext cx="8699400" cy="105408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ormones – Substances secreted by cells that act to regulate the activity of other cells in the body.</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y act as chemical messengers</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unctions include:</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egulate growth and developmen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ordinate production, use and storage of energy</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intain homeostasis (temperature, metabolism, etc.)</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espond to stimuli</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4" name="Title 1" descr=""/>
          <p:cNvPicPr/>
          <p:nvPr/>
        </p:nvPicPr>
        <p:blipFill>
          <a:blip r:embed="rId2"/>
          <a:stretch/>
        </p:blipFill>
        <p:spPr>
          <a:xfrm>
            <a:off x="298440" y="450720"/>
            <a:ext cx="8699400" cy="1054080"/>
          </a:xfrm>
          <a:prstGeom prst="rect">
            <a:avLst/>
          </a:prstGeom>
          <a:ln w="0">
            <a:noFill/>
          </a:ln>
        </p:spPr>
      </p:pic>
      <p:sp>
        <p:nvSpPr>
          <p:cNvPr id="415" name=""/>
          <p:cNvSpPr txBox="1"/>
          <p:nvPr/>
        </p:nvSpPr>
        <p:spPr>
          <a:xfrm>
            <a:off x="304560" y="1554120"/>
            <a:ext cx="435276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When you are in a “fight or flight” situation, your adrenal glands release the hormone epinephrine (formally called adrenaline). This prepares the body for stressful situations by increasing heart rate, blood pressure, blood glucose level, and blood flow to the heart and lungs.</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16" name="Picture 3" descr=""/>
          <p:cNvPicPr/>
          <p:nvPr/>
        </p:nvPicPr>
        <p:blipFill>
          <a:blip r:embed="rId3"/>
          <a:stretch/>
        </p:blipFill>
        <p:spPr>
          <a:xfrm>
            <a:off x="4962600" y="3311640"/>
            <a:ext cx="3828960" cy="31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Title 1" descr=""/>
          <p:cNvPicPr/>
          <p:nvPr/>
        </p:nvPicPr>
        <p:blipFill>
          <a:blip r:embed="rId2"/>
          <a:stretch/>
        </p:blipFill>
        <p:spPr>
          <a:xfrm>
            <a:off x="298440" y="450720"/>
            <a:ext cx="8699400" cy="105408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egative feedback – A change in one direction stimulates a counteraction in the other direction.</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igh levels of a hormone, inhibit the production of more hormone</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ow levels of the hormone stimulate the production of more hormone</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st hormone release is regulated through negative feedback.</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Positive feedback – HIGH levels of a hormone stimulate the output of even MORE hormone</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9" name="Title 1" descr=""/>
          <p:cNvPicPr/>
          <p:nvPr/>
        </p:nvPicPr>
        <p:blipFill>
          <a:blip r:embed="rId2"/>
          <a:stretch/>
        </p:blipFill>
        <p:spPr>
          <a:xfrm>
            <a:off x="298440" y="450720"/>
            <a:ext cx="8699400" cy="1054080"/>
          </a:xfrm>
          <a:prstGeom prst="rect">
            <a:avLst/>
          </a:prstGeom>
          <a:ln w="0">
            <a:noFill/>
          </a:ln>
        </p:spPr>
      </p:pic>
      <p:sp>
        <p:nvSpPr>
          <p:cNvPr id="42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When driving a car, you notice you are going too fast, so you take your foot of the gas pedal.</a:t>
            </a:r>
            <a:endParaRPr b="0" lang="en-US" sz="2400" spc="-1" strike="noStrike">
              <a:solidFill>
                <a:srgbClr val="4e3b3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e3b30"/>
                </a:solidFill>
                <a:latin typeface="Franklin Gothic Book"/>
              </a:rPr>
              <a:t>OR</a:t>
            </a:r>
            <a:endParaRPr b="0" lang="en-US" sz="5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You notice you are going too slow, so you press down on the gas pedal.</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an you think of another analogy?</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Title 1" descr=""/>
          <p:cNvPicPr/>
          <p:nvPr/>
        </p:nvPicPr>
        <p:blipFill>
          <a:blip r:embed="rId2"/>
          <a:stretch/>
        </p:blipFill>
        <p:spPr>
          <a:xfrm>
            <a:off x="298440" y="450720"/>
            <a:ext cx="8693280" cy="1054080"/>
          </a:xfrm>
          <a:prstGeom prst="rect">
            <a:avLst/>
          </a:prstGeom>
          <a:ln w="0">
            <a:noFill/>
          </a:ln>
        </p:spPr>
      </p:pic>
      <p:pic>
        <p:nvPicPr>
          <p:cNvPr id="422" name="Picture 2" descr=""/>
          <p:cNvPicPr/>
          <p:nvPr/>
        </p:nvPicPr>
        <p:blipFill>
          <a:blip r:embed="rId3"/>
          <a:stretch/>
        </p:blipFill>
        <p:spPr>
          <a:xfrm>
            <a:off x="0" y="1635120"/>
            <a:ext cx="9144000" cy="445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3" name="Title 1" descr=""/>
          <p:cNvPicPr/>
          <p:nvPr/>
        </p:nvPicPr>
        <p:blipFill>
          <a:blip r:embed="rId2"/>
          <a:stretch/>
        </p:blipFill>
        <p:spPr>
          <a:xfrm>
            <a:off x="298440" y="450720"/>
            <a:ext cx="8693280" cy="1054080"/>
          </a:xfrm>
          <a:prstGeom prst="rect">
            <a:avLst/>
          </a:prstGeom>
          <a:ln w="0">
            <a:noFill/>
          </a:ln>
        </p:spPr>
      </p:pic>
      <p:pic>
        <p:nvPicPr>
          <p:cNvPr id="424" name="Picture 2" descr=""/>
          <p:cNvPicPr/>
          <p:nvPr/>
        </p:nvPicPr>
        <p:blipFill>
          <a:blip r:embed="rId3"/>
          <a:stretch/>
        </p:blipFill>
        <p:spPr>
          <a:xfrm>
            <a:off x="0" y="1495440"/>
            <a:ext cx="9148680" cy="464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Title 1" descr=""/>
          <p:cNvPicPr/>
          <p:nvPr/>
        </p:nvPicPr>
        <p:blipFill>
          <a:blip r:embed="rId2"/>
          <a:stretch/>
        </p:blipFill>
        <p:spPr>
          <a:xfrm>
            <a:off x="298440" y="450720"/>
            <a:ext cx="8699400" cy="1054080"/>
          </a:xfrm>
          <a:prstGeom prst="rect">
            <a:avLst/>
          </a:prstGeom>
          <a:ln w="0">
            <a:noFill/>
          </a:ln>
        </p:spPr>
      </p:pic>
      <p:sp>
        <p:nvSpPr>
          <p:cNvPr id="42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3"/>
              </a:rPr>
              <a:t>Positve and Negative Feedback –McGraw Hill Animation</a:t>
            </a:r>
            <a:endParaRPr b="0" lang="en-US" sz="2400" spc="-1" strike="noStrike">
              <a:solidFill>
                <a:srgbClr val="4e3b30"/>
              </a:solidFill>
              <a:latin typeface="Franklin Gothic Book"/>
            </a:endParaRPr>
          </a:p>
        </p:txBody>
      </p:sp>
      <p:pic>
        <p:nvPicPr>
          <p:cNvPr id="427" name="Picture 3" descr="Screen shot 2012-02-15 at 2.47.41 PM.png"/>
          <p:cNvPicPr/>
          <p:nvPr/>
        </p:nvPicPr>
        <p:blipFill>
          <a:blip r:embed="rId4"/>
          <a:stretch/>
        </p:blipFill>
        <p:spPr>
          <a:xfrm>
            <a:off x="2131920" y="2224080"/>
            <a:ext cx="4880160" cy="420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9:17:13Z</dcterms:created>
  <dc:creator>Patriot</dc:creator>
  <dc:description/>
  <dc:language>en-US</dc:language>
  <cp:lastModifiedBy>Patriot</cp:lastModifiedBy>
  <dcterms:modified xsi:type="dcterms:W3CDTF">2012-02-17T16:50:39Z</dcterms:modified>
  <cp:revision>31</cp:revision>
  <dc:subject/>
  <dc:title>The Female Menstrual Cycle</dc:title>
</cp:coreProperties>
</file>