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946-60FE-48E7-B2AE-8CDCE69A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C10-F561-43D1-A639-6094FF3D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3FCB8-E88B-4584-9203-D7AD4626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A7AF0-7791-4468-8B96-B2F5CC9A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D5C0C-0813-4DF9-9470-854545DA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178AB-9EDD-4C0E-AD93-ED343D78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7DA04-864F-46E8-ACBE-6539631F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FDAA3-5E98-482B-A162-1533F57A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375D7-E93E-4503-A378-7EA3FDFD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04594-FE36-48E7-94A7-7CBF1183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40A67-71CE-4531-A03C-E06D8B66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77447-CF92-446A-8CE5-7ED4F7F3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3E8-9D70-4F63-85F8-16F23892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A7871-F383-4C0A-8B66-D38EC8A3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74931-C517-4680-9AC2-3F324816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5577D-5B28-44BC-9727-1EE1B94C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CAEAE-EE96-418C-A092-9DF946E8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5A557-FF0A-47E5-8EFA-E95983FC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37ECA-9074-45BB-B039-F55ED86F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A5BEC-D3D0-40F0-87AE-8DB098D8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EC728-BB62-47EA-9538-E630EDA6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38809-1FA5-4BBB-A69B-440D8B41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7462F-5F9C-4472-A395-59D8972A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BA6-A8C8-40E0-AE2B-7E705C83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FA2AB-37F8-4713-88D7-998D9B93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CD5AB-0D3C-42DD-ADE9-DB539F92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923F0-EA63-4A07-A810-7CF1B1EB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D2795-F151-42A7-9173-0731B746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3D9A4-274D-4A27-A51F-BC812BE2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DD7E2-BED3-4966-BF4D-9A2B61A1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23840-49D0-43B0-BF27-975521E4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C7991-AA72-4F20-B271-B11D2D42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2CB54-3FE1-4B41-8C6D-28F34AEE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A4425-3734-4625-A6BF-A8CFCFA8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C9F6-50A4-4142-B345-7ECAC40E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391A1-730D-46A0-B72C-C166601F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C6E30-BB86-42EA-95BA-372F64E8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3EC42-AEF3-42F1-9526-A368834E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11B36-9B19-4A13-84E8-04934EE9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AD98A-09C0-4444-BE04-01B18242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F602B-847D-4B4B-A5BC-5F369AE6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9D40C-7F33-4BB4-8AE1-68142A6B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8B223-2E5C-4547-9736-D3106145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34414-A859-4360-8B1C-FEF0ECA2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C3E72-6FE5-44EE-9AD4-C14E2EBB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2E98-BA08-4617-9FDB-E2E7AE4F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96237-4195-46BF-88DF-C2F342DE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FCCFA-40E6-45D3-82C2-85DCFF1E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5B68C-2F03-44D0-B54B-41BA1E73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3A47E-4EAF-4E4B-8D31-BE8FCF23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75174-AE8B-490F-ADCC-1B42825E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21DD17-FE6E-4B34-A42A-1C9D699D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C64DE-C0A1-4F8F-9315-48EE5522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DD46B9-DF4E-47D6-928B-DA623D56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8F130-1C50-4E56-A8F3-E037E716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965D71-4807-4EE1-9F07-A9462684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A845-6A15-4DDB-8590-99BCBB03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900727-8CA4-47A2-B498-106FA26D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1E4A1-0C59-41BD-B592-21CE97E2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F1695-4DFF-4CC1-9BC9-0BE73B60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29BBA-A353-474C-857C-BBE2B131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66FC46-244F-4DEE-AAE5-8AD71BF9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6D3162-A2B8-4263-9E19-E247B18F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EFFE86-CE00-4B2F-909A-89803084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BF778-C5BF-4760-8CBB-8AB51D11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E611F-2E65-4B42-A352-AF2D9CA1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841CCD-64E3-44A8-81E6-872EADC5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0AA9-071C-45BA-80DB-8719F7A2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385F52-A51E-4B8B-A670-635291EB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23831C-9D17-4CDF-A4FF-B1E8D3D3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5CD7A1-8EC0-48B0-8644-FA989843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F540F2-0BAD-4050-B30D-ECE4EED0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C3402-B4DF-45FC-B630-60E5DC54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A092FB-AC11-48B0-82FA-4E9C0ED3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0E7192-B97A-4095-AF71-7FB39F2E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B84B3-7860-43DB-9C0C-636C0184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548B92-9FF9-4148-886C-F29AB294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41861A-BE92-4783-89E8-BF89C078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0303-6B9B-49C1-8F4C-D3F44E97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B68CBA-83E3-4BDF-9992-A00BB55C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976110-D8FC-4494-BD72-781F4812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9F6F64-8695-4F5E-AF45-F2BAA179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7031CA-8CC8-4057-B827-A39C7EA6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7C527F-F489-4E35-848E-C57285EC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AFD97E-9E57-4D61-964F-7B3A36AE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46D74E-D8B6-4189-BE7E-07AE551A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4C51AB-C807-42A3-BB21-29676D50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CC6C35-6728-449C-9864-76CEBAF6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8DAC8A-A5AE-4AF2-BE3E-EEA19C06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BBE9-2A2A-4550-B816-7EFD9C33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45898A-05BA-4C49-A24D-105AFF26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915163-8404-4B82-8739-3F57E903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E894A8-F553-4C24-BEC9-F48DE1D6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26BB7F-E60B-452E-B1F6-A7D5422A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3AAF71-9ED3-472B-BFCE-4C8F3AE8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BFB997-E253-498B-8A7A-F2F84EA1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B6660A-A2B7-423D-B603-458234FC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566B92-FEB3-49C7-9E9D-9804F47E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3C00BA-C1E5-4F17-8443-879F8DAE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9E9983-5A47-430D-98A6-C8836005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061F-398E-4EC1-8D2F-C9DCF561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46FBC4-ACBA-419E-826B-630A5E10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FF411C-6493-476C-B6A6-67EE965F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46C8AA-F3E3-4058-BFE5-2D6EE7C3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66BE09-4C5C-4F7C-B15A-92DF2869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17D255-D28D-4AB1-9847-D97C9FE8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F13745-90F1-4F4C-AC38-382D68D9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C0614C-6E54-4695-B2BD-3C9559EA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9961E7-4393-447A-99DE-C4E19C76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BD354B-F0C0-48BC-9E53-EC64390E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04EE37-0778-4D85-9391-0DBB56D2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2D0-E261-4935-95A4-807660D7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5186-53B8-43DD-9428-76CAA806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D9544A-EF56-4D55-BD78-936B4D80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FB5448-B994-4E29-843E-2C414078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449AAA-32A6-4334-BC93-E288D780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CB4933-7046-44C1-B24A-2CFC56DE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ED2174-241A-4C54-93A9-135BFE1D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78E7-4751-4ECB-BCDD-C82A171C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D535-2C59-4A10-BB0B-7C3677B4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833E-9EAC-4EE8-A9E6-EE4C6342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295F-895A-416B-A621-DF29A277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4601C-1AE9-4A52-B6B7-79492AFE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E266D-7AC4-49CF-A2EE-1337B5FE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28812-DF92-435E-9BEA-752D4467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7FFA1-E7D9-4E4D-A41C-2D6E0D44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619FB-7DD8-4F14-B72B-84636295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2E2-B8B8-40CE-A332-4C0D509C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849C3-A827-4A95-86A7-C6A4DD26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552F5-8799-41C1-9B7C-A5874844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EEE4E-21ED-42CB-ACC5-41ECAD1C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B3DB1-EDB9-4BBB-B0DC-1F6E8905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A5D63-655A-4906-8120-A3CA1E57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447D7-8156-4DCB-9B74-AF3DA19B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1934A-7D3C-4FB0-8855-56DB9C28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7B8E5-4B2A-4BF7-A814-08B85152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3BC8A-815E-4802-AA1B-863DE3FA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64C35-94EC-4C1A-92DB-2E1E81D2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3ED-152A-4786-A213-3DD6B975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04653-C060-4EC4-858B-20C6A1A0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B7D23-6426-44E9-92B3-F9306130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D946C-ABF5-47F5-9EDA-94B0DD0F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39F31-12A4-42B2-9BBC-640CFA3E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F0ED1-094F-40CE-B9EC-3B99297B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26DAF-E480-4CD1-8004-26158C21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796BA-5FBD-4176-AFB0-152E163C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EE006-361A-48AE-9C49-AADDB6D1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5B737-6F0E-47E8-A60C-20F15F03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A403D-6C88-4C34-91E9-266A65CE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F91-5BE3-417F-82B1-AC2DCFAE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5B3A5-EC4B-4EC0-8D33-1028FAF6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17C9F-5E2F-463B-9AD4-0595BDE3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10D66-4589-4394-909E-D7BF87C7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75D2E-D749-471F-BB85-E3C71E05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A66C4-94A3-49F2-8596-7ECC0669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646E0-6CB9-4A77-AFF9-560B52D4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CF945-B5C2-4D87-8653-B0E7F152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5CC73-7573-44AB-9339-3D727EE3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6E0D0-8B27-493F-A11F-64863526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F927A-4CDE-404B-9F3B-ABE39F5D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E68-FB73-4212-BFF5-116D1874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B49AC-6957-4C4B-8063-DF64800B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3B275-547D-45E7-965E-CD9E5BF2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A7BBE-80D1-4A03-99F8-4A960363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C8814-D620-4C78-9A05-6D8AA065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2EA96-8D02-453C-AEBF-090CE324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80896-CA3A-497B-810B-854B0A9F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078F9-19CD-4251-884E-02912302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54858-86C0-40E3-90A9-0EC65DFF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0C6D9-D69D-48FF-AFA6-AB18BB01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79470-5563-4A63-AED0-0DE32B56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26B9-2BC1-413B-87EB-8324CFA1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750A2-083B-4900-A13D-668EC350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1F0A6-2DF9-468D-B6F2-E8C74CEE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1B30F-D713-4DFF-9D7A-5C352256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0AEB8-B61D-41D8-B2AF-6E3056C2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D4E93-8823-4704-8A1F-6F021FB3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48A26-812B-434B-A502-2732A981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9690F-3F93-436F-92CE-D19E0AFC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528A4-6051-4F30-B1F0-43E59DC6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7AF23-7406-4040-B7CA-74319929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D0DE9-366B-40F7-AD87-21DEB0E4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0B0-20ED-4CFC-8BC8-72D50469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61043-DD40-463E-8047-6FEEDB34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51C4A-A3CB-4822-85A9-89A91499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95BE0-3A44-4E5B-944C-ECEA236E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73D2A-FD23-4156-8684-FE097092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BF920-4763-4803-A806-3C7598D4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6BBEA-D608-413E-B532-EB704431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631CB-D2C2-40FB-8463-01D357A3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64343-6CDF-49AC-9674-A2091A8E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B8F25-C148-4521-A380-7A0F1EE3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103BA-65C4-458D-9161-575B0B52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60D-F061-40BE-A407-B696101A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64944-A302-4B50-8771-085611E5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5A963-0FCE-42F5-90AD-53612A88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B729E-7CB7-41BF-948B-508336A9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61E30-364F-4271-BF37-F51A0B7A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EFAE7-EF1C-40D0-A93C-70587FB3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72ABE-6B66-4E1C-A6A7-1AA05C0D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4E09D-326B-448A-91FC-FF47B7AE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609C4-A410-4B06-AC79-C98DD1A9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FE12F-7FFC-4151-BC6A-AAAA7D88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179BA-000E-417E-844C-80FC5CDD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9B5A3-1311-47B4-A056-02962CEEBCC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BE71A-2891-4544-B525-D87CCA3D32CA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59984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960" y="452520"/>
              <a:ext cx="274284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360" y="452520"/>
              <a:ext cx="423360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EBD2A-898B-421B-A790-CE50A896A24A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7075B-92D5-4F70-9D84-433F829CC810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59984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960" y="452520"/>
              <a:ext cx="274284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360" y="452520"/>
              <a:ext cx="423360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62733-8BB6-43D4-8F15-FD38E02A6F8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7D60D-77F6-499E-BC54-339D79C99E82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6160" y="6262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360" y="6262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4C1EA-B264-4A34-B704-029D0A26B1E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DF51D-A14D-4069-95B2-77799FB82B7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284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6160" y="4280040"/>
              <a:ext cx="159984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360" y="4280040"/>
              <a:ext cx="423360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818D5-86A6-4974-84CF-EA3B740C8247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7FE8B-D0D6-4E35-9D8B-F686741C38C8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284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6160" y="461880"/>
              <a:ext cx="159984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360" y="461880"/>
              <a:ext cx="423360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06863-5E01-4F3C-ACC7-B8C4BD346DE6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25D78-6FC1-4BCA-8515-3876C78EB633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6160" y="6262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360" y="6262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6CB5B-6C5D-46C8-A839-DCBE919EDB1A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1A1C6-2ECB-4D81-93A7-6D4BC905165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59984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960" y="1577880"/>
              <a:ext cx="274284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360" y="1577880"/>
              <a:ext cx="423360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15B19-0FC8-4DFF-BED3-F0ACD71428C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A983D-6DA6-4D5A-8DE3-33A42EC4F9D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1840" y="941400"/>
              <a:ext cx="11070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560" y="2444760"/>
              <a:ext cx="189792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0680" y="4857480"/>
              <a:ext cx="292932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D510C-A164-42E4-94E3-21900A5CEC7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0230B-EA72-4840-8FE0-4277112A0196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6160" y="1906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360" y="1906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DB655-CD50-40FD-9FC5-FD312A8C7134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DDC425-5EFF-4808-A401-35DD59A3A91B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59984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960" y="1577880"/>
              <a:ext cx="274284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360" y="1577880"/>
              <a:ext cx="423360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CC99E-BF46-47DB-995E-7773478366E3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7BBEC-CC0D-4D89-9F15-8B84848E3CE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6160" y="1906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360" y="1906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22AF7-A8F5-4456-A02F-BABBB3ED14CC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11D99-244B-4DCC-B550-45117E0B498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8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6160" y="6262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360" y="6262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D92EA2-ED3E-4ACD-95F4-A0A50845046B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0CFE2-CAAD-4412-82C3-386A1CC8653F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284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6160" y="6262560"/>
              <a:ext cx="159984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360" y="6262560"/>
              <a:ext cx="423360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06E93-3DF0-491E-8449-BBAE152D67B4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EFE5B-20AC-4B50-A7EF-997ADD28BDC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59984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960" y="1577880"/>
              <a:ext cx="274284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360" y="1577880"/>
              <a:ext cx="423360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3B1B6-CD7E-45B4-8692-454EDB9B1F48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AAA57B-1113-4C01-AE26-A8B12BE9F539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59984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960" y="1577880"/>
              <a:ext cx="274284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360" y="1577880"/>
              <a:ext cx="423360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40FA8-B709-463B-A6F1-74C340B72719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A147A-C94A-4607-8D24-353C30C2977C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59984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960" y="1577880"/>
              <a:ext cx="274284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360" y="1577880"/>
              <a:ext cx="423360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7D51E-8BCF-49E5-9F71-26FABCCCF95A}" type="datetime">
              <a:rPr b="1" lang="en-US" sz="1100" spc="-1" strike="noStrike">
                <a:solidFill>
                  <a:srgbClr val="a6a6a6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EF975-91EB-4E69-B31A-DB15315A353E}" type="slidenum">
              <a:rPr b="1" lang="en-US" sz="14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20480" y="448920"/>
            <a:ext cx="780876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Excretion Warm–Up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75920" y="1531800"/>
            <a:ext cx="775332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Digestive and Excretory Systems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72680" y="1533240"/>
            <a:ext cx="775332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title"/>
          </p:nvPr>
        </p:nvSpPr>
        <p:spPr>
          <a:xfrm>
            <a:off x="419040" y="444240"/>
            <a:ext cx="781056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# 1 – The Excretory System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2444760" y="2387520"/>
            <a:ext cx="38354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# 2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hat is the functional unit of the kidney called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Nephron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ow many are contained in each kidney?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~ 1 million!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#3 – A Nephron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3192480" y="2222640"/>
            <a:ext cx="3009960" cy="4213080"/>
          </a:xfrm>
          <a:prstGeom prst="rect">
            <a:avLst/>
          </a:prstGeom>
          <a:ln w="0">
            <a:noFill/>
          </a:ln>
        </p:spPr>
      </p:pic>
      <p:sp>
        <p:nvSpPr>
          <p:cNvPr id="788" name="TextBox 4"/>
          <p:cNvSpPr/>
          <p:nvPr/>
        </p:nvSpPr>
        <p:spPr>
          <a:xfrm>
            <a:off x="1028880" y="232416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wman’s Caps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5"/>
          <p:cNvSpPr/>
          <p:nvPr/>
        </p:nvSpPr>
        <p:spPr>
          <a:xfrm>
            <a:off x="473040" y="2911320"/>
            <a:ext cx="26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omerul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6"/>
          <p:cNvSpPr/>
          <p:nvPr/>
        </p:nvSpPr>
        <p:spPr>
          <a:xfrm>
            <a:off x="5967360" y="2139840"/>
            <a:ext cx="26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nal Tub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7"/>
          <p:cNvSpPr/>
          <p:nvPr/>
        </p:nvSpPr>
        <p:spPr>
          <a:xfrm>
            <a:off x="6248520" y="412272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8"/>
          <p:cNvSpPr/>
          <p:nvPr/>
        </p:nvSpPr>
        <p:spPr>
          <a:xfrm>
            <a:off x="6186600" y="590076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op of Hen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3" name="Straight Arrow Connector 10"/>
          <p:cNvCxnSpPr/>
          <p:nvPr/>
        </p:nvCxnSpPr>
        <p:spPr>
          <a:xfrm flipH="1" flipV="1">
            <a:off x="4770000" y="2323800"/>
            <a:ext cx="1197360" cy="216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794" name="Straight Arrow Connector 12"/>
          <p:cNvCxnSpPr/>
          <p:nvPr/>
        </p:nvCxnSpPr>
        <p:spPr>
          <a:xfrm flipH="1" flipV="1">
            <a:off x="5760720" y="4336200"/>
            <a:ext cx="472320" cy="252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795" name="Straight Arrow Connector 14"/>
          <p:cNvCxnSpPr/>
          <p:nvPr/>
        </p:nvCxnSpPr>
        <p:spPr>
          <a:xfrm flipH="1" flipV="1">
            <a:off x="4971600" y="5746320"/>
            <a:ext cx="1231200" cy="37080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796" name="Straight Arrow Connector 16"/>
          <p:cNvCxnSpPr/>
          <p:nvPr/>
        </p:nvCxnSpPr>
        <p:spPr>
          <a:xfrm>
            <a:off x="3130200" y="3157560"/>
            <a:ext cx="1346400" cy="216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  <p:cxnSp>
        <p:nvCxnSpPr>
          <p:cNvPr id="797" name="Straight Arrow Connector 18"/>
          <p:cNvCxnSpPr/>
          <p:nvPr/>
        </p:nvCxnSpPr>
        <p:spPr>
          <a:xfrm>
            <a:off x="3684600" y="2509920"/>
            <a:ext cx="1086480" cy="496080"/>
          </a:xfrm>
          <a:prstGeom prst="straightConnector1">
            <a:avLst/>
          </a:prstGeom>
          <a:ln w="25560">
            <a:solidFill>
              <a:srgbClr val="99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#4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Define the following terms and state where each takes place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Filtration – forces fluid containing water, salt, glucose, amino acids, and urea into the hollow interior of Bowman’s capsule. This fluid is called filtrate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Reabsorption – As the filtrate passes through the renal tubules useful molecules; glucose, ions, and some water, is reabsorbed. These substances reenter the bloodstream through capillaries that wrap around the tubul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lnSpc>
                <a:spcPct val="9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Secretion – When substances pass from the blood into the filtrate. Occur in the tubule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# 5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1"/>
          <a:stretch/>
        </p:blipFill>
        <p:spPr>
          <a:xfrm>
            <a:off x="560520" y="3316320"/>
            <a:ext cx="80881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5:27:47Z</dcterms:created>
  <dc:creator>Patriot</dc:creator>
  <dc:description/>
  <dc:language>en-US</dc:language>
  <cp:lastModifiedBy>Patriot</cp:lastModifiedBy>
  <dcterms:modified xsi:type="dcterms:W3CDTF">2012-04-12T15:44:21Z</dcterms:modified>
  <cp:revision>4</cp:revision>
  <dc:subject/>
  <dc:title>Excretion Warm–Up</dc:title>
</cp:coreProperties>
</file>