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CD0-8F1D-4345-B12F-0610B8B3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1DF-176B-4CCD-9760-82CA49E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A3719C-A8FD-4153-BC52-C42A67A6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44305-DD0E-46ED-B4A3-9B83A605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5D000-13D1-45CD-B66E-B402C65A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6188C-C94A-442B-A2AF-05E5692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8EFBE-C0BC-4448-9DA0-27F27F8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EB1B-F8A1-46D7-BFB1-6AADA88A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79F3B-DCA6-49A6-A929-90EF0C2E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73406-9CC1-466F-BE9B-D6DD5F13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34F81-0C03-40B6-AEF3-5BBE145E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8E621-2A1F-4A4A-B1E4-6EA31D88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B415-06FA-4B53-9B35-365981BD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69A53-B870-46D6-BA07-FAF7876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C67F8-198E-4678-9481-9454B20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0278F-7E51-461F-B3F9-DE3F763B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9B252-ED5F-4B0E-95D3-D67CBE36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3E72C-E290-42B6-A3D3-3442EEF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CAA41-BA28-4EDF-89EF-CE90D5FF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16164-32CD-4721-B45B-1E9D76B3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6F6C7-6DE9-4715-9810-855C82FF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900AD-F975-4747-B550-8DB6D35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AFF60-9E03-49DC-AD7A-BB797C63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99B-A390-47D7-BDC0-3943B872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E0151-4E29-4559-81E2-FA71150D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A9165-2F22-4883-BF83-DD87526D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E560C-913D-42B7-8123-67EA1AE1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EE10-4ADF-4480-B282-53118DF2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5926-C0F6-4988-B6CD-05354C51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921FC-D8E5-4D48-BF7D-3D7FFF4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CEAA5-DCBC-4617-9BD6-E5B09A87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4D75B-974A-4B6A-89CB-821D79E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D7412-79DE-4728-A606-8353A870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01C0F-10B0-42DA-ACB3-2BBE7AD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EBEA-E9E5-4A89-85BA-63EC083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9E7DA-5B3E-4004-A012-9C39A9CE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7406F-40C2-4C9B-A3FC-44C86878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3FF0-AA76-4D0F-B19D-7C76E44F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98947-B70F-4961-80E5-22DD0915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F8EC1-4E47-424D-94BF-AC81A921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ABD9A-0CEB-4A91-A700-76F4393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78265-8262-42F8-8094-1949A72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A4533-DA51-4E13-AD81-20341CC3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12621-75A6-474C-A7B5-21665333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E8A3A-6319-45BC-B578-269A8D7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E3D9-E657-4706-8068-670FFABD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A7522-FB7E-47CC-BCA0-4D1D6CD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CE4E3-52E2-4572-B578-71E3C16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03E88-2372-4A0E-9023-8BC25E39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29BF-BD50-4CF4-87B0-57263B79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5A7BE-3D04-4111-9B07-1CE3559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4815A-C6BF-4A15-A44F-B08A29A6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D1B1B-2B61-4D1F-9609-C3457C8D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A91546-38D8-4A8C-959F-E6472BC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924FD-2EBE-4B9A-B673-A4F2D290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372EB-18D3-42BD-AB25-3F466B2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B9E-1A2D-49E0-9BB6-E85A2E89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6E504-4753-4825-8B06-AE653FFF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C0845-62F0-49BC-BDC8-49E63C3F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B77B2-F129-4556-86A5-C7AE9AE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C1C21-565A-45F9-89BC-0A86D5AE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FD5CC-4918-436C-99BA-908C5F3D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AA094-ED15-493E-85E6-4AEEBC64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B2E68-E661-44FC-9402-B5E15812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17AE6-2AAF-4E60-A46B-481E7509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D5E76-9348-4CE0-AE04-76A779E3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3D7B9-2E51-49ED-935E-3F12BB5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399B-6A3D-49B6-89C6-127DECBE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25F2F-7407-4E6C-A43E-0010CAD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00A7B-C5DD-4240-9871-905FE1F9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BD820-9A33-4E99-BBF3-9C392AEF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4DCE8-E7ED-45CB-9CEE-F9197FA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87F74-A326-4B16-99AE-25F02D0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7E252-7EAD-4A4A-A1E8-9D50D6B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62B79-D5F7-4EE7-94AC-C1643D9F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6DEB8-CFA7-4248-82AA-2470D35C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9F5EC-FA99-4396-A08B-F1B84D70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88B90-1959-4609-B258-8E4C548C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3A4A-E4C1-4622-959D-F08595E8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55A08-8D54-43B6-ACD6-3BF5F3B9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73514-EEB4-4ACB-97B2-525F26E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ACA47-BE10-47A8-9ABA-9B7E44C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C251D-B91B-4312-ABC1-13FFF57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8E7B3-4D2E-4D4F-878D-F6533375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DD72F-B137-46AA-BA49-87E3330F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F2B99-E166-40CB-9992-F508121B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CF91E-B37F-41E7-9EDD-F4C5E2C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688E44-174E-4205-9049-4EA47307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6CFC8-B283-4A65-B88B-26355F56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F419-71F4-45B4-9F98-F682593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306EB-C4C8-4468-9EF2-380235CF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DD238-F62E-43C4-A12B-886E1D01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1801E-4E6C-4140-8A31-A463B47E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55D97-53A9-40A9-9EAF-39E8689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3C2E5-D989-4322-80F7-D4A3160C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D583E-6307-43EE-B4AD-AA59DC2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EBAAE-24F3-4BB0-9CEC-3C2C708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CAF6D8-9327-4949-9307-B1CBAA3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01F60-D814-43B2-AE75-973EDD4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C3F5D-47FA-4A23-9036-709BF613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9B6C-EC0F-49E3-B98B-EBEA9F93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145E3-4326-495E-92C5-2A30B398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1C038-4758-4B05-9D54-F6ED7CA8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1FAB7-AB79-4FEF-906E-6A87A91F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2A0AF7-89AC-4896-B7D4-6B5FB5D8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721E4-06C1-4D71-B832-E93308B9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0C1BB-8313-47A6-A851-3E87DED8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763C9-36D2-47FA-B715-13AC3D9C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B98AB-7B0F-4FB9-B146-6A6EFB3D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B2570-729D-4938-9A4C-B0F2520A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96F4A-75F7-496F-B444-26234C3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BD7-518F-40CA-8FD8-A08061AB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7140-4C7C-4849-B60F-F3B13D3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B783D-D5C7-4CB4-8037-10041D3D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322DC-55BC-475A-8D55-D58A444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4F0A2-FD9C-4177-854B-637DFAD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6F78C-9FC5-477B-A7FD-1D8E8863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E6950-359C-4726-81BB-95706D43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E42-30D5-4224-A62F-E2F669C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77E7-53F8-4013-BF81-C56023C5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9B9D-F062-4137-B362-740EA7DF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9876-8370-4849-9C20-CF0EE08C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3EFA-E4A8-488A-9CB3-D94ACC04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0DB1-1494-48BD-83E7-A8B5F70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CBDC-116F-4BA6-9CAD-9964F610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377B-494B-44CC-8FA7-75E549F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7210-C92E-489B-9596-FFDE2E57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2B7-6B07-47D0-862B-6198D254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2453-2D6D-471D-AF6E-B6F195CC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A395-C8E3-4A2D-AC3E-9D2525E8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B8A8C-4559-4DD1-9FE0-57461E64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C727A-8B58-4038-8FB6-644AC41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B45F-95D5-4A9C-B39C-2B5A196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80D9E-213D-443C-8F3D-67AE9AC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53E2-FBBD-4C78-95A9-DAE08D08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761E-CE90-4CD1-B47D-E3FABA9F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B3646-7F36-4B10-BB21-BCFB9576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8AAC-D049-4738-A020-ED33EAE2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0A4-D742-435F-81BF-D46BB840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FA261-F165-47A8-B1AF-029931D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4FBD-A1BD-413C-AE15-C71568B3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3BFE-0B20-4884-93FB-93CA524A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6EF8-52E0-4F24-933E-1F199E07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A992F-4AEF-42EC-BD58-1DBD020D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8F43-CFB7-4BCA-9368-A0429CE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96C2-50D8-4DFF-835F-F992E9E8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61504-AE24-4A8D-8B3D-5BDAB1E5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C6AD-6D0A-4040-82B8-0BB34DD1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23C9-E1E4-4C9D-AF05-B490615E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FED-857C-4288-8962-E2EEEBE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1EA31-A2BD-498B-A84A-37A568EB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54B0-157C-483E-B446-71CE799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1C92-DBBB-4BE6-8623-D8084F5E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8880-6AE0-4699-A79C-C7333CE4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40FB-FE7B-4655-A57A-3472F78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77BA-B048-48E2-AA60-4BC3ABF6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A843-0372-4936-94A8-EA29CDE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21C5-13CA-40D3-AC29-F410A8D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CAF4-1A01-440A-94FA-75E77DFA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EB96-B6A9-4DA2-941B-22759B77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807-84B5-4599-B20B-AD7F8F0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39CD-F34C-4792-9B34-F6C469F2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CABC-987A-4F8A-97A7-D8FA35CB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C3E11-67A3-4A42-9193-72004816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7D04D-BBC8-4E58-9D0E-2EB93C3C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08B06-6D3E-43EA-8042-ABCB3832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9BEF-4875-410A-8BAA-A9F84C43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5E377-5E1F-4433-B239-58E8AA17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DEB8-CFDF-48B5-A2D3-FFD9426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78A6-7220-45EF-8D83-5D3C4B8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CB87-B163-46F7-B52C-10EF3FB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0C5-E6D9-477D-96C6-33823BD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11B8-5F74-492E-A0DA-3BCE4C8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EB4F-7453-41B9-9881-057B8F7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15FA3-B938-4EF9-9826-18F867D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8AAB-20BA-4860-AA94-893104D0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0CFA7-A77E-4F37-A498-89D7083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3B49-91C4-4415-85A8-314656C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D99EB-1C02-40FA-957E-0210D06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64653-F20A-42FF-A774-C7A84C4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325B-E6F1-49B4-BFCC-FF57F56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52606-9600-4E2D-9A7A-FD5CED0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F12-EAD4-4B64-B0B1-BE0839F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08A6F-5EA0-4030-BCC7-39BC2C94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C6FD-9322-4A71-B4EC-6CF020B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9E81-5832-40C5-9277-DB16D434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B9EDB-DE20-4F78-8CDB-497E9CEE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3E7F-E624-4298-ABF2-608ADB9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118F9-FC0F-4268-8F02-39534C0B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FE5E8-1D3A-468F-A854-F7127D8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3BF21-B706-4B23-A491-2FB56A6B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A3BC-57D9-43DF-90BA-09C58793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9F8CB-D9FB-4526-8654-DD54A9E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89A-66BB-4332-A2D9-5352CD46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F502-A70F-40F8-90FF-FE57A330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64FE-E570-499A-BAF8-6A10A61D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E6CB1-3CD8-43A1-A97F-8FEE418C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EC25-307E-4B7F-AC72-CFA5BCB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53A69-7A46-4DE6-8919-63FD93F7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7880-31C5-4116-BC44-DC17512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DBED7-1762-4FCF-9B63-D889FD23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D6629-CCDB-4A62-859B-89AAF671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4E05A-F911-4A60-B61F-CD29B0CE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5C224-998B-4A4D-9C3C-C41763D3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90536-8246-4C79-BCDA-EEB76106548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0D538-407E-49DD-8284-B1C24706B1F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25EE3-F0D5-49DA-8538-93842365A51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D0A7D-3DB4-4A12-B05D-0110270B9BA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E5768-F9F9-40A1-A825-A4A1D98B120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2AC80-421F-4A09-9552-B422D8AE8C3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F6769-2E4E-4D9F-B1D2-306E864C4412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30B51-A916-4CE5-8C51-16B4457F195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2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6160" y="4280040"/>
              <a:ext cx="1599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360" y="428004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26819-0AD5-4DAA-85B9-6269D7F7D0A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4717F-1034-41F5-B0F7-F4C1093997D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28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6160" y="461880"/>
              <a:ext cx="159984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360" y="461880"/>
              <a:ext cx="423360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4DA0B-5717-42F4-B7A7-64F8D267FDC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C1158-DFF4-407F-B9E8-D82780183201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90E44-E88E-460E-A699-B77D4E1D197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D31B7-5953-4353-A8C6-6F8A34C2DF3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C2FE4-99F3-4A31-92A8-FA648FD2F9D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2B36D-40B4-4920-AB46-5D2F4E5D2DC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1840" y="941400"/>
              <a:ext cx="11070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560" y="2444760"/>
              <a:ext cx="189792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0680" y="4857480"/>
              <a:ext cx="292932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89849-109A-4981-B0D6-E9D853FB39E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C006A-D230-4B39-9A0D-C9077B7AEED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ECAE27-B744-4233-BC74-BCA2D08C158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FEB92-C747-4B45-AF89-F3F4B587543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33CB1-17B9-440B-BF8B-DC2609169B31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A8212-094C-4E04-AA5B-CD3F5511E7B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4A449-0FCC-4A67-8CB4-F22C6B6771D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24D3E-8229-4125-AA68-0FFCBCF8E05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1572F-9A57-4374-B446-0BA87A7ED2A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1AA03-3963-4C66-B0F0-3AE2C2A078C5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9E211-E8BC-4ACD-8726-540A5ECBCD1D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2FB98-B0EA-4BBA-9E1E-BB07717628E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3873B-7655-4382-B2F8-F54C4C0DF62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94923-8F82-4073-99D1-06B4A4CD84D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9F551-AEE7-4A6E-AAFF-9FE13335BC3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5AC0E-F8E4-4768-A092-1EA1EE896EB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7F238-9565-48D3-91B4-74219B817225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D3AF0-8598-47AE-B5B3-3C9E8FB96CE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cretion Warm–U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Digestive and Excretory Systems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72680" y="1533240"/>
            <a:ext cx="77533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19040" y="444240"/>
            <a:ext cx="78105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1 – The Excretory System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444760" y="2387520"/>
            <a:ext cx="3835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2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s the functional unit of the kidney call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Nephron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many are contained in each kid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~ 1 million!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3 – A Nephr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3192480" y="2222640"/>
            <a:ext cx="3009960" cy="4213080"/>
          </a:xfrm>
          <a:prstGeom prst="rect">
            <a:avLst/>
          </a:prstGeom>
          <a:ln w="0">
            <a:noFill/>
          </a:ln>
        </p:spPr>
      </p:pic>
      <p:sp>
        <p:nvSpPr>
          <p:cNvPr id="788" name="TextBox 4"/>
          <p:cNvSpPr/>
          <p:nvPr/>
        </p:nvSpPr>
        <p:spPr>
          <a:xfrm>
            <a:off x="1028880" y="23241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wman’s Caps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5"/>
          <p:cNvSpPr/>
          <p:nvPr/>
        </p:nvSpPr>
        <p:spPr>
          <a:xfrm>
            <a:off x="473040" y="29113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6"/>
          <p:cNvSpPr/>
          <p:nvPr/>
        </p:nvSpPr>
        <p:spPr>
          <a:xfrm>
            <a:off x="5967360" y="213984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l Tub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6248520" y="4122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6186600" y="59007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3" name="Straight Arrow Connector 10"/>
          <p:cNvCxnSpPr/>
          <p:nvPr/>
        </p:nvCxnSpPr>
        <p:spPr>
          <a:xfrm flipH="1" flipV="1">
            <a:off x="4770000" y="2323800"/>
            <a:ext cx="1197360" cy="21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4" name="Straight Arrow Connector 12"/>
          <p:cNvCxnSpPr/>
          <p:nvPr/>
        </p:nvCxnSpPr>
        <p:spPr>
          <a:xfrm flipH="1" flipV="1">
            <a:off x="5760720" y="4336200"/>
            <a:ext cx="472320" cy="252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5" name="Straight Arrow Connector 14"/>
          <p:cNvCxnSpPr/>
          <p:nvPr/>
        </p:nvCxnSpPr>
        <p:spPr>
          <a:xfrm flipH="1" flipV="1">
            <a:off x="4971600" y="5746320"/>
            <a:ext cx="1231200" cy="37080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6" name="Straight Arrow Connector 16"/>
          <p:cNvCxnSpPr/>
          <p:nvPr/>
        </p:nvCxnSpPr>
        <p:spPr>
          <a:xfrm>
            <a:off x="3130200" y="3157560"/>
            <a:ext cx="1346400" cy="21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7" name="Straight Arrow Connector 18"/>
          <p:cNvCxnSpPr/>
          <p:nvPr/>
        </p:nvCxnSpPr>
        <p:spPr>
          <a:xfrm>
            <a:off x="3684600" y="2509920"/>
            <a:ext cx="1086480" cy="496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Define the following terms and state where each takes plac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Filtration – forces fluid containing water, salt, glucose, amino acids, and urea into the hollow interior of Bowman’s capsule. This fluid is called filtrat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Reabsorption – As the filtrate passes through the renal tubules useful molecules; glucose, ions, and some water, is reabsorbed. These substances reenter the bloodstream through capillaries that wrap around the tubul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ecretion – When substances pass from the blood into the filtrate. Occur in the tubul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5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560520" y="3316320"/>
            <a:ext cx="8088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5:27:47Z</dcterms:created>
  <dc:creator>Patriot</dc:creator>
  <dc:description/>
  <dc:language>en-US</dc:language>
  <cp:lastModifiedBy>Patriot</cp:lastModifiedBy>
  <dcterms:modified xsi:type="dcterms:W3CDTF">2012-04-12T15:44:21Z</dcterms:modified>
  <cp:revision>4</cp:revision>
  <dc:subject/>
  <dc:title>Excretion Warm–Up</dc:title>
</cp:coreProperties>
</file>