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81FA15-434F-4DA3-9655-0AF1AD1D70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EBA384-D098-44C9-B098-F8AF2B76D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096FCA-B9A5-4694-8263-B6E34E7D2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23C0CF-22CD-477F-B18E-48DEEE696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32B6-FFC7-46CA-8696-113ACA60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00C-6EA4-4FF3-8B93-B3D65B38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D307E-8DF8-4D8E-864C-07CCDAE0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034CD-E4A6-48E7-8FF3-91E6EB1C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BB9DD-5E3D-476B-BCD9-7F037E1D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062FB-D8A6-4B27-A274-1D6CF105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FA7E8-4BF4-4C26-AB3D-A51AEF98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A1AFD-F43D-4DED-9D10-161C6A77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23C28-690F-4340-B036-56338466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937C6-6DB0-4BDC-B9CF-8981ECE8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CD0EA-F250-42DC-9261-FA0DB7ED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91B5-2C73-480B-94E0-C703C883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9344-8B78-4D9A-9400-FCDE8675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5661-0B1C-4976-8690-11480E93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4A7F-3DF0-4B3D-BC77-90486728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CE23-C4C7-4630-8E7E-7E01E364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8637-DE17-46AB-AB05-ABF68D01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8473-71C3-48EB-80C6-2C4E2ABF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0B02-9BDC-461C-9259-823B9FC0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6080-E78A-46C7-8976-249CFFFA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6C38-DD7B-4247-8ADB-15CF358A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4232-BC0D-4A36-A5FF-5452DE40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0A9F-CA22-41EF-9330-33CBC63E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8A98-EB87-4042-A5C3-9D8B1339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233F-A873-429E-A1AE-B1EA0371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471C-0B2B-47C8-B457-57F09F04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74716-277A-4B04-B5B0-7FF06888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44D08-2C72-46F9-85F8-A9C110F6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A0465-E1E8-412A-A7D7-E6725080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BEC3F-A4EF-4B0C-95E9-B1A6AE34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C7F02-D293-466B-8064-A818EFF5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D03F-4002-4D02-BA28-4CCAFD7C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C3392-AB67-4BE9-810C-55D59755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3928A-65A5-4A76-A237-1361D0EB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B62FC-0FB3-4CE0-A429-6036C655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3CA4F-EDC2-4D99-A057-F425C101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A1306-5AAF-4ED4-97B7-8F71BA85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FB45C-0D51-429A-A335-0EEBF6A9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25EEF-ED09-4D2A-8541-56819EB0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878B1-6A11-49E7-90A6-09206C3F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E8943-0A97-45A6-9390-1A022005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9EE07-0E4D-4045-BEEA-85143B6E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A2EA-0E1A-4268-8FA3-A1FBD31A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E8CC1-5517-416F-A52E-2FBA6036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7484B-13F3-4192-86EB-8B33E169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09F6C-5FC7-48B9-A43A-6795707F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DD524-C89C-4524-A1AB-36B5F46A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6D831-7D92-4D4C-9545-FD597313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EF85E-21F6-44D3-8FE9-359253E3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ADE18-E719-4D7A-BB5E-7F935A29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4238E-F6C6-4E22-941A-F68C12243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6AA0A-FEFE-4F27-8329-31652814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35F35-E666-483B-A9C8-A067D874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11E3-8BEE-4791-AF80-E1E0A0B7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1B143-E95B-4E98-BD9C-12E42D0A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2B0C2-4235-4EB2-A57D-422A72D2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18413-B140-430D-8C97-D9C7057F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9695B-B55D-40FB-8CB1-8785F7A0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B0ADB-7A34-43B9-A7DF-8BC72099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E0BD0-F7FF-409B-92AC-443FD8CF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23F78-86EB-4182-8B9B-57570C74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8BC9A-E6A2-4832-BDB5-9B16207E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9D429-922F-49AA-A7E5-F0BB7C46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40641-163C-4767-B068-AA06E5E1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3772-E93A-40CD-9D8E-F573A709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FDB96-C990-4B74-BF91-C03CBD6C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96A98-BB93-49FE-A973-0BC8A9C7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9A8D5-0705-48E8-8891-4677F3D7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07093-2953-460C-BCE1-357EC9DA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8C198-295B-42EA-90F5-AFD0C872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D8775-4229-4383-81A5-27A60775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977E4-FB33-42E9-87FF-E4A2B2E5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BC724-6C11-4CE6-8606-16959129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56B7E-FCD5-43EE-A318-3497397D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B13D2-F2CB-43DF-8001-B14CDF2F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C485-BBA7-45E0-9E43-6EFF6D37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12A49-83E1-4B68-B98E-250B5ED8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4AF40-0E0A-45C6-9560-9F6DCE93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0D16C-0404-4315-9E1C-248555BD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9131B-1BE5-4FBD-B1AA-C9C83CD4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0FCA1-2850-48A3-B39D-03FA98ED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540AB-2514-401C-B9DB-F4F1F5D1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D6FBD-F925-4FB6-9D6E-B006DADF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610CA-B9E5-4F1D-AB16-028CC90B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4D862-6076-4CBA-AE2D-B6340A66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38FEE-8F2B-4F0A-AC94-85B0C529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E6FF-BEF7-4BB6-819E-CF1A7571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68042-245A-4250-9BAF-D59D97B2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E3EC2-D357-4987-9C77-0B61F4EF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336D4-3726-4B93-AEBA-7BC23399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C6ADB-30AF-4821-BFCE-1B5DCD58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C2E2D-56C8-4983-9F84-28FFC0F6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AAC10-CE53-472D-B939-698CBC15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93A80-3D94-49FB-BF67-F8A0C889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D3E56-0133-4F23-99EE-A888E0A3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8B0A2-7B2C-4B5B-9DBC-DCE8A661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12155-A9DB-421D-9540-80FEC0E6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FA28-0EDD-4ADF-B342-0C6005C6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178F3-96DD-4855-A168-617E303B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5B0B4-BF3E-4D68-BC42-4CFAB68A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D77F5-8C6A-41A8-865E-D4D25B17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C2132-98AB-4D13-B042-0F6DC5D2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004A8-F2BD-4828-8B88-C0F5124B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74369-E489-485C-BCBE-90E483525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67BFC-7143-45F3-B568-129D9889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38C5D-6E17-4EA1-9A24-D4931F16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71E8B-D4D0-4234-8EFF-7053C6DA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B832F-C7ED-4AF0-A903-8BF3CE7E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A66EED-DC64-4C80-B026-E3D88F2723D9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D1BF4F-F600-4BFE-9FE6-38A40C9359A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3D8AD5-4696-41B7-8A8B-0EA491CBEAFC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72EF81-9DE7-4A20-A94E-A51041E9D4B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D43F4-B291-4E21-B257-EDFB7EEEF062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D77DE-7CEB-4884-B66D-ABAAF529BC9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E8B5D-AD69-4195-B060-4E4A254065CA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92C3F-9777-4EDC-9848-DD9E947F4AE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54621E-62CA-423A-9A27-01041095BB93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506D86-5869-4CEE-9C1D-D153771C65D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AC63D-9098-450A-821E-98D426B77E4E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6F22C1-774B-4557-A3A2-4F1E8E0FF96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F698C9-7240-4106-81A6-720579321C0B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02614-0F58-40BD-9DDD-0AE8754F27F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79ABC1-A63C-47F8-A4DD-5431D9AC8D6E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647F32-0556-445B-8224-63B56A0D554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47B5DA-CF1B-4E26-90F7-848B49C7C36B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8B868-41EC-496E-B9FD-3829D53454C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2"/>
          <a:stretch/>
        </p:blipFill>
        <p:spPr>
          <a:xfrm>
            <a:off x="378000" y="4846680"/>
            <a:ext cx="8467560" cy="14986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Accelerated Biolog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eminiferous Tubule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100’s of tightly coiled tubules located in the testes where sperm is produced through meiosi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Luteinizing Hormone (LH), released by the pituitary gland, stimulates the secretion of testosteron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Follicle Stimulating Hormone (FSH) and testosterone stimulate sperm produc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2" name="Picture 4" descr="Screen shot 2012-02-12 at 3.15.04 PM.png"/>
          <p:cNvPicPr/>
          <p:nvPr/>
        </p:nvPicPr>
        <p:blipFill>
          <a:blip r:embed="rId3"/>
          <a:stretch/>
        </p:blipFill>
        <p:spPr>
          <a:xfrm>
            <a:off x="4716360" y="1592280"/>
            <a:ext cx="4427640" cy="4200480"/>
          </a:xfrm>
          <a:prstGeom prst="rect">
            <a:avLst/>
          </a:prstGeom>
          <a:ln w="0">
            <a:noFill/>
          </a:ln>
        </p:spPr>
      </p:pic>
      <p:cxnSp>
        <p:nvCxnSpPr>
          <p:cNvPr id="443" name="Straight Arrow Connector 5"/>
          <p:cNvCxnSpPr/>
          <p:nvPr/>
        </p:nvCxnSpPr>
        <p:spPr>
          <a:xfrm>
            <a:off x="4494600" y="1812600"/>
            <a:ext cx="1653480" cy="3221640"/>
          </a:xfrm>
          <a:prstGeom prst="straightConnector1">
            <a:avLst/>
          </a:prstGeom>
          <a:ln w="6336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pididymis (2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fter being produced in the seminiferous tubules, sperm travel to the epdidymis, where they matur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ite where sperm are store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6" name="Picture 4" descr="Screen shot 2012-02-12 at 3.15.04 PM.png"/>
          <p:cNvPicPr/>
          <p:nvPr/>
        </p:nvPicPr>
        <p:blipFill>
          <a:blip r:embed="rId3"/>
          <a:stretch/>
        </p:blipFill>
        <p:spPr>
          <a:xfrm>
            <a:off x="4716360" y="1592280"/>
            <a:ext cx="4427640" cy="4200480"/>
          </a:xfrm>
          <a:prstGeom prst="rect">
            <a:avLst/>
          </a:prstGeom>
          <a:ln w="0">
            <a:noFill/>
          </a:ln>
        </p:spPr>
      </p:pic>
      <p:cxnSp>
        <p:nvCxnSpPr>
          <p:cNvPr id="447" name="Straight Arrow Connector 6"/>
          <p:cNvCxnSpPr/>
          <p:nvPr/>
        </p:nvCxnSpPr>
        <p:spPr>
          <a:xfrm>
            <a:off x="4494600" y="1812600"/>
            <a:ext cx="1793160" cy="2927880"/>
          </a:xfrm>
          <a:prstGeom prst="straightConnector1">
            <a:avLst/>
          </a:prstGeom>
          <a:ln w="6336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as Deferens (2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Long tube that connects the epididymis to the urethr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0" name="Picture 4" descr="Screen shot 2012-02-12 at 3.15.04 PM.png"/>
          <p:cNvPicPr/>
          <p:nvPr/>
        </p:nvPicPr>
        <p:blipFill>
          <a:blip r:embed="rId3"/>
          <a:stretch/>
        </p:blipFill>
        <p:spPr>
          <a:xfrm>
            <a:off x="4716360" y="1592280"/>
            <a:ext cx="4427640" cy="4200480"/>
          </a:xfrm>
          <a:prstGeom prst="rect">
            <a:avLst/>
          </a:prstGeom>
          <a:ln w="0">
            <a:noFill/>
          </a:ln>
        </p:spPr>
      </p:pic>
      <p:cxnSp>
        <p:nvCxnSpPr>
          <p:cNvPr id="451" name="Straight Arrow Connector 6"/>
          <p:cNvCxnSpPr/>
          <p:nvPr/>
        </p:nvCxnSpPr>
        <p:spPr>
          <a:xfrm>
            <a:off x="4495320" y="1812600"/>
            <a:ext cx="2164680" cy="711720"/>
          </a:xfrm>
          <a:prstGeom prst="straightConnector1">
            <a:avLst/>
          </a:prstGeom>
          <a:ln w="6336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Urethr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perm leave the body by passing through the urethr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ame duct through which urine exits the bod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s sperm pass through the urethra, they mix with fluids secreted by 3 exocrine glands; seminal vesicles, prostate gland, and the bulbourethral glan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4" name="Picture 4" descr="Screen shot 2012-02-12 at 3.15.04 PM.png"/>
          <p:cNvPicPr/>
          <p:nvPr/>
        </p:nvPicPr>
        <p:blipFill>
          <a:blip r:embed="rId3"/>
          <a:stretch/>
        </p:blipFill>
        <p:spPr>
          <a:xfrm>
            <a:off x="4716360" y="1592280"/>
            <a:ext cx="4427640" cy="4200480"/>
          </a:xfrm>
          <a:prstGeom prst="rect">
            <a:avLst/>
          </a:prstGeom>
          <a:ln w="0">
            <a:noFill/>
          </a:ln>
        </p:spPr>
      </p:pic>
      <p:cxnSp>
        <p:nvCxnSpPr>
          <p:cNvPr id="455" name="Straight Arrow Connector 6"/>
          <p:cNvCxnSpPr/>
          <p:nvPr/>
        </p:nvCxnSpPr>
        <p:spPr>
          <a:xfrm>
            <a:off x="4494600" y="1812600"/>
            <a:ext cx="1297800" cy="2462760"/>
          </a:xfrm>
          <a:prstGeom prst="straightConnector1">
            <a:avLst/>
          </a:prstGeom>
          <a:ln w="6336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304560" y="1631880"/>
            <a:ext cx="41907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minal Vesicl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Located between the bladder and the rectu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Produce a fluid rich in sugars that sperm use for energ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8" name="Picture 4" descr="Screen shot 2012-02-12 at 3.15.04 PM.png"/>
          <p:cNvPicPr/>
          <p:nvPr/>
        </p:nvPicPr>
        <p:blipFill>
          <a:blip r:embed="rId3"/>
          <a:stretch/>
        </p:blipFill>
        <p:spPr>
          <a:xfrm>
            <a:off x="4716360" y="1592280"/>
            <a:ext cx="4427640" cy="4200480"/>
          </a:xfrm>
          <a:prstGeom prst="rect">
            <a:avLst/>
          </a:prstGeom>
          <a:ln w="0">
            <a:noFill/>
          </a:ln>
        </p:spPr>
      </p:pic>
      <p:cxnSp>
        <p:nvCxnSpPr>
          <p:cNvPr id="459" name="Straight Arrow Connector 6"/>
          <p:cNvCxnSpPr/>
          <p:nvPr/>
        </p:nvCxnSpPr>
        <p:spPr>
          <a:xfrm>
            <a:off x="4495320" y="1812960"/>
            <a:ext cx="2815560" cy="1502640"/>
          </a:xfrm>
          <a:prstGeom prst="straightConnector1">
            <a:avLst/>
          </a:prstGeom>
          <a:ln w="6336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Prostrate Glan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Located below the bladder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cretes an alkaline (basic) fluid that neutralizes the acids in the female reproductive syste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2" name="Picture 4" descr="Screen shot 2012-02-12 at 3.15.04 PM.png"/>
          <p:cNvPicPr/>
          <p:nvPr/>
        </p:nvPicPr>
        <p:blipFill>
          <a:blip r:embed="rId3"/>
          <a:stretch/>
        </p:blipFill>
        <p:spPr>
          <a:xfrm>
            <a:off x="4716360" y="1592280"/>
            <a:ext cx="4427640" cy="4200480"/>
          </a:xfrm>
          <a:prstGeom prst="rect">
            <a:avLst/>
          </a:prstGeom>
          <a:ln w="0">
            <a:noFill/>
          </a:ln>
        </p:spPr>
      </p:pic>
      <p:cxnSp>
        <p:nvCxnSpPr>
          <p:cNvPr id="463" name="Straight Arrow Connector 6"/>
          <p:cNvCxnSpPr/>
          <p:nvPr/>
        </p:nvCxnSpPr>
        <p:spPr>
          <a:xfrm>
            <a:off x="4495320" y="1812600"/>
            <a:ext cx="2258280" cy="1857960"/>
          </a:xfrm>
          <a:prstGeom prst="straightConnector1">
            <a:avLst/>
          </a:prstGeom>
          <a:ln w="6336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Peni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eposits sperm in the female reproductive system during sexual intercours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ontains spongy tissue. When the spaces in this tissue fill with blood, the penis becomes erect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6" name="Picture 4" descr="Screen shot 2012-02-12 at 3.15.04 PM.png"/>
          <p:cNvPicPr/>
          <p:nvPr/>
        </p:nvPicPr>
        <p:blipFill>
          <a:blip r:embed="rId3"/>
          <a:stretch/>
        </p:blipFill>
        <p:spPr>
          <a:xfrm>
            <a:off x="4716360" y="1592280"/>
            <a:ext cx="4427640" cy="4200480"/>
          </a:xfrm>
          <a:prstGeom prst="rect">
            <a:avLst/>
          </a:prstGeom>
          <a:ln w="0">
            <a:noFill/>
          </a:ln>
        </p:spPr>
      </p:pic>
      <p:cxnSp>
        <p:nvCxnSpPr>
          <p:cNvPr id="467" name="Straight Arrow Connector 6"/>
          <p:cNvCxnSpPr/>
          <p:nvPr/>
        </p:nvCxnSpPr>
        <p:spPr>
          <a:xfrm>
            <a:off x="4494600" y="1812600"/>
            <a:ext cx="972360" cy="2726280"/>
          </a:xfrm>
          <a:prstGeom prst="straightConnector1">
            <a:avLst/>
          </a:prstGeom>
          <a:ln w="6336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1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0540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560" y="155412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sight of a peacock’s tail makes me sick.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2489040" y="3124080"/>
            <a:ext cx="4318200" cy="3238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"/>
          <p:cNvPicPr/>
          <p:nvPr/>
        </p:nvPicPr>
        <p:blipFill>
          <a:blip r:embed="rId4"/>
          <a:stretch/>
        </p:blipFill>
        <p:spPr>
          <a:xfrm>
            <a:off x="6350040" y="1554120"/>
            <a:ext cx="25398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aries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(2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Produce eggs and sex hormone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Each month, the female reproductive system prepares for a possible pregnancy by producing a mature egg cell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At birth, female has all the eggs she will ever have, ~ 2 mill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At puberty (sexual maturity) one immature egg matures every 28 days and is released into the oviduct (fallopian tubes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ature egg is called an ovum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In the lifetime of a female, only 300–400 eggs will matur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3"/>
          <a:stretch/>
        </p:blipFill>
        <p:spPr>
          <a:xfrm>
            <a:off x="4699080" y="1600200"/>
            <a:ext cx="4444920" cy="3137040"/>
          </a:xfrm>
          <a:prstGeom prst="rect">
            <a:avLst/>
          </a:prstGeom>
          <a:ln w="0">
            <a:noFill/>
          </a:ln>
        </p:spPr>
      </p:pic>
      <p:cxnSp>
        <p:nvCxnSpPr>
          <p:cNvPr id="415" name="Straight Arrow Connector 6"/>
          <p:cNvCxnSpPr/>
          <p:nvPr/>
        </p:nvCxnSpPr>
        <p:spPr>
          <a:xfrm>
            <a:off x="4494600" y="1812960"/>
            <a:ext cx="1110600" cy="1302480"/>
          </a:xfrm>
          <a:prstGeom prst="straightConnector1">
            <a:avLst/>
          </a:prstGeom>
          <a:ln w="6336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Fallopian Tubes (Oviducts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Cilia sweep ovum into the fallopian tub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Passageway – leads ovum from the ovary to the uteru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mooth muscle contractions move ovum towards the uteru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Journey takes 3–4 day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ite of fertiliz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f the ovum is not fertilized in 1–2 days, it die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3"/>
          <a:stretch/>
        </p:blipFill>
        <p:spPr>
          <a:xfrm>
            <a:off x="4699080" y="1600200"/>
            <a:ext cx="4444920" cy="3137040"/>
          </a:xfrm>
          <a:prstGeom prst="rect">
            <a:avLst/>
          </a:prstGeom>
          <a:ln w="0">
            <a:noFill/>
          </a:ln>
        </p:spPr>
      </p:pic>
      <p:cxnSp>
        <p:nvCxnSpPr>
          <p:cNvPr id="419" name="Straight Arrow Connector 7"/>
          <p:cNvCxnSpPr/>
          <p:nvPr/>
        </p:nvCxnSpPr>
        <p:spPr>
          <a:xfrm>
            <a:off x="4495320" y="1812960"/>
            <a:ext cx="802440" cy="248400"/>
          </a:xfrm>
          <a:prstGeom prst="straightConnector1">
            <a:avLst/>
          </a:prstGeom>
          <a:ln w="6336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Uteru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Hollow, muscular organ (size of a fist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f ovum is fertilized, implants in wall of uterus – pregnancy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f not fertilized, ovum disintegrates within 24 hours after ovulation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3"/>
          <a:stretch/>
        </p:blipFill>
        <p:spPr>
          <a:xfrm>
            <a:off x="4699080" y="1600200"/>
            <a:ext cx="4444920" cy="3137040"/>
          </a:xfrm>
          <a:prstGeom prst="rect">
            <a:avLst/>
          </a:prstGeom>
          <a:ln w="0">
            <a:noFill/>
          </a:ln>
        </p:spPr>
      </p:pic>
      <p:cxnSp>
        <p:nvCxnSpPr>
          <p:cNvPr id="423" name="Straight Arrow Connector 6"/>
          <p:cNvCxnSpPr/>
          <p:nvPr/>
        </p:nvCxnSpPr>
        <p:spPr>
          <a:xfrm>
            <a:off x="4495320" y="1812600"/>
            <a:ext cx="1963080" cy="835560"/>
          </a:xfrm>
          <a:prstGeom prst="straightConnector1">
            <a:avLst/>
          </a:prstGeom>
          <a:ln w="6336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ervix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Narrow portion at the bottom of uteru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Provides opening to uterus from vagin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3"/>
          <a:stretch/>
        </p:blipFill>
        <p:spPr>
          <a:xfrm>
            <a:off x="4699080" y="1600200"/>
            <a:ext cx="4444920" cy="3137040"/>
          </a:xfrm>
          <a:prstGeom prst="rect">
            <a:avLst/>
          </a:prstGeom>
          <a:ln w="0">
            <a:noFill/>
          </a:ln>
        </p:spPr>
      </p:pic>
      <p:cxnSp>
        <p:nvCxnSpPr>
          <p:cNvPr id="427" name="Straight Arrow Connector 6"/>
          <p:cNvCxnSpPr/>
          <p:nvPr/>
        </p:nvCxnSpPr>
        <p:spPr>
          <a:xfrm>
            <a:off x="4495320" y="1812600"/>
            <a:ext cx="2288520" cy="2059560"/>
          </a:xfrm>
          <a:prstGeom prst="straightConnector1">
            <a:avLst/>
          </a:prstGeom>
          <a:ln w="6336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agin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muscular tube that</a:t>
            </a:r>
            <a:br>
              <a:rPr sz="2400"/>
            </a:b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leads from the outside of the body to the uteru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irth canal through which infants pass when bor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4699080" y="1600200"/>
            <a:ext cx="4444920" cy="3137040"/>
          </a:xfrm>
          <a:prstGeom prst="rect">
            <a:avLst/>
          </a:prstGeom>
          <a:ln w="0">
            <a:noFill/>
          </a:ln>
        </p:spPr>
      </p:pic>
      <p:cxnSp>
        <p:nvCxnSpPr>
          <p:cNvPr id="431" name="Straight Arrow Connector 6"/>
          <p:cNvCxnSpPr/>
          <p:nvPr/>
        </p:nvCxnSpPr>
        <p:spPr>
          <a:xfrm>
            <a:off x="4494600" y="1812600"/>
            <a:ext cx="2459880" cy="2726280"/>
          </a:xfrm>
          <a:prstGeom prst="straightConnector1">
            <a:avLst/>
          </a:prstGeom>
          <a:ln w="6336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5" descr="Screen shot 2012-02-12 at 3.15.04 PM.png"/>
          <p:cNvPicPr/>
          <p:nvPr/>
        </p:nvPicPr>
        <p:blipFill>
          <a:blip r:embed="rId2"/>
          <a:stretch/>
        </p:blipFill>
        <p:spPr>
          <a:xfrm>
            <a:off x="4716360" y="1592280"/>
            <a:ext cx="4427640" cy="4200480"/>
          </a:xfrm>
          <a:prstGeom prst="rect">
            <a:avLst/>
          </a:prstGeom>
          <a:ln w="0">
            <a:noFill/>
          </a:ln>
        </p:spPr>
      </p:pic>
      <p:pic>
        <p:nvPicPr>
          <p:cNvPr id="433" name="Title 1" descr=""/>
          <p:cNvPicPr/>
          <p:nvPr/>
        </p:nvPicPr>
        <p:blipFill>
          <a:blip r:embed="rId3"/>
          <a:stretch/>
        </p:blipFill>
        <p:spPr>
          <a:xfrm>
            <a:off x="298440" y="45072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estes or testicles (2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gg–shaped organs where sperm is produce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estes form in the abdominal cavity then move down into the scrotum either before or shortly after birth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ypical male produces several hundred million sperm each da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cxnSp>
        <p:nvCxnSpPr>
          <p:cNvPr id="435" name="Straight Arrow Connector 6"/>
          <p:cNvCxnSpPr/>
          <p:nvPr/>
        </p:nvCxnSpPr>
        <p:spPr>
          <a:xfrm>
            <a:off x="4494600" y="1812600"/>
            <a:ext cx="1653480" cy="3221640"/>
          </a:xfrm>
          <a:prstGeom prst="straightConnector1">
            <a:avLst/>
          </a:prstGeom>
          <a:ln w="6336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5" descr="Screen shot 2012-02-12 at 3.15.04 PM.png"/>
          <p:cNvPicPr/>
          <p:nvPr/>
        </p:nvPicPr>
        <p:blipFill>
          <a:blip r:embed="rId2"/>
          <a:stretch/>
        </p:blipFill>
        <p:spPr>
          <a:xfrm>
            <a:off x="4716360" y="1592280"/>
            <a:ext cx="4427640" cy="4200480"/>
          </a:xfrm>
          <a:prstGeom prst="rect">
            <a:avLst/>
          </a:prstGeom>
          <a:ln w="0">
            <a:noFill/>
          </a:ln>
        </p:spPr>
      </p:pic>
      <p:pic>
        <p:nvPicPr>
          <p:cNvPr id="437" name="Title 1" descr=""/>
          <p:cNvPicPr/>
          <p:nvPr/>
        </p:nvPicPr>
        <p:blipFill>
          <a:blip r:embed="rId3"/>
          <a:stretch/>
        </p:blipFill>
        <p:spPr>
          <a:xfrm>
            <a:off x="298440" y="450720"/>
            <a:ext cx="8693280" cy="10540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crotu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ternal skin sac that regulates temperature for sperm produc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37˚C (98˚F) – Normal body temperature. Too high for sperm to complete developmen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he scrotum is 3˚C cooler and ideal temperature for sperm developmen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cxnSp>
        <p:nvCxnSpPr>
          <p:cNvPr id="439" name="Straight Arrow Connector 6"/>
          <p:cNvCxnSpPr/>
          <p:nvPr/>
        </p:nvCxnSpPr>
        <p:spPr>
          <a:xfrm>
            <a:off x="4494600" y="1812600"/>
            <a:ext cx="1421640" cy="3221640"/>
          </a:xfrm>
          <a:prstGeom prst="straightConnector1">
            <a:avLst/>
          </a:prstGeom>
          <a:ln w="6336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20:29:32Z</dcterms:created>
  <dc:creator>Patriot</dc:creator>
  <dc:description/>
  <dc:language>en-US</dc:language>
  <cp:lastModifiedBy>Patriot</cp:lastModifiedBy>
  <dcterms:modified xsi:type="dcterms:W3CDTF">2012-02-15T14:31:18Z</dcterms:modified>
  <cp:revision>28</cp:revision>
  <dc:subject/>
  <dc:title>Male and Female Anatomy</dc:title>
</cp:coreProperties>
</file>