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0D1E2-272A-48AA-A1DA-9F33A959E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44644-787B-47B2-8C6C-F683536B9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937B9-C72B-4546-BF04-741F2A9A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66B39-4DC3-43A2-B2A5-2D64EF3A6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559-F09D-42DB-A316-15A2D078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A42-F378-4F0B-B008-D8709FDA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43F8C-4220-44CA-8779-0D7AAFA2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619F2-7E02-4DFC-96E5-C785404A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6DA3B-67C7-4BC9-888E-1C3AD693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96A9B-676F-462F-9836-F4514AA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C4F8B-B243-475C-824D-1FA3B71A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0B79D-54B7-4710-BFC8-5EEFD3C0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63E2B-4B08-4852-B069-77A05D24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2D8B1-2597-42B0-BD5F-3C09180E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00842-1EE8-4935-9CA5-2ACE93A3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ED5-2DE0-4169-98EA-850BBF21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7E3-8DF6-452D-BFBD-72ABA6D9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6ED9-CDAE-4626-942B-02C58A63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BF59-65D6-4C7B-8FDA-12E4769A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186E-A238-4ADE-BBFE-AA17EF3C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AFDC-E410-492B-A50D-53A230BC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7258-1FDA-4E15-966C-F56BC5D0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C555-3BE9-4C32-9F55-63BC0817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B216-AE82-4B3F-85E7-65050ED4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BFC-DB3D-4807-9A29-2E075FFC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CA30-C383-45D7-8346-172F3762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A517-3918-4020-9A1F-90C97B3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D2DA-8E1B-4F67-BE6C-A9DB65C1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F668-8262-4E7D-BBFA-E64AC7E8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1045-6110-4EBA-9C94-ADA2A226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CC3E1-F911-482A-942A-0E87762E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6FB5-8774-428A-B0FC-AB4A1304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226C-1BC6-4E57-AC7A-86C6E969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26A1-BADA-41F4-8D13-4F92804A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1D718-4C44-4B15-B3D2-C40501C3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1D5-1FC5-4631-9DFC-B57E8DDC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2478-BDDA-49BB-B02B-B032B8D8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86F5-7A0F-4B01-B617-10599B42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B2DD-2770-45A7-9DAE-8D9F215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B18DE-06BD-459D-A05E-1194F63D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6F59-0E7E-4FF8-A625-0270C4E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13DA6-CD5F-49E9-8D00-CD55970B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FC5C-A587-4921-B734-F20585E1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F9921-7ED4-44FE-A53B-A64E0CB7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EC84-46EC-4FA9-B818-900152AF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C08F0-C88A-44D6-80C5-675788B0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7B4-8A97-45D4-93D8-04505D79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4418-4605-4E04-9772-ACF3B2B6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01416-23B6-470B-948C-1B21E372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8C75A-5ED1-4B40-B96E-B7B496C1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9EA8-97B4-4184-84A3-607310BA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8506-2B81-463D-8D37-12AEB6DE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A45FD-FE55-4ECB-B7CA-15E51989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8BED-195D-42AC-B70A-00689B95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5DBF1-BBE2-4026-BD75-D5C3C09F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3529-E71E-4E74-975F-6E97D400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2CEFE-750F-47B0-B343-BCD477C2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139-2301-4DFD-BC32-D41960C9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AB5D3-5B6F-4D0F-9FAB-3B2256D6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A6CB-EE04-4C6D-AC5F-3EC56F79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367D7-B19E-4B46-9288-EE72A2E8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F8D6-11EE-45C7-9B5B-DE954387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C0B60-FAFA-48B0-8232-D7C74A0A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DEF6-1908-4277-913D-1CD2EF33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B981B-E25B-42C9-AE2C-2AEACA4D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0775-E69E-4750-AFA2-D1BC8B8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0B7C-71B7-4BA7-BBF2-C5B21CB5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44A05-A156-4370-981C-48CA88E2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7BA-1AC4-4A3E-965D-9D1B5345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C3461-25D6-41D0-B55B-D03EF108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C6CB1-AB04-471F-B165-75269FA9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1E3A0-C39A-4188-ABF9-509DA0AE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848E1-29E9-46F5-9062-A61D6CD3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2301-3557-4156-A8B5-FB27DF2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5C654-E823-4E86-B6ED-3B657D97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62320-F59B-40FA-B57F-413E3252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601BC-EE06-496F-B313-5EDB3CD0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CFF4A-B960-49D2-9100-582D990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ADF4-8205-4EDB-920D-6F8A8C42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7A4-2C50-4459-AE50-D05ECEA7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56978-471C-4CF7-BE82-562E09ED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0FF6-DBED-40FE-9169-A88F4C2C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91C62-BDE6-44BA-8715-E8E1FAAB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AE1D-1A28-41B9-93EE-21F30883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311D4-005E-4B48-ACFB-04D2D4DA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045D4-69BA-4181-B79D-B3BC8FCA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0A3F6-907E-4E32-86EF-59C6939D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B12CD-E6B5-4E5A-A5CE-7C948706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DE775-6151-41A2-88CA-808470E9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9C21F-A0E6-4572-B02A-89EB7240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D84-2CEB-4524-986E-78AA6566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2CD5B-E784-4268-BCE2-9EC23D73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44FB3-C531-408B-8ED5-36BCB77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6367E-19A5-4818-88BA-D11B454D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1FB4B-EB53-45D1-92C5-32A052F0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9FD45-8118-43A4-95A9-0A152A49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8180E-B00A-47B8-A176-04F94030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C0879-BE6E-4FD8-995B-704546DB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8E17-224E-4C96-8BE9-278DC16A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40B2E-66D8-4F5A-93D2-5E3B4643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EAB50-17A7-439B-B5C7-D56DC023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002-71E4-4EF4-A0B3-4E9F9B8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8C937-2424-4AA1-8035-A94C0905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5A668-0C87-41A4-A80D-A1CA859D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043D8-B5B8-42A0-A42C-35F9CC25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858BD-D0CA-4101-9523-F301345D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61BBE-FC29-44BD-AF83-07380B89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3942-BAEF-4D49-A1A7-1891B4DB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B5E6C-69B0-4F84-A5CA-B4D7D562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4840B-3494-496A-AF5B-2DD8EAF1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F31F7-2F79-41BF-BBE8-742E9E45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B8548-3539-452B-957A-BDEA98FF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1B7AE-7078-4A0A-9216-2FC06C22419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D1B41-7061-4401-BFD6-0AFB0CFF0E8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B8EC4-5861-45D4-8187-B6C89565A0EF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63C21-E4CF-42E8-840E-919BDEB1AE3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EE80E-9804-4672-9E87-C6046BE5EA0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F7A96-C1D7-40B6-A2F1-5E3EDF62EFE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C0D68-B61B-4D16-989D-1BFB2CFE035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4B536-3610-456C-966D-D5F6E463EA4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A7EA1-0D62-4D4F-B1E8-9A94DFD14EE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C7FF2-5EC9-490E-9CF5-1737C59B3D5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2ED4D-85A6-4B3B-9E9D-E2FA4BAF352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CACFC-81ED-4CF5-AFA1-650E9302608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8FB86-A92D-4E1E-A0FF-899877B30D7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43046-28C9-4357-9510-2B678350F08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6179D-F85E-4D21-9C4A-6C16188ACBC5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DD3DB-50F2-44AC-ABA4-F95C1FE7D19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C5540-9D4B-4CF7-A537-5EED461A5A8D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FF438-87D9-4D46-AE44-5AB96FF85D7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2"/>
          <a:stretch/>
        </p:blipFill>
        <p:spPr>
          <a:xfrm>
            <a:off x="378000" y="4846680"/>
            <a:ext cx="8467560" cy="1498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Accelerated Biolog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miniferous Tubul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00’s of tightly coiled tubules located in the testes where sperm is produced through meiosi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Luteinizing Hormone (LH), released by the pituitary gland, stimulates the secretion of testostero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llicle Stimulating Hormone (FSH) and testosterone stimulate sperm produc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43" name="Straight Arrow Connector 5"/>
          <p:cNvCxnSpPr/>
          <p:nvPr/>
        </p:nvCxnSpPr>
        <p:spPr>
          <a:xfrm>
            <a:off x="4494600" y="1812600"/>
            <a:ext cx="1653480" cy="322164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pididymis (2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fter being produced in the seminiferous tubules, sperm travel to the epdidymis, where they matur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te where sperm are stor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6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47" name="Straight Arrow Connector 6"/>
          <p:cNvCxnSpPr/>
          <p:nvPr/>
        </p:nvCxnSpPr>
        <p:spPr>
          <a:xfrm>
            <a:off x="4494600" y="1812600"/>
            <a:ext cx="1793160" cy="292788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as Deferens (2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ong tube that connects the epididymis to the urethr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0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51" name="Straight Arrow Connector 6"/>
          <p:cNvCxnSpPr/>
          <p:nvPr/>
        </p:nvCxnSpPr>
        <p:spPr>
          <a:xfrm>
            <a:off x="4495320" y="1812600"/>
            <a:ext cx="2164680" cy="71172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rethr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perm leave the body by passing through the urethr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ame duct through which urine exits the bod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 sperm pass through the urethra, they mix with fluids secreted by 3 exocrine glands; seminal vesicles, prostate gland, and the bulbourethral glan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4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55" name="Straight Arrow Connector 6"/>
          <p:cNvCxnSpPr/>
          <p:nvPr/>
        </p:nvCxnSpPr>
        <p:spPr>
          <a:xfrm>
            <a:off x="4494600" y="1812600"/>
            <a:ext cx="1297800" cy="246276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304560" y="1631880"/>
            <a:ext cx="4190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minal Vesic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ocated between the bladder and the rectu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oduce a fluid rich in sugars that sperm use for energ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8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59" name="Straight Arrow Connector 6"/>
          <p:cNvCxnSpPr/>
          <p:nvPr/>
        </p:nvCxnSpPr>
        <p:spPr>
          <a:xfrm>
            <a:off x="4495320" y="1812960"/>
            <a:ext cx="2815560" cy="150264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ostrate Glan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ocated below the bladd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retes an alkaline (basic) fluid that neutralizes the acids in the female reproductive syste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63" name="Straight Arrow Connector 6"/>
          <p:cNvCxnSpPr/>
          <p:nvPr/>
        </p:nvCxnSpPr>
        <p:spPr>
          <a:xfrm>
            <a:off x="4495320" y="1812600"/>
            <a:ext cx="2258280" cy="185796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en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eposits sperm in the female reproductive system during sexual intercour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ntains spongy tissue. When the spaces in this tissue fill with blood, the penis becomes erect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6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67" name="Straight Arrow Connector 6"/>
          <p:cNvCxnSpPr/>
          <p:nvPr/>
        </p:nvCxnSpPr>
        <p:spPr>
          <a:xfrm>
            <a:off x="4494600" y="1812600"/>
            <a:ext cx="972360" cy="272628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560" y="15541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sight of a peacock’s tail makes me sick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2489040" y="3124080"/>
            <a:ext cx="4318200" cy="3238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4"/>
          <a:stretch/>
        </p:blipFill>
        <p:spPr>
          <a:xfrm>
            <a:off x="6350040" y="1554120"/>
            <a:ext cx="25398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aries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(2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roduce eggs and sex hormon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month, the female reproductive system prepares for a possible pregnancy by producing a mature egg cell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t birth, female has all the eggs she will ever have, ~ 2 mill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t puberty (sexual maturity) one immature egg matures every 28 days and is released into the oviduct (fallopian tubes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ature egg is called an ovu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In the lifetime of a female, only 300–400 eggs will matur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15" name="Straight Arrow Connector 6"/>
          <p:cNvCxnSpPr/>
          <p:nvPr/>
        </p:nvCxnSpPr>
        <p:spPr>
          <a:xfrm>
            <a:off x="4494600" y="1812960"/>
            <a:ext cx="1110600" cy="130248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allopian Tubes (Oviducts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ilia sweep ovum into the fallopian tub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assageway – leads ovum from the ovary to the uteru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mooth muscle contractions move ovum towards the uteru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Journey takes 3–4 day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ite of fertiliz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the ovum is not fertilized in 1–2 days, it di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19" name="Straight Arrow Connector 7"/>
          <p:cNvCxnSpPr/>
          <p:nvPr/>
        </p:nvCxnSpPr>
        <p:spPr>
          <a:xfrm>
            <a:off x="4495320" y="1812960"/>
            <a:ext cx="802440" cy="24840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teru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Hollow, muscular organ (size of a fist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ovum is fertilized, implants in wall of uterus – pregnanc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not fertilized, ovum disintegrates within 24 hours after ovu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23" name="Straight Arrow Connector 6"/>
          <p:cNvCxnSpPr/>
          <p:nvPr/>
        </p:nvCxnSpPr>
        <p:spPr>
          <a:xfrm>
            <a:off x="4495320" y="1812600"/>
            <a:ext cx="1963080" cy="83556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rvix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arrow portion at the bottom of uteru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ovides opening to uterus from vagin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27" name="Straight Arrow Connector 6"/>
          <p:cNvCxnSpPr/>
          <p:nvPr/>
        </p:nvCxnSpPr>
        <p:spPr>
          <a:xfrm>
            <a:off x="4495320" y="1812600"/>
            <a:ext cx="2288520" cy="205956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agin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uscular tube that</a:t>
            </a:r>
            <a:br>
              <a:rPr sz="2400"/>
            </a:b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eads from the outside of the body to the uteru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irth canal through which infants pass when bor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31" name="Straight Arrow Connector 6"/>
          <p:cNvCxnSpPr/>
          <p:nvPr/>
        </p:nvCxnSpPr>
        <p:spPr>
          <a:xfrm>
            <a:off x="4494600" y="1812600"/>
            <a:ext cx="2459880" cy="272628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5" descr="Screen shot 2012-02-12 at 3.15.04 PM.png"/>
          <p:cNvPicPr/>
          <p:nvPr/>
        </p:nvPicPr>
        <p:blipFill>
          <a:blip r:embed="rId2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pic>
        <p:nvPicPr>
          <p:cNvPr id="433" name="Title 1" descr=""/>
          <p:cNvPicPr/>
          <p:nvPr/>
        </p:nvPicPr>
        <p:blipFill>
          <a:blip r:embed="rId3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stes or testicles (2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gg–shaped organs where sperm is produc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stes form in the abdominal cavity then move down into the scrotum either before or shortly after bir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ypical male produces several hundred million sperm each da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cxnSp>
        <p:nvCxnSpPr>
          <p:cNvPr id="435" name="Straight Arrow Connector 6"/>
          <p:cNvCxnSpPr/>
          <p:nvPr/>
        </p:nvCxnSpPr>
        <p:spPr>
          <a:xfrm>
            <a:off x="4494600" y="1812600"/>
            <a:ext cx="1653480" cy="322164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5" descr="Screen shot 2012-02-12 at 3.15.04 PM.png"/>
          <p:cNvPicPr/>
          <p:nvPr/>
        </p:nvPicPr>
        <p:blipFill>
          <a:blip r:embed="rId2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pic>
        <p:nvPicPr>
          <p:cNvPr id="437" name="Title 1" descr=""/>
          <p:cNvPicPr/>
          <p:nvPr/>
        </p:nvPicPr>
        <p:blipFill>
          <a:blip r:embed="rId3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crotu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ternal skin sac that regulates temperature for sperm p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37˚C (98˚F) – Normal body temperature. Too high for sperm to complete develop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e scrotum is 3˚C cooler and ideal temperature for sperm develop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cxnSp>
        <p:nvCxnSpPr>
          <p:cNvPr id="439" name="Straight Arrow Connector 6"/>
          <p:cNvCxnSpPr/>
          <p:nvPr/>
        </p:nvCxnSpPr>
        <p:spPr>
          <a:xfrm>
            <a:off x="4494600" y="1812600"/>
            <a:ext cx="1421640" cy="322164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20:29:32Z</dcterms:created>
  <dc:creator>Patriot</dc:creator>
  <dc:description/>
  <dc:language>en-US</dc:language>
  <cp:lastModifiedBy>Patriot</cp:lastModifiedBy>
  <dcterms:modified xsi:type="dcterms:W3CDTF">2012-02-15T14:31:18Z</dcterms:modified>
  <cp:revision>28</cp:revision>
  <dc:subject/>
  <dc:title>Male and Female Anatomy</dc:title>
</cp:coreProperties>
</file>