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nutrients transported by osmosis and diffusion – can only move material short di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gametophyte (dominant gene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allows them to grow l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poroph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protect plant, provide nutrients, permit them to survive long periods of unfavorable conditions, allow for dispersal far from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ly Reduced Gamet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 = 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 = form with the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protect plant, provide nutrients, permit them to survive long periods of unfavorable conditions, allow for dispersal far from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ly Reduced Gamet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gametophyte = 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gametophyte = form with the s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cent group of plants to evolve. Most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mote pollination and fertilization. Bright colors and strong scents attract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s main function is to promote seed disper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nin is the main component of 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icle slows down the gas exchange of CO2 and O2 between the surrounding air and the in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957240"/>
            <a:ext cx="9132840" cy="5888160"/>
            <a:chOff x="0" y="957240"/>
            <a:chExt cx="9132840" cy="5888160"/>
          </a:xfrm>
        </p:grpSpPr>
        <p:sp>
          <p:nvSpPr>
            <p:cNvPr id="1" name="Rectangle 2"/>
            <p:cNvSpPr/>
            <p:nvPr/>
          </p:nvSpPr>
          <p:spPr>
            <a:xfrm>
              <a:off x="0" y="6172200"/>
              <a:ext cx="9131400" cy="673200"/>
            </a:xfrm>
            <a:prstGeom prst="rect">
              <a:avLst/>
            </a:prstGeom>
            <a:gradFill rotWithShape="0">
              <a:gsLst>
                <a:gs pos="0">
                  <a:srgbClr val="006d00"/>
                </a:gs>
                <a:gs pos="100000">
                  <a:srgbClr val="003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13"/>
            <p:cNvGrpSpPr/>
            <p:nvPr/>
          </p:nvGrpSpPr>
          <p:grpSpPr>
            <a:xfrm>
              <a:off x="0" y="957240"/>
              <a:ext cx="9132840" cy="5654520"/>
              <a:chOff x="0" y="957240"/>
              <a:chExt cx="9132840" cy="5654520"/>
            </a:xfrm>
          </p:grpSpPr>
          <p:grpSp>
            <p:nvGrpSpPr>
              <p:cNvPr id="3" name="Group 11"/>
              <p:cNvGrpSpPr/>
              <p:nvPr/>
            </p:nvGrpSpPr>
            <p:grpSpPr>
              <a:xfrm>
                <a:off x="2890800" y="957240"/>
                <a:ext cx="4816440" cy="4568760"/>
                <a:chOff x="2890800" y="957240"/>
                <a:chExt cx="4816440" cy="4568760"/>
              </a:xfrm>
            </p:grpSpPr>
            <p:grpSp>
              <p:nvGrpSpPr>
                <p:cNvPr id="4" name="Group 9"/>
                <p:cNvGrpSpPr/>
                <p:nvPr/>
              </p:nvGrpSpPr>
              <p:grpSpPr>
                <a:xfrm>
                  <a:off x="3508200" y="957240"/>
                  <a:ext cx="4199040" cy="3968640"/>
                  <a:chOff x="3508200" y="957240"/>
                  <a:chExt cx="4199040" cy="3968640"/>
                </a:xfrm>
              </p:grpSpPr>
              <p:sp>
                <p:nvSpPr>
                  <p:cNvPr id="5" name="Freeform 3"/>
                  <p:cNvSpPr/>
                  <p:nvPr/>
                </p:nvSpPr>
                <p:spPr>
                  <a:xfrm>
                    <a:off x="3508200" y="961920"/>
                    <a:ext cx="2203560" cy="177336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4"/>
                  <p:cNvSpPr/>
                  <p:nvPr/>
                </p:nvSpPr>
                <p:spPr>
                  <a:xfrm>
                    <a:off x="3747960" y="2489040"/>
                    <a:ext cx="1712880" cy="243684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Freeform 5"/>
                  <p:cNvSpPr/>
                  <p:nvPr/>
                </p:nvSpPr>
                <p:spPr>
                  <a:xfrm>
                    <a:off x="5089680" y="957240"/>
                    <a:ext cx="1601640" cy="396072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Freeform 6"/>
                  <p:cNvSpPr/>
                  <p:nvPr/>
                </p:nvSpPr>
                <p:spPr>
                  <a:xfrm>
                    <a:off x="5506920" y="1647720"/>
                    <a:ext cx="2200320" cy="177480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7"/>
                  <p:cNvSpPr/>
                  <p:nvPr/>
                </p:nvSpPr>
                <p:spPr>
                  <a:xfrm>
                    <a:off x="5800680" y="2919240"/>
                    <a:ext cx="565200" cy="125748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Freeform 8"/>
                  <p:cNvSpPr/>
                  <p:nvPr/>
                </p:nvSpPr>
                <p:spPr>
                  <a:xfrm>
                    <a:off x="5662440" y="3240000"/>
                    <a:ext cx="1714680" cy="1665360"/>
                  </a:xfrm>
                  <a:prstGeom prst="pie">
                    <a:avLst/>
                  </a:prstGeom>
                  <a:solidFill>
                    <a:srgbClr val="006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" name="Freeform 10"/>
                <p:cNvSpPr/>
                <p:nvPr/>
              </p:nvSpPr>
              <p:spPr>
                <a:xfrm>
                  <a:off x="2890800" y="4443480"/>
                  <a:ext cx="1195560" cy="1082520"/>
                </a:xfrm>
                <a:prstGeom prst="pie">
                  <a:avLst/>
                </a:prstGeom>
                <a:solidFill>
                  <a:srgbClr val="006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" name="Freeform 12"/>
              <p:cNvSpPr/>
              <p:nvPr/>
            </p:nvSpPr>
            <p:spPr>
              <a:xfrm>
                <a:off x="0" y="4848120"/>
                <a:ext cx="9132840" cy="1763640"/>
              </a:xfrm>
              <a:prstGeom prst="pie">
                <a:avLst/>
              </a:prstGeom>
              <a:solidFill>
                <a:srgbClr val="00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diversityoflife/seedlessplant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diversityoflife/seedplants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The Plant Kingdom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s of the Pla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inuing adapta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rns, poison, bad taste, etc.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rd off pred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ody tissu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d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tected/distributed in 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Bryophy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–vascular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for sexual re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erw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w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bryophyte"/>
          <p:cNvPicPr/>
          <p:nvPr/>
        </p:nvPicPr>
        <p:blipFill>
          <a:blip r:embed="rId1"/>
          <a:stretch/>
        </p:blipFill>
        <p:spPr>
          <a:xfrm>
            <a:off x="1143000" y="3733920"/>
            <a:ext cx="2971800" cy="19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shona_urban_concrete1_crop2"/>
          <p:cNvPicPr/>
          <p:nvPr/>
        </p:nvPicPr>
        <p:blipFill>
          <a:blip r:embed="rId2"/>
          <a:stretch/>
        </p:blipFill>
        <p:spPr>
          <a:xfrm>
            <a:off x="5105520" y="3733920"/>
            <a:ext cx="29718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Teraphyte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eedless Vascular P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needed for fer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ught–resistant sp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b Mo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s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105520" y="3935520"/>
            <a:ext cx="23619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Gymnosperms (+ see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ymnos = na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erma = s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 poll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loid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i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c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netoph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114800" y="4648320"/>
            <a:ext cx="2438280" cy="190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6781680" y="4191120"/>
            <a:ext cx="203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Gymnosper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allest living plants are the redwoods of California and Ore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ldest trees in the world are the bristlecone pines. Some are ~5,000 years ol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ngiosperm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geion = c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perma = s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sp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e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ato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267080" y="4267080"/>
            <a:ext cx="245124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7221600" y="3276720"/>
            <a:ext cx="19224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Evolution of Pla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914400" y="2362320"/>
            <a:ext cx="7467120" cy="3809520"/>
            <a:chOff x="914400" y="2362320"/>
            <a:chExt cx="7467120" cy="3809520"/>
          </a:xfrm>
        </p:grpSpPr>
        <p:sp>
          <p:nvSpPr>
            <p:cNvPr id="101" name="Text Box 3"/>
            <p:cNvSpPr/>
            <p:nvPr/>
          </p:nvSpPr>
          <p:spPr>
            <a:xfrm>
              <a:off x="914400" y="525240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Bryophy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3818520" y="433296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Seedles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5892480" y="433296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Seed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3714840" y="525240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Pterophy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5166720" y="525240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Gymnosper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6722280" y="525240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Angiosper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884680" y="2362320"/>
              <a:ext cx="1659240" cy="65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Plant Kingdo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914400" y="341316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Non-vascular Pla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4751640" y="3413160"/>
              <a:ext cx="16592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mbria"/>
                </a:rPr>
                <a:t>Tracheophy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>
              <a:off x="1640160" y="3150360"/>
              <a:ext cx="40449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>
              <a:off x="1640160" y="3150360"/>
              <a:ext cx="0" cy="39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5685120" y="3150360"/>
              <a:ext cx="0" cy="393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3610800" y="2756160"/>
              <a:ext cx="0" cy="394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1640160" y="4332960"/>
              <a:ext cx="0" cy="1050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4544280" y="4201560"/>
              <a:ext cx="217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4544280" y="420156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6722280" y="420156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685120" y="393876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544280" y="4858560"/>
              <a:ext cx="0" cy="52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892480" y="5121000"/>
              <a:ext cx="176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1440" bIns="-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892480" y="512100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7655760" y="512100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>
              <a:off x="6722280" y="4858560"/>
              <a:ext cx="0" cy="262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Other ways to classify pla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– taller plants need vascular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ody plants (trees, shrubs, vi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baceous plants (flowers, gra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oduction (seeds or no seeds, fruit vs. c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s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year life span (petunia, impati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ennia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year life span (hollyhoc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ennial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e many years (trees, lilies, ro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Why study/preserve plants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 you ca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eathe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lants process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d give off 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t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ll food was made because of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energy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cient plants formed co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raw material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otton to l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eate new medicines/drug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non-stop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ve money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n home heating and coo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ess your girlfrien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hey like rose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ve nice landscaping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mpress neighbors and  increase property value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ow/stop/reverse global warming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rocess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 a good steward of the environmen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hallenges of Life on Lan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ing resources from two places at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ing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loa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ing moi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afd00"/>
              </a:buClr>
              <a:buSzPct val="75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Obtaining Resources From Two Places at Once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required for photosynthetic plant are found in air and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 and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above 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and minerals found below gro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 – Vascula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Staying </a:t>
            </a:r>
            <a:r>
              <a:rPr b="0" lang="ja-JP" sz="44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Afloat</a:t>
            </a:r>
            <a:r>
              <a:rPr b="0" lang="ja-JP" sz="4400" spc="-1" strike="noStrike">
                <a:solidFill>
                  <a:srgbClr val="fafd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in Air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does not provide support to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stand upright because they contain strong and rigid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 – Lignin: chemical that hardens the plant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Maintaining Moisture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lants are exposed to dry air, but cellular processes must still take place in an aqueous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 – Cuticle: waxy surface that coats the leaves, helping the plant body retain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ation – Stomata: microscopic pores that allow for gas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Reproducing on Land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must keep their gametes and developing offspring from drying out in the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s must have some means for dispersal other than water 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tion – Production of gametes in protective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rm travel within po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bryos are eventually dispersed as seeds, enclosed in protective co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762120" y="533520"/>
            <a:ext cx="7467480" cy="914400"/>
          </a:xfrm>
          <a:prstGeom prst="rect">
            <a:avLst/>
          </a:prstGeom>
          <a:solidFill>
            <a:srgbClr val="dc0081"/>
          </a:solidFill>
          <a:ln w="507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15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a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plants develope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ascular T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scular tissue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of tubes to move water and nutrients (plants have leaves, stems, and ro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00"/>
            </a:gs>
            <a:gs pos="100000">
              <a:srgbClr val="006d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762120" y="533520"/>
            <a:ext cx="7467480" cy="914400"/>
          </a:xfrm>
          <a:prstGeom prst="rect">
            <a:avLst/>
          </a:prstGeom>
          <a:solidFill>
            <a:srgbClr val="dc0081"/>
          </a:solidFill>
          <a:ln w="50760">
            <a:solidFill>
              <a:srgbClr val="fafd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603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daptation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3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Arial"/>
              </a:rPr>
              <a:t>2.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utic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surface of plant covered with this waxy layer to reduce water lo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3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Arial"/>
              </a:rPr>
              <a:t>3.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por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 more effective way to reprodu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00:10:02Z</dcterms:created>
  <dc:creator>Brett Erdmann</dc:creator>
  <dc:description/>
  <dc:language>en-US</dc:language>
  <cp:lastModifiedBy>Patriot</cp:lastModifiedBy>
  <dcterms:modified xsi:type="dcterms:W3CDTF">2012-04-30T15:51:07Z</dcterms:modified>
  <cp:revision>69</cp:revision>
  <dc:subject/>
  <dc:title>Early Land Plants</dc:title>
</cp:coreProperties>
</file>