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50470-FA28-4CDB-9030-51A9F2F1B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7200" y="4239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91924-7182-40C5-9219-6D0C5C38B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7424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2E123-9226-4ABE-9023-8E7DEFAA5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39640" y="187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22080" y="187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57200" y="423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39640" y="423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022080" y="423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7C005-2CA9-41DC-B30E-5ED6E7081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63F59-2004-4528-AB39-D610D32E0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53FD7-4986-47B1-9944-EC807AC7B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BC411-0D82-486A-A6F4-1B79C575C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4CE09-B46D-42C0-89C8-CAB20BC31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7BE84-B115-4F2A-A111-B487CE885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151920" y="75960"/>
            <a:ext cx="8915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433AF-B658-4725-A679-B9627366D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38E70-3E01-4599-912F-BEE255244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A2FE8-11F0-471B-B418-90B91A36F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F3CE8-905D-484F-8DF7-8B10E0F53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239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91B99-4F1C-4E5A-981C-DA871DF3D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4239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A520B-51B0-47C3-8584-37819FA4E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19EFC-15FB-4D10-B050-7C6D3DBB9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87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87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423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423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423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E9CAA-6A84-4C45-AEE0-4102F9152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99A69-36DC-4D90-9502-C88413BD0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08D84-D2AC-4B92-8882-8C808AFDB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2A462-5C52-4251-92BF-756F8A0E5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151920" y="75960"/>
            <a:ext cx="8915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AABAB-4666-4BDF-86C0-CAC170798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41D71-DCDD-4B11-A4AF-70E8FC96B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7424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60EFA-3095-436B-8E16-985681CF6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239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793F4-8D82-4386-B69F-9DCFC3546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0" y="1905120"/>
            <a:ext cx="380880" cy="4952880"/>
          </a:xfrm>
          <a:prstGeom prst="rtTriangle">
            <a:avLst/>
          </a:prstGeom>
          <a:gradFill rotWithShape="0">
            <a:gsLst>
              <a:gs pos="0">
                <a:srgbClr val="b3d1f0"/>
              </a:gs>
              <a:gs pos="50000">
                <a:srgbClr val="ffffff"/>
              </a:gs>
              <a:gs pos="100000">
                <a:srgbClr val="b3d1f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3d1f0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 flipH="1">
            <a:off x="8686080" y="1905120"/>
            <a:ext cx="453960" cy="4952880"/>
          </a:xfrm>
          <a:prstGeom prst="rtTriangle">
            <a:avLst/>
          </a:prstGeom>
          <a:gradFill rotWithShape="0">
            <a:gsLst>
              <a:gs pos="0">
                <a:srgbClr val="b3d1f0"/>
              </a:gs>
              <a:gs pos="50000">
                <a:srgbClr val="ffffff"/>
              </a:gs>
              <a:gs pos="100000">
                <a:srgbClr val="b3d1f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3d1f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>
          <a:xfrm>
            <a:off x="-360" y="655272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3d1f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>
          <a:xfrm>
            <a:off x="1371240" y="6552720"/>
            <a:ext cx="716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3d1f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>
          <a:xfrm>
            <a:off x="8686800" y="6324480"/>
            <a:ext cx="457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822cd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B4DDB-4AEA-419C-B476-005FBE48ED17}" type="slidenum">
              <a:rPr b="0" lang="en-US" sz="1400" spc="-1" strike="noStrike">
                <a:solidFill>
                  <a:srgbClr val="1822c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0" y="0"/>
            <a:ext cx="9144000" cy="1752480"/>
            <a:chOff x="0" y="0"/>
            <a:chExt cx="9144000" cy="1752480"/>
          </a:xfrm>
        </p:grpSpPr>
        <p:grpSp>
          <p:nvGrpSpPr>
            <p:cNvPr id="6" name="Group 8"/>
            <p:cNvGrpSpPr/>
            <p:nvPr/>
          </p:nvGrpSpPr>
          <p:grpSpPr>
            <a:xfrm>
              <a:off x="6480" y="1219320"/>
              <a:ext cx="9137520" cy="380160"/>
              <a:chOff x="6480" y="1219320"/>
              <a:chExt cx="9137520" cy="380160"/>
            </a:xfrm>
          </p:grpSpPr>
          <p:sp>
            <p:nvSpPr>
              <p:cNvPr id="7" name="Rectangle 9"/>
              <p:cNvSpPr/>
              <p:nvPr/>
            </p:nvSpPr>
            <p:spPr>
              <a:xfrm flipV="1">
                <a:off x="6480" y="1241280"/>
                <a:ext cx="9137520" cy="92520"/>
              </a:xfrm>
              <a:prstGeom prst="rect">
                <a:avLst/>
              </a:prstGeom>
              <a:solidFill>
                <a:srgbClr val="b3d1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b3d1f0"/>
                  </a:solidFill>
                  <a:latin typeface="Arial"/>
                </a:endParaRPr>
              </a:p>
            </p:txBody>
          </p:sp>
          <p:sp>
            <p:nvSpPr>
              <p:cNvPr id="8" name="Rectangle 10"/>
              <p:cNvSpPr/>
              <p:nvPr/>
            </p:nvSpPr>
            <p:spPr>
              <a:xfrm>
                <a:off x="6480" y="1334880"/>
                <a:ext cx="9137520" cy="224280"/>
              </a:xfrm>
              <a:prstGeom prst="rect">
                <a:avLst/>
              </a:prstGeom>
              <a:gradFill rotWithShape="0">
                <a:gsLst>
                  <a:gs pos="0">
                    <a:srgbClr val="3568c7"/>
                  </a:gs>
                  <a:gs pos="100000">
                    <a:srgbClr val="a9bee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b3d1f0"/>
                  </a:solidFill>
                  <a:latin typeface="Arial"/>
                </a:endParaRPr>
              </a:p>
            </p:txBody>
          </p:sp>
          <p:sp>
            <p:nvSpPr>
              <p:cNvPr id="9" name="Rectangle 11"/>
              <p:cNvSpPr/>
              <p:nvPr/>
            </p:nvSpPr>
            <p:spPr>
              <a:xfrm>
                <a:off x="6480" y="1219320"/>
                <a:ext cx="9137520" cy="23040"/>
              </a:xfrm>
              <a:prstGeom prst="rect">
                <a:avLst/>
              </a:prstGeom>
              <a:gradFill rotWithShape="0">
                <a:gsLst>
                  <a:gs pos="0">
                    <a:srgbClr val="1822cd"/>
                  </a:gs>
                  <a:gs pos="100000">
                    <a:srgbClr val="878de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760" bIns="-23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b3d1f0"/>
                  </a:solidFill>
                  <a:latin typeface="Arial"/>
                </a:endParaRPr>
              </a:p>
            </p:txBody>
          </p:sp>
          <p:sp>
            <p:nvSpPr>
              <p:cNvPr id="10" name="Rectangle 12"/>
              <p:cNvSpPr/>
              <p:nvPr/>
            </p:nvSpPr>
            <p:spPr>
              <a:xfrm flipV="1">
                <a:off x="6480" y="1554480"/>
                <a:ext cx="9137520" cy="44280"/>
              </a:xfrm>
              <a:prstGeom prst="rect">
                <a:avLst/>
              </a:prstGeom>
              <a:gradFill rotWithShape="0">
                <a:gsLst>
                  <a:gs pos="0">
                    <a:srgbClr val="a9bee7"/>
                  </a:gs>
                  <a:gs pos="100000">
                    <a:srgbClr val="3568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b3d1f0"/>
                  </a:solidFill>
                  <a:latin typeface="Arial"/>
                </a:endParaRPr>
              </a:p>
            </p:txBody>
          </p:sp>
          <p:sp>
            <p:nvSpPr>
              <p:cNvPr id="11" name="Rectangle 13"/>
              <p:cNvSpPr/>
              <p:nvPr/>
            </p:nvSpPr>
            <p:spPr>
              <a:xfrm>
                <a:off x="6480" y="1327680"/>
                <a:ext cx="9137520" cy="44280"/>
              </a:xfrm>
              <a:prstGeom prst="rect">
                <a:avLst/>
              </a:prstGeom>
              <a:gradFill rotWithShape="0">
                <a:gsLst>
                  <a:gs pos="0">
                    <a:srgbClr val="b3d1f0"/>
                  </a:gs>
                  <a:gs pos="100000">
                    <a:srgbClr val="3568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b3d1f0"/>
                  </a:solidFill>
                  <a:latin typeface="Arial"/>
                </a:endParaRPr>
              </a:p>
            </p:txBody>
          </p:sp>
        </p:grpSp>
        <p:sp>
          <p:nvSpPr>
            <p:cNvPr id="12" name="Rectangle 14"/>
            <p:cNvSpPr/>
            <p:nvPr/>
          </p:nvSpPr>
          <p:spPr>
            <a:xfrm>
              <a:off x="0" y="0"/>
              <a:ext cx="9144000" cy="12193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b3d1f0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3240" y="1600200"/>
              <a:ext cx="9140760" cy="15228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b3d1f0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4680" y="1184400"/>
              <a:ext cx="9139320" cy="74520"/>
            </a:xfrm>
            <a:prstGeom prst="rect">
              <a:avLst/>
            </a:prstGeom>
            <a:solidFill>
              <a:srgbClr val="777777">
                <a:alpha val="3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b3d1f0"/>
                </a:solidFill>
                <a:latin typeface="Arial"/>
              </a:endParaRPr>
            </a:p>
          </p:txBody>
        </p:sp>
      </p:grpSp>
      <p:sp>
        <p:nvSpPr>
          <p:cNvPr id="15" name="PlaceHolder 4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Click to edit the title text format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6" name="PlaceHolder 5"/>
          <p:cNvSpPr>
            <a:spLocks noGrp="1"/>
          </p:cNvSpPr>
          <p:nvPr>
            <p:ph type="body"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7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2" marL="1085760" indent="-228600">
              <a:spcBef>
                <a:spcPts val="799"/>
              </a:spcBef>
              <a:buClr>
                <a:srgbClr val="3568c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3" marL="1428840" indent="-228600">
              <a:spcBef>
                <a:spcPts val="799"/>
              </a:spcBef>
              <a:buClr>
                <a:srgbClr val="f0615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4" marL="1771560" indent="-228600">
              <a:spcBef>
                <a:spcPts val="799"/>
              </a:spcBef>
              <a:buClr>
                <a:srgbClr val="1822c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5" marL="177156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6" marL="177156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Group 5"/>
          <p:cNvGrpSpPr/>
          <p:nvPr/>
        </p:nvGrpSpPr>
        <p:grpSpPr>
          <a:xfrm>
            <a:off x="0" y="0"/>
            <a:ext cx="9144000" cy="4038480"/>
            <a:chOff x="0" y="0"/>
            <a:chExt cx="9144000" cy="4038480"/>
          </a:xfrm>
        </p:grpSpPr>
        <p:sp>
          <p:nvSpPr>
            <p:cNvPr id="54" name="Rectangle 6"/>
            <p:cNvSpPr/>
            <p:nvPr/>
          </p:nvSpPr>
          <p:spPr>
            <a:xfrm>
              <a:off x="0" y="0"/>
              <a:ext cx="9144000" cy="35053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b3d1f0"/>
                </a:solidFill>
                <a:latin typeface="Arial"/>
              </a:endParaRPr>
            </a:p>
          </p:txBody>
        </p:sp>
        <p:grpSp>
          <p:nvGrpSpPr>
            <p:cNvPr id="55" name="Group 7"/>
            <p:cNvGrpSpPr/>
            <p:nvPr/>
          </p:nvGrpSpPr>
          <p:grpSpPr>
            <a:xfrm>
              <a:off x="0" y="3486240"/>
              <a:ext cx="9137520" cy="375480"/>
              <a:chOff x="0" y="3486240"/>
              <a:chExt cx="9137520" cy="375480"/>
            </a:xfrm>
          </p:grpSpPr>
          <p:sp>
            <p:nvSpPr>
              <p:cNvPr id="56" name="Rectangle 8"/>
              <p:cNvSpPr/>
              <p:nvPr/>
            </p:nvSpPr>
            <p:spPr>
              <a:xfrm flipV="1">
                <a:off x="0" y="3507840"/>
                <a:ext cx="9137520" cy="91080"/>
              </a:xfrm>
              <a:prstGeom prst="rect">
                <a:avLst/>
              </a:prstGeom>
              <a:solidFill>
                <a:srgbClr val="b3d1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b3d1f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0" y="3600360"/>
                <a:ext cx="9137520" cy="221760"/>
              </a:xfrm>
              <a:prstGeom prst="rect">
                <a:avLst/>
              </a:prstGeom>
              <a:gradFill rotWithShape="0">
                <a:gsLst>
                  <a:gs pos="0">
                    <a:srgbClr val="3568c7"/>
                  </a:gs>
                  <a:gs pos="100000">
                    <a:srgbClr val="a9bee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b3d1f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0" y="3486240"/>
                <a:ext cx="9137520" cy="22680"/>
              </a:xfrm>
              <a:prstGeom prst="rect">
                <a:avLst/>
              </a:prstGeom>
              <a:gradFill rotWithShape="0">
                <a:gsLst>
                  <a:gs pos="0">
                    <a:srgbClr val="1822cd"/>
                  </a:gs>
                  <a:gs pos="100000">
                    <a:srgbClr val="878de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b3d1f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 flipV="1">
                <a:off x="0" y="3817440"/>
                <a:ext cx="9137520" cy="43560"/>
              </a:xfrm>
              <a:prstGeom prst="rect">
                <a:avLst/>
              </a:prstGeom>
              <a:gradFill rotWithShape="0">
                <a:gsLst>
                  <a:gs pos="0">
                    <a:srgbClr val="a9bee7"/>
                  </a:gs>
                  <a:gs pos="100000">
                    <a:srgbClr val="3568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40" bIns="-3240" anchor="ctr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b3d1f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3593160"/>
                <a:ext cx="9137520" cy="43560"/>
              </a:xfrm>
              <a:prstGeom prst="rect">
                <a:avLst/>
              </a:prstGeom>
              <a:gradFill rotWithShape="0">
                <a:gsLst>
                  <a:gs pos="0">
                    <a:srgbClr val="b3d1f0"/>
                  </a:gs>
                  <a:gs pos="100000">
                    <a:srgbClr val="3568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40" bIns="-3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b3d1f0"/>
                  </a:solidFill>
                  <a:latin typeface="Arial"/>
                </a:endParaRPr>
              </a:p>
            </p:txBody>
          </p:sp>
        </p:grpSp>
        <p:sp>
          <p:nvSpPr>
            <p:cNvPr id="61" name="Rectangle 13"/>
            <p:cNvSpPr/>
            <p:nvPr/>
          </p:nvSpPr>
          <p:spPr>
            <a:xfrm>
              <a:off x="3240" y="3886200"/>
              <a:ext cx="9140760" cy="15228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b3d1f0"/>
                </a:solidFill>
                <a:latin typeface="Arial"/>
              </a:endParaRPr>
            </a:p>
          </p:txBody>
        </p:sp>
      </p:grpSp>
      <p:sp>
        <p:nvSpPr>
          <p:cNvPr id="62" name="Rectangle 14"/>
          <p:cNvSpPr/>
          <p:nvPr/>
        </p:nvSpPr>
        <p:spPr>
          <a:xfrm>
            <a:off x="0" y="3470400"/>
            <a:ext cx="9139320" cy="74520"/>
          </a:xfrm>
          <a:prstGeom prst="rect">
            <a:avLst/>
          </a:prstGeom>
          <a:solidFill>
            <a:srgbClr val="777777">
              <a:alpha val="3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3d1f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Click to edit the title text format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7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2" marL="1085760" indent="-228600">
              <a:spcBef>
                <a:spcPts val="799"/>
              </a:spcBef>
              <a:buClr>
                <a:srgbClr val="3568c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3" marL="1428840" indent="-228600">
              <a:spcBef>
                <a:spcPts val="799"/>
              </a:spcBef>
              <a:buClr>
                <a:srgbClr val="f0615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4" marL="1771560" indent="-228600">
              <a:spcBef>
                <a:spcPts val="799"/>
              </a:spcBef>
              <a:buClr>
                <a:srgbClr val="1822c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5" marL="177156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6" marL="177156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3d1f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3d1f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822cd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4F149-AF9A-453E-99AD-61217ABE1906}" type="slidenum">
              <a:rPr b="0" lang="en-US" sz="1400" spc="-1" strike="noStrike">
                <a:solidFill>
                  <a:srgbClr val="1822c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brainpop.com/science/cellularlifeandgenetics/plantgrowth/" TargetMode="External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brainpop.com/science/cellularlifeandgenetics/photosynthesis/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1822cd"/>
                </a:solidFill>
                <a:latin typeface="Lucida Grande"/>
              </a:rPr>
              <a:t>Plant Structure</a:t>
            </a:r>
            <a:br>
              <a:rPr sz="4800"/>
            </a:br>
            <a:r>
              <a:rPr b="1" lang="en-US" sz="4800" spc="-1" strike="noStrike">
                <a:solidFill>
                  <a:srgbClr val="1822cd"/>
                </a:solidFill>
                <a:latin typeface="Lucida Grande"/>
              </a:rPr>
              <a:t>and Function</a:t>
            </a:r>
            <a:endParaRPr b="1" lang="en-US" sz="48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Chapter 25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9218"/>
                </a:solidFill>
                <a:uFillTx/>
                <a:latin typeface="Lucida Grande"/>
                <a:hlinkClick r:id="rId1"/>
              </a:rPr>
              <a:t>Brainpop overview of plant growth and reproduction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Content Placeholder 3" descr="Picture 1.png"/>
          <p:cNvPicPr/>
          <p:nvPr/>
        </p:nvPicPr>
        <p:blipFill>
          <a:blip r:embed="rId1"/>
          <a:srcRect l="0" t="-23321" r="0" b="-23321"/>
          <a:stretch/>
        </p:blipFill>
        <p:spPr>
          <a:xfrm>
            <a:off x="3483000" y="762120"/>
            <a:ext cx="8327880" cy="69120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 txBox="1"/>
          <p:nvPr/>
        </p:nvSpPr>
        <p:spPr>
          <a:xfrm>
            <a:off x="270000" y="2114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Beneath the palisade layer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Many air spaces between its cells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Soak up and store water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Acts as a sponge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34" name="Oval 7"/>
          <p:cNvSpPr/>
          <p:nvPr/>
        </p:nvSpPr>
        <p:spPr>
          <a:xfrm>
            <a:off x="5429160" y="4495680"/>
            <a:ext cx="1257480" cy="6858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3d1f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Spongy Mesophyll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Content Placeholder 3" descr="Picture 1.png"/>
          <p:cNvPicPr/>
          <p:nvPr/>
        </p:nvPicPr>
        <p:blipFill>
          <a:blip r:embed="rId1"/>
          <a:srcRect l="0" t="-23321" r="0" b="-23321"/>
          <a:stretch/>
        </p:blipFill>
        <p:spPr>
          <a:xfrm>
            <a:off x="-3146400" y="838080"/>
            <a:ext cx="8327880" cy="6912000"/>
          </a:xfrm>
          <a:prstGeom prst="rect">
            <a:avLst/>
          </a:prstGeom>
          <a:ln w="0">
            <a:noFill/>
          </a:ln>
        </p:spPr>
      </p:pic>
      <p:sp>
        <p:nvSpPr>
          <p:cNvPr id="137" name="Oval 6"/>
          <p:cNvSpPr/>
          <p:nvPr/>
        </p:nvSpPr>
        <p:spPr>
          <a:xfrm>
            <a:off x="3619440" y="2370240"/>
            <a:ext cx="1257480" cy="3729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3d1f0"/>
              </a:solidFill>
              <a:latin typeface="Arial"/>
            </a:endParaRPr>
          </a:p>
        </p:txBody>
      </p:sp>
      <p:sp>
        <p:nvSpPr>
          <p:cNvPr id="138" name="Oval 9"/>
          <p:cNvSpPr/>
          <p:nvPr/>
        </p:nvSpPr>
        <p:spPr>
          <a:xfrm>
            <a:off x="1905120" y="6126120"/>
            <a:ext cx="1257120" cy="3747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3d1f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Cuticle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8769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568c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Waterproof barrier that protects the leaf and limits the loss of water through evaporation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141" name="Picture 8" descr=""/>
          <p:cNvPicPr/>
          <p:nvPr/>
        </p:nvPicPr>
        <p:blipFill>
          <a:blip r:embed="rId2"/>
          <a:stretch/>
        </p:blipFill>
        <p:spPr>
          <a:xfrm>
            <a:off x="5943600" y="3422520"/>
            <a:ext cx="2133720" cy="320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Transpiration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Evaporative loss of water from plant leaves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As the water evaporates lower pressure causes water to be pulled up the plant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Like drinking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Lucida Grande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0 through a straw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144" name="Picture 4" descr=""/>
          <p:cNvPicPr/>
          <p:nvPr/>
        </p:nvPicPr>
        <p:blipFill>
          <a:blip r:embed="rId1"/>
          <a:stretch/>
        </p:blipFill>
        <p:spPr>
          <a:xfrm>
            <a:off x="3606840" y="3657600"/>
            <a:ext cx="507996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Content Placeholder 3" descr="Picture 1.png"/>
          <p:cNvPicPr/>
          <p:nvPr/>
        </p:nvPicPr>
        <p:blipFill>
          <a:blip r:embed="rId1"/>
          <a:srcRect l="0" t="-23321" r="0" b="-23321"/>
          <a:stretch/>
        </p:blipFill>
        <p:spPr>
          <a:xfrm>
            <a:off x="-3146400" y="838080"/>
            <a:ext cx="8327880" cy="6912000"/>
          </a:xfrm>
          <a:prstGeom prst="rect">
            <a:avLst/>
          </a:prstGeom>
          <a:ln w="0">
            <a:noFill/>
          </a:ln>
        </p:spPr>
      </p:pic>
      <p:sp>
        <p:nvSpPr>
          <p:cNvPr id="146" name="Oval 6"/>
          <p:cNvSpPr/>
          <p:nvPr/>
        </p:nvSpPr>
        <p:spPr>
          <a:xfrm>
            <a:off x="2971800" y="5570640"/>
            <a:ext cx="1257480" cy="3729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3d1f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Stomata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8769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55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</a:rPr>
              <a:t>Stomata (singular: stoma) - tiny pores on surface for gas exchange</a:t>
            </a:r>
            <a:endParaRPr b="0" lang="en-US" sz="2200" spc="-1" strike="noStrike">
              <a:solidFill>
                <a:srgbClr val="000000"/>
              </a:solidFill>
              <a:latin typeface="Lucida Grande"/>
            </a:endParaRPr>
          </a:p>
          <a:p>
            <a:pPr lvl="1" marL="727920" indent="-280080">
              <a:spcBef>
                <a:spcPts val="55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</a:rPr>
              <a:t>O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Lucida Grande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Lucida Grande"/>
              </a:rPr>
              <a:t> and H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Lucida Grande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Lucida Grande"/>
              </a:rPr>
              <a:t>O – released</a:t>
            </a:r>
            <a:endParaRPr b="0" lang="en-US" sz="2200" spc="-1" strike="noStrike">
              <a:solidFill>
                <a:srgbClr val="000000"/>
              </a:solidFill>
              <a:latin typeface="Lucida Grande"/>
            </a:endParaRPr>
          </a:p>
          <a:p>
            <a:pPr lvl="1" marL="727920" indent="-280080">
              <a:spcBef>
                <a:spcPts val="55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</a:rPr>
              <a:t>CO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Lucida Grande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Lucida Grande"/>
              </a:rPr>
              <a:t> - enters the leaves</a:t>
            </a:r>
            <a:endParaRPr b="0" lang="en-US" sz="2200" spc="-1" strike="noStrike">
              <a:solidFill>
                <a:srgbClr val="000000"/>
              </a:solidFill>
              <a:latin typeface="Lucida Grande"/>
            </a:endParaRPr>
          </a:p>
          <a:p>
            <a:pPr lvl="1" marL="727920" indent="-280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Grande"/>
            </a:endParaRPr>
          </a:p>
          <a:p>
            <a:pPr marL="335880" indent="-335880">
              <a:spcBef>
                <a:spcPts val="55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</a:rPr>
              <a:t>Greek for “mouths”</a:t>
            </a:r>
            <a:endParaRPr b="0" lang="en-US" sz="2200" spc="-1" strike="noStrike">
              <a:solidFill>
                <a:srgbClr val="000000"/>
              </a:solidFill>
              <a:latin typeface="Lucida Grande"/>
            </a:endParaRPr>
          </a:p>
          <a:p>
            <a:pPr marL="335880" indent="-335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Grande"/>
            </a:endParaRPr>
          </a:p>
          <a:p>
            <a:pPr marL="335880" indent="-335880">
              <a:spcBef>
                <a:spcPts val="55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</a:rPr>
              <a:t>Stomates are located on underside of leaves so loss of water vapor is decreased</a:t>
            </a:r>
            <a:endParaRPr b="0" lang="en-US" sz="2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Content Placeholder 3" descr="Picture 1.png"/>
          <p:cNvPicPr/>
          <p:nvPr/>
        </p:nvPicPr>
        <p:blipFill>
          <a:blip r:embed="rId1"/>
          <a:srcRect l="0" t="-23321" r="0" b="-23321"/>
          <a:stretch/>
        </p:blipFill>
        <p:spPr>
          <a:xfrm>
            <a:off x="3483000" y="762120"/>
            <a:ext cx="8327880" cy="691200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 txBox="1"/>
          <p:nvPr/>
        </p:nvSpPr>
        <p:spPr>
          <a:xfrm>
            <a:off x="270000" y="2114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568c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Highly specialize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cells that surroun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the stomata and control their opening and closing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601"/>
              </a:spcBef>
              <a:buClr>
                <a:srgbClr val="3568c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Lucida Grande"/>
              </a:rPr>
              <a:t>Regulate </a:t>
            </a: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the movement of gasses into and out of the leaves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51" name="Oval 6"/>
          <p:cNvSpPr/>
          <p:nvPr/>
        </p:nvSpPr>
        <p:spPr>
          <a:xfrm>
            <a:off x="6058080" y="5943600"/>
            <a:ext cx="1257120" cy="6858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3d1f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Guard Cells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7" descr="Picture 3.png"/>
          <p:cNvPicPr/>
          <p:nvPr/>
        </p:nvPicPr>
        <p:blipFill>
          <a:blip r:embed="rId1"/>
          <a:stretch/>
        </p:blipFill>
        <p:spPr>
          <a:xfrm>
            <a:off x="4848120" y="3362400"/>
            <a:ext cx="3851280" cy="299700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8" descr="Picture 2.png"/>
          <p:cNvPicPr/>
          <p:nvPr/>
        </p:nvPicPr>
        <p:blipFill>
          <a:blip r:embed="rId2"/>
          <a:stretch/>
        </p:blipFill>
        <p:spPr>
          <a:xfrm>
            <a:off x="581040" y="2143080"/>
            <a:ext cx="3932280" cy="299736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Guard Cells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48769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Organelle that captures energy from sunlight and converts it into chemical energy.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157" name="Content Placeholder 3" descr="Picture 1.png"/>
          <p:cNvPicPr/>
          <p:nvPr/>
        </p:nvPicPr>
        <p:blipFill>
          <a:blip r:embed="rId1"/>
          <a:srcRect l="0" t="-23321" r="0" b="-23321"/>
          <a:stretch/>
        </p:blipFill>
        <p:spPr>
          <a:xfrm>
            <a:off x="-3146400" y="838080"/>
            <a:ext cx="8327880" cy="6912000"/>
          </a:xfrm>
          <a:prstGeom prst="rect">
            <a:avLst/>
          </a:prstGeom>
          <a:ln w="0">
            <a:noFill/>
          </a:ln>
        </p:spPr>
      </p:pic>
      <p:sp>
        <p:nvSpPr>
          <p:cNvPr id="158" name="Oval 6"/>
          <p:cNvSpPr/>
          <p:nvPr/>
        </p:nvSpPr>
        <p:spPr>
          <a:xfrm>
            <a:off x="2438280" y="5799240"/>
            <a:ext cx="1257480" cy="3729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3d1f0"/>
              </a:solidFill>
              <a:latin typeface="Arial"/>
            </a:endParaRPr>
          </a:p>
        </p:txBody>
      </p:sp>
      <p:pic>
        <p:nvPicPr>
          <p:cNvPr id="159" name="Picture 8" descr="Picture 2.png"/>
          <p:cNvPicPr/>
          <p:nvPr/>
        </p:nvPicPr>
        <p:blipFill>
          <a:blip r:embed="rId2"/>
          <a:stretch/>
        </p:blipFill>
        <p:spPr>
          <a:xfrm>
            <a:off x="5342040" y="3733920"/>
            <a:ext cx="3801960" cy="3100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Chloroplasts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Roots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Parts of plant below ground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Functions of Roots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Anchor plant to the ground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Absorb water and nutrients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Storage of sugar and starch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Roots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87488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Root hairs - 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increase surface area of root for water absorption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Root cap - 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covers and protects root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165" name="Picture 3" descr="rootcap.jpg"/>
          <p:cNvPicPr/>
          <p:nvPr/>
        </p:nvPicPr>
        <p:blipFill>
          <a:blip r:embed="rId1"/>
          <a:stretch/>
        </p:blipFill>
        <p:spPr>
          <a:xfrm>
            <a:off x="5410080" y="1981080"/>
            <a:ext cx="2819520" cy="438156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Shoots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Part of plant above ground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882720" indent="-609840">
              <a:spcBef>
                <a:spcPts val="601"/>
              </a:spcBef>
              <a:buClr>
                <a:srgbClr val="f06157"/>
              </a:buClr>
              <a:buFont typeface="Lucida Gran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Stems (vascular tissues)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882720" indent="-609840">
              <a:spcBef>
                <a:spcPts val="601"/>
              </a:spcBef>
              <a:buClr>
                <a:srgbClr val="f06157"/>
              </a:buClr>
              <a:buFont typeface="Lucida Gran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Leaves - site of </a:t>
            </a:r>
            <a:r>
              <a:rPr b="0" lang="en-US" sz="2400" spc="-1" strike="noStrike" u="sng">
                <a:solidFill>
                  <a:srgbClr val="ff9218"/>
                </a:solidFill>
                <a:uFillTx/>
                <a:latin typeface="Lucida Grande"/>
                <a:hlinkClick r:id="rId1"/>
              </a:rPr>
              <a:t>photosynthesis</a:t>
            </a: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 (animation)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p:transition spd="slow"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Tissues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Like your body, a plant’s body is made up of tissues that form organs.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Three types of tissues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609480" indent="-609480">
              <a:spcBef>
                <a:spcPts val="601"/>
              </a:spcBef>
              <a:buClr>
                <a:srgbClr val="3568c7"/>
              </a:buClr>
              <a:buFont typeface="Lucida Gran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Dermal – Protective outer layer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609480" indent="-609480">
              <a:spcBef>
                <a:spcPts val="601"/>
              </a:spcBef>
              <a:buClr>
                <a:srgbClr val="3568c7"/>
              </a:buClr>
              <a:buFont typeface="Lucida Gran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Vascular – conducts water, minerals, and organic compounds throughout a plant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609480" indent="-609480">
              <a:spcBef>
                <a:spcPts val="601"/>
              </a:spcBef>
              <a:buClr>
                <a:srgbClr val="3568c7"/>
              </a:buClr>
              <a:buFont typeface="Lucida Gran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Ground – makes up much of the inside of the roots, stems, and leaves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Cross Section of a Leaf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pic>
        <p:nvPicPr>
          <p:cNvPr id="109" name="Content Placeholder 3" descr="Picture 1.png"/>
          <p:cNvPicPr/>
          <p:nvPr/>
        </p:nvPicPr>
        <p:blipFill>
          <a:blip r:embed="rId1"/>
          <a:srcRect l="0" t="-23321" r="0" b="-23321"/>
          <a:stretch/>
        </p:blipFill>
        <p:spPr>
          <a:xfrm>
            <a:off x="533520" y="820800"/>
            <a:ext cx="8194680" cy="679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Content Placeholder 3" descr="Picture 1.png"/>
          <p:cNvPicPr/>
          <p:nvPr/>
        </p:nvPicPr>
        <p:blipFill>
          <a:blip r:embed="rId1"/>
          <a:srcRect l="0" t="-23321" r="0" b="-23321"/>
          <a:stretch/>
        </p:blipFill>
        <p:spPr>
          <a:xfrm>
            <a:off x="-3146400" y="838080"/>
            <a:ext cx="8327880" cy="691200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Dermal Tissue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0" y="187488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Epidermis - thick outer layer for protection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Lucida Grande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skin</a:t>
            </a:r>
            <a:r>
              <a:rPr b="0" lang="ja-JP" sz="2400" spc="-1" strike="noStrike">
                <a:solidFill>
                  <a:srgbClr val="000000"/>
                </a:solidFill>
                <a:latin typeface="Lucida Grande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 of the plant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2" marL="1085760" indent="-228600">
              <a:lnSpc>
                <a:spcPct val="90000"/>
              </a:lnSpc>
              <a:spcBef>
                <a:spcPts val="601"/>
              </a:spcBef>
              <a:buClr>
                <a:srgbClr val="3568c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epi = upon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2" marL="1085760" indent="-228600">
              <a:lnSpc>
                <a:spcPct val="90000"/>
              </a:lnSpc>
              <a:spcBef>
                <a:spcPts val="601"/>
              </a:spcBef>
              <a:buClr>
                <a:srgbClr val="3568c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dermis = skin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found in roots, stems, and leaves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13" name="Oval 5"/>
          <p:cNvSpPr/>
          <p:nvPr/>
        </p:nvSpPr>
        <p:spPr>
          <a:xfrm>
            <a:off x="3772080" y="2743200"/>
            <a:ext cx="1257120" cy="6858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3d1f0"/>
              </a:solidFill>
              <a:latin typeface="Arial"/>
            </a:endParaRPr>
          </a:p>
        </p:txBody>
      </p:sp>
      <p:sp>
        <p:nvSpPr>
          <p:cNvPr id="114" name="Oval 6"/>
          <p:cNvSpPr/>
          <p:nvPr/>
        </p:nvSpPr>
        <p:spPr>
          <a:xfrm>
            <a:off x="3772080" y="4800600"/>
            <a:ext cx="1257120" cy="6858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3d1f0"/>
              </a:solidFill>
              <a:latin typeface="Arial"/>
            </a:endParaRPr>
          </a:p>
        </p:txBody>
      </p:sp>
    </p:spTree>
  </p:cSld>
  <p:transition spd="slow">
    <p:blinds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Vascular Tissues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pic>
        <p:nvPicPr>
          <p:cNvPr id="116" name="Content Placeholder 3" descr="Picture 1.png"/>
          <p:cNvPicPr/>
          <p:nvPr/>
        </p:nvPicPr>
        <p:blipFill>
          <a:blip r:embed="rId1"/>
          <a:srcRect l="0" t="-23321" r="0" b="-23321"/>
          <a:stretch/>
        </p:blipFill>
        <p:spPr>
          <a:xfrm>
            <a:off x="-3146400" y="838080"/>
            <a:ext cx="8327880" cy="691200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0" y="187488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10098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Functions of Vascular Tissue: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1009800" indent="-609840">
              <a:spcBef>
                <a:spcPts val="601"/>
              </a:spcBef>
              <a:buClr>
                <a:srgbClr val="f06157"/>
              </a:buClr>
              <a:buFont typeface="Lucida Grand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Transports water, mineral nutrients, and organic molecules between the roots and shoots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1009800" indent="-609840">
              <a:spcBef>
                <a:spcPts val="601"/>
              </a:spcBef>
              <a:buClr>
                <a:srgbClr val="f06157"/>
              </a:buClr>
              <a:buFont typeface="Lucida Grand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Contribute to structural support of plant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18" name="Oval 5"/>
          <p:cNvSpPr/>
          <p:nvPr/>
        </p:nvSpPr>
        <p:spPr>
          <a:xfrm>
            <a:off x="3886200" y="3657600"/>
            <a:ext cx="1257480" cy="6858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3d1f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Vascular Tissues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pic>
        <p:nvPicPr>
          <p:cNvPr id="120" name="Content Placeholder 3" descr="Picture 1.png"/>
          <p:cNvPicPr/>
          <p:nvPr/>
        </p:nvPicPr>
        <p:blipFill>
          <a:blip r:embed="rId1"/>
          <a:srcRect l="0" t="-23321" r="0" b="-23321"/>
          <a:stretch/>
        </p:blipFill>
        <p:spPr>
          <a:xfrm>
            <a:off x="-3146400" y="838080"/>
            <a:ext cx="8327880" cy="691200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0" y="187488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lvl="1" marL="784080" indent="-392040">
              <a:lnSpc>
                <a:spcPct val="90000"/>
              </a:lnSpc>
              <a:spcBef>
                <a:spcPts val="4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Xylem - moves water and minerals from the roots upwards to the stems and leaves.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1" marL="784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1" marL="784080" indent="-392040">
              <a:lnSpc>
                <a:spcPct val="90000"/>
              </a:lnSpc>
              <a:spcBef>
                <a:spcPts val="4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Phloem - transports sugars to roots and non-photosynthetic parts of the plant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1" marL="784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2" marL="1119960" indent="-391680">
              <a:lnSpc>
                <a:spcPct val="90000"/>
              </a:lnSpc>
              <a:spcBef>
                <a:spcPts val="499"/>
              </a:spcBef>
              <a:buClr>
                <a:srgbClr val="3568c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Lucida Grande"/>
              </a:rPr>
              <a:t>“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Lucida Grande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OOD =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Lucida Grande"/>
              </a:rPr>
              <a:t>PH</a:t>
            </a: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LOEM</a:t>
            </a:r>
            <a:r>
              <a:rPr b="0" lang="ja-JP" sz="2000" spc="-1" strike="noStrike">
                <a:solidFill>
                  <a:srgbClr val="000000"/>
                </a:solidFill>
                <a:latin typeface="Lucida Grande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2" marL="1119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2" marL="1119960" indent="-391680">
              <a:lnSpc>
                <a:spcPct val="90000"/>
              </a:lnSpc>
              <a:spcBef>
                <a:spcPts val="499"/>
              </a:spcBef>
              <a:buClr>
                <a:srgbClr val="3568c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Sap tap = 60 gallons of sap make 1 gallon of syrup!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2" marL="1119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marL="5972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22" name="Oval 5"/>
          <p:cNvSpPr/>
          <p:nvPr/>
        </p:nvSpPr>
        <p:spPr>
          <a:xfrm>
            <a:off x="3886200" y="3657600"/>
            <a:ext cx="1257480" cy="6858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3d1f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Vascular Tissues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Xylem - forms toward the INSIDE of the vascular cambium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Phloem - forms toward the OUTSIDE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125" name="Picture 7" descr=""/>
          <p:cNvPicPr/>
          <p:nvPr/>
        </p:nvPicPr>
        <p:blipFill>
          <a:blip r:embed="rId1"/>
          <a:stretch/>
        </p:blipFill>
        <p:spPr>
          <a:xfrm>
            <a:off x="2025720" y="3308400"/>
            <a:ext cx="5105160" cy="335592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Ground Tissue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Ground Tissue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makes up the inside of most plants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Supports the vascular tissue (found in between vessels of xylem and phloem)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2" marL="1085760" indent="-228600">
              <a:lnSpc>
                <a:spcPct val="90000"/>
              </a:lnSpc>
              <a:spcBef>
                <a:spcPts val="601"/>
              </a:spcBef>
              <a:buClr>
                <a:srgbClr val="3568c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In leaves – cells packed with chloroplasts and aids in photosynthesis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2" marL="1085760" indent="-228600">
              <a:lnSpc>
                <a:spcPct val="90000"/>
              </a:lnSpc>
              <a:spcBef>
                <a:spcPts val="601"/>
              </a:spcBef>
              <a:buClr>
                <a:srgbClr val="3568c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In stems and roots – storage of water, sugar, and starch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p:transition spd="slow">
    <p:blinds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Content Placeholder 3" descr="Picture 1.png"/>
          <p:cNvPicPr/>
          <p:nvPr/>
        </p:nvPicPr>
        <p:blipFill>
          <a:blip r:embed="rId1"/>
          <a:srcRect l="0" t="-23321" r="0" b="-23321"/>
          <a:stretch/>
        </p:blipFill>
        <p:spPr>
          <a:xfrm>
            <a:off x="3483000" y="762120"/>
            <a:ext cx="8327880" cy="69120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 txBox="1"/>
          <p:nvPr/>
        </p:nvSpPr>
        <p:spPr>
          <a:xfrm>
            <a:off x="270000" y="2114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In leaves, the ground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tissue is called mesophyll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4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Meso = “Middle”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4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Phyllon = “Leaf”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4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Contains closely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packed cells that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absorb light that enters the leaf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4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Main site for photosynthesis!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30" name="Oval 7"/>
          <p:cNvSpPr/>
          <p:nvPr/>
        </p:nvSpPr>
        <p:spPr>
          <a:xfrm>
            <a:off x="5429160" y="3352680"/>
            <a:ext cx="1257480" cy="6858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3d1f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Palisade Mesophyll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1T16:32:32Z</dcterms:created>
  <dc:creator>Brett Erdmann</dc:creator>
  <dc:description/>
  <dc:language>en-US</dc:language>
  <cp:lastModifiedBy>Patriot</cp:lastModifiedBy>
  <dcterms:modified xsi:type="dcterms:W3CDTF">2012-05-03T02:11:52Z</dcterms:modified>
  <cp:revision>131</cp:revision>
  <dc:subject/>
  <dc:title>The Plant Body</dc:title>
</cp:coreProperties>
</file>