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40C3-E97A-4526-8588-4DC50FE44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0039-D167-4A56-80CA-C7FA316D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B9D8-7C41-4D19-AC99-675024A24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EAAF-72B8-431C-B9FB-CD5A86146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4C80A-149A-40F7-878B-C0D6E8D2D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50D5-DA4A-4F40-A2AD-15980A47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27A0-6317-44B2-ABB3-1E4D9B30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528F-89A1-44C9-A8C1-7CE16347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6772-0741-424C-A97B-4D5B464F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B606-2A70-4992-A819-49FD7CF5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3F14-C45E-4776-BC0B-A9D68FE7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1E10-0973-4C8D-843F-7E485756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26378-E59B-4FF7-9420-A8DEB7DC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BAB7-A45D-4D10-84CC-F68F984E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ED26-8AC9-4C68-BC5D-3B28E453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6C5D-88BE-469E-B42E-7D83F4226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C2BD-A2F8-4D4A-83FB-5E8EC2680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B9DC-55C9-4F78-ABF1-8D454831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9155-DBA1-43D7-ACCE-56F1C59F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7235-77A9-441B-B8DB-2F2BB47B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77FC-2AB7-4C96-8E18-6E38582D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67E4-04CB-4A22-9F92-FC7CB301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55C8-3BDD-4D9E-86FB-74C84AC5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5B81-63F0-4865-83B1-2A0B85BD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fffff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d1f0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fffff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d1f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d1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d1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24D2-FE19-4049-8068-BF68B5372F3F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Group 8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Rectangle 9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b3d1f0"/>
                  </a:solidFill>
                  <a:latin typeface="Arial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9bee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b3d1f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78d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b3d1f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9bee7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b3d1f0"/>
                  </a:solidFill>
                  <a:latin typeface="Arial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b3d1f0"/>
                  </a:solidFill>
                  <a:latin typeface="Arial"/>
                </a:endParaRPr>
              </a:p>
            </p:txBody>
          </p:sp>
        </p:grpSp>
        <p:sp>
          <p:nvSpPr>
            <p:cNvPr id="12" name="Rectangle 14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b3d1f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b3d1f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b3d1f0"/>
                </a:solidFill>
                <a:latin typeface="Arial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5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Rectangle 6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b3d1f0"/>
                </a:solidFill>
                <a:latin typeface="Arial"/>
              </a:endParaRPr>
            </a:p>
          </p:txBody>
        </p:sp>
        <p:grpSp>
          <p:nvGrpSpPr>
            <p:cNvPr id="55" name="Group 7"/>
            <p:cNvGrpSpPr/>
            <p:nvPr/>
          </p:nvGrpSpPr>
          <p:grpSpPr>
            <a:xfrm>
              <a:off x="0" y="3486240"/>
              <a:ext cx="9137520" cy="375480"/>
              <a:chOff x="0" y="3486240"/>
              <a:chExt cx="9137520" cy="375480"/>
            </a:xfrm>
          </p:grpSpPr>
          <p:sp>
            <p:nvSpPr>
              <p:cNvPr id="56" name="Rectangle 8"/>
              <p:cNvSpPr/>
              <p:nvPr/>
            </p:nvSpPr>
            <p:spPr>
              <a:xfrm flipV="1">
                <a:off x="0" y="3507840"/>
                <a:ext cx="9137520" cy="9108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b3d1f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0" y="3600360"/>
                <a:ext cx="9137520" cy="22176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9bee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b3d1f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0" y="3486240"/>
                <a:ext cx="9137520" cy="2268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78d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b3d1f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 flipV="1">
                <a:off x="0" y="3817440"/>
                <a:ext cx="9137520" cy="43560"/>
              </a:xfrm>
              <a:prstGeom prst="rect">
                <a:avLst/>
              </a:prstGeom>
              <a:gradFill rotWithShape="0">
                <a:gsLst>
                  <a:gs pos="0">
                    <a:srgbClr val="a9bee7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b3d1f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3593160"/>
                <a:ext cx="9137520" cy="4356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b3d1f0"/>
                  </a:solidFill>
                  <a:latin typeface="Arial"/>
                </a:endParaRPr>
              </a:p>
            </p:txBody>
          </p:sp>
        </p:grpSp>
        <p:sp>
          <p:nvSpPr>
            <p:cNvPr id="61" name="Rectangle 13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b3d1f0"/>
                </a:solidFill>
                <a:latin typeface="Arial"/>
              </a:endParaRPr>
            </a:p>
          </p:txBody>
        </p:sp>
      </p:grpSp>
      <p:sp>
        <p:nvSpPr>
          <p:cNvPr id="62" name="Rectangle 14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d1f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d1f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d1f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7CC7-608E-4C74-9094-3CF73A2C9EEF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rainpop.com/science/cellularlifeandgenetics/plantgrowth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brainpop.com/science/cellularlifeandgenetics/photosynthesis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822cd"/>
                </a:solidFill>
                <a:latin typeface="Lucida Grande"/>
              </a:rPr>
              <a:t>Plant Structure</a:t>
            </a:r>
            <a:br>
              <a:rPr sz="4800"/>
            </a:br>
            <a:r>
              <a:rPr b="1" lang="en-US" sz="4800" spc="-1" strike="noStrike">
                <a:solidFill>
                  <a:srgbClr val="1822cd"/>
                </a:solidFill>
                <a:latin typeface="Lucida Grande"/>
              </a:rPr>
              <a:t>and Function</a:t>
            </a:r>
            <a:endParaRPr b="1" lang="en-US" sz="48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hapter 25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9218"/>
                </a:solidFill>
                <a:uFillTx/>
                <a:latin typeface="Lucida Grande"/>
                <a:hlinkClick r:id="rId1"/>
              </a:rPr>
              <a:t>Brainpop overview of plant growth and reproduction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Content Placeholder 3" descr="Picture 1.png"/>
          <p:cNvPicPr/>
          <p:nvPr/>
        </p:nvPicPr>
        <p:blipFill>
          <a:blip r:embed="rId1"/>
          <a:srcRect l="0" t="-23321" r="0" b="-23321"/>
          <a:stretch/>
        </p:blipFill>
        <p:spPr>
          <a:xfrm>
            <a:off x="3483000" y="762120"/>
            <a:ext cx="8327880" cy="6912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270000" y="2114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Beneath the palisade layer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Many air spaces between its cell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oak up and store water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cts as a spong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4" name="Oval 7"/>
          <p:cNvSpPr/>
          <p:nvPr/>
        </p:nvSpPr>
        <p:spPr>
          <a:xfrm>
            <a:off x="5429160" y="4495680"/>
            <a:ext cx="125748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d1f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Spongy Mesophyll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Content Placeholder 3" descr="Picture 1.png"/>
          <p:cNvPicPr/>
          <p:nvPr/>
        </p:nvPicPr>
        <p:blipFill>
          <a:blip r:embed="rId1"/>
          <a:srcRect l="0" t="-23321" r="0" b="-23321"/>
          <a:stretch/>
        </p:blipFill>
        <p:spPr>
          <a:xfrm>
            <a:off x="-3146400" y="838080"/>
            <a:ext cx="8327880" cy="6912000"/>
          </a:xfrm>
          <a:prstGeom prst="rect">
            <a:avLst/>
          </a:prstGeom>
          <a:ln w="0">
            <a:noFill/>
          </a:ln>
        </p:spPr>
      </p:pic>
      <p:sp>
        <p:nvSpPr>
          <p:cNvPr id="137" name="Oval 6"/>
          <p:cNvSpPr/>
          <p:nvPr/>
        </p:nvSpPr>
        <p:spPr>
          <a:xfrm>
            <a:off x="3619440" y="2370240"/>
            <a:ext cx="1257480" cy="372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d1f0"/>
              </a:solidFill>
              <a:latin typeface="Arial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1905120" y="6126120"/>
            <a:ext cx="1257120" cy="374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d1f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uticl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8769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aterproof barrier that protects the leaf and limits the loss of water through evapora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41" name="Picture 8" descr=""/>
          <p:cNvPicPr/>
          <p:nvPr/>
        </p:nvPicPr>
        <p:blipFill>
          <a:blip r:embed="rId2"/>
          <a:stretch/>
        </p:blipFill>
        <p:spPr>
          <a:xfrm>
            <a:off x="5943600" y="3422520"/>
            <a:ext cx="2133720" cy="32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Transpira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Evaporative loss of water from plant leav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s the water evaporates lower pressure causes water to be pulled up the plan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Like drinking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Grand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0 through a straw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3606840" y="3657600"/>
            <a:ext cx="50799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Content Placeholder 3" descr="Picture 1.png"/>
          <p:cNvPicPr/>
          <p:nvPr/>
        </p:nvPicPr>
        <p:blipFill>
          <a:blip r:embed="rId1"/>
          <a:srcRect l="0" t="-23321" r="0" b="-23321"/>
          <a:stretch/>
        </p:blipFill>
        <p:spPr>
          <a:xfrm>
            <a:off x="-3146400" y="838080"/>
            <a:ext cx="8327880" cy="6912000"/>
          </a:xfrm>
          <a:prstGeom prst="rect">
            <a:avLst/>
          </a:prstGeom>
          <a:ln w="0">
            <a:noFill/>
          </a:ln>
        </p:spPr>
      </p:pic>
      <p:sp>
        <p:nvSpPr>
          <p:cNvPr id="146" name="Oval 6"/>
          <p:cNvSpPr/>
          <p:nvPr/>
        </p:nvSpPr>
        <p:spPr>
          <a:xfrm>
            <a:off x="2971800" y="5570640"/>
            <a:ext cx="1257480" cy="372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d1f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Stomata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8769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Stomata (singular: stoma) - tiny pores on surface for gas exchange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Grande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 and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Grande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O – released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Grande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 - enters the leaves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-335880"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Greek for “mouths”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-335880"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Stomates are located on underside of leaves so loss of water vapor is decreased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Content Placeholder 3" descr="Picture 1.png"/>
          <p:cNvPicPr/>
          <p:nvPr/>
        </p:nvPicPr>
        <p:blipFill>
          <a:blip r:embed="rId1"/>
          <a:srcRect l="0" t="-23321" r="0" b="-23321"/>
          <a:stretch/>
        </p:blipFill>
        <p:spPr>
          <a:xfrm>
            <a:off x="3483000" y="762120"/>
            <a:ext cx="8327880" cy="6912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270000" y="2114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Highly specializ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ells that surrou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e stomata and control their opening and closing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Grande"/>
              </a:rPr>
              <a:t>Regulate 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e movement of gasses into and out of the leav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1" name="Oval 6"/>
          <p:cNvSpPr/>
          <p:nvPr/>
        </p:nvSpPr>
        <p:spPr>
          <a:xfrm>
            <a:off x="6058080" y="5943600"/>
            <a:ext cx="125712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d1f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Guard Cell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7" descr="Picture 3.png"/>
          <p:cNvPicPr/>
          <p:nvPr/>
        </p:nvPicPr>
        <p:blipFill>
          <a:blip r:embed="rId1"/>
          <a:stretch/>
        </p:blipFill>
        <p:spPr>
          <a:xfrm>
            <a:off x="4848120" y="3362400"/>
            <a:ext cx="3851280" cy="2997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Picture 2.png"/>
          <p:cNvPicPr/>
          <p:nvPr/>
        </p:nvPicPr>
        <p:blipFill>
          <a:blip r:embed="rId2"/>
          <a:stretch/>
        </p:blipFill>
        <p:spPr>
          <a:xfrm>
            <a:off x="581040" y="2143080"/>
            <a:ext cx="3932280" cy="29973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Guard Cell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8769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Organelle that captures energy from sunlight and converts it into chemical energy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57" name="Content Placeholder 3" descr="Picture 1.png"/>
          <p:cNvPicPr/>
          <p:nvPr/>
        </p:nvPicPr>
        <p:blipFill>
          <a:blip r:embed="rId1"/>
          <a:srcRect l="0" t="-23321" r="0" b="-23321"/>
          <a:stretch/>
        </p:blipFill>
        <p:spPr>
          <a:xfrm>
            <a:off x="-3146400" y="838080"/>
            <a:ext cx="8327880" cy="6912000"/>
          </a:xfrm>
          <a:prstGeom prst="rect">
            <a:avLst/>
          </a:prstGeom>
          <a:ln w="0">
            <a:noFill/>
          </a:ln>
        </p:spPr>
      </p:pic>
      <p:sp>
        <p:nvSpPr>
          <p:cNvPr id="158" name="Oval 6"/>
          <p:cNvSpPr/>
          <p:nvPr/>
        </p:nvSpPr>
        <p:spPr>
          <a:xfrm>
            <a:off x="2438280" y="5799240"/>
            <a:ext cx="1257480" cy="372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d1f0"/>
              </a:solidFill>
              <a:latin typeface="Arial"/>
            </a:endParaRPr>
          </a:p>
        </p:txBody>
      </p:sp>
      <p:pic>
        <p:nvPicPr>
          <p:cNvPr id="159" name="Picture 8" descr="Picture 2.png"/>
          <p:cNvPicPr/>
          <p:nvPr/>
        </p:nvPicPr>
        <p:blipFill>
          <a:blip r:embed="rId2"/>
          <a:stretch/>
        </p:blipFill>
        <p:spPr>
          <a:xfrm>
            <a:off x="5342040" y="3733920"/>
            <a:ext cx="3801960" cy="3100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hloroplast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Root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arts of plant below groun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Functions of Root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nchor plant to the groun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bsorb water and nutrient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torage of sugar and starch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Root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8748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Root hairs -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ncrease surface area of root for water absorp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Root cap -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overs and protects roo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65" name="Picture 3" descr="rootcap.jpg"/>
          <p:cNvPicPr/>
          <p:nvPr/>
        </p:nvPicPr>
        <p:blipFill>
          <a:blip r:embed="rId1"/>
          <a:stretch/>
        </p:blipFill>
        <p:spPr>
          <a:xfrm>
            <a:off x="5410080" y="1981080"/>
            <a:ext cx="2819520" cy="4381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Shoot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art of plant above groun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882720" indent="-609840">
              <a:spcBef>
                <a:spcPts val="601"/>
              </a:spcBef>
              <a:buClr>
                <a:srgbClr val="f06157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tems (vascular tissues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882720" indent="-609840">
              <a:spcBef>
                <a:spcPts val="601"/>
              </a:spcBef>
              <a:buClr>
                <a:srgbClr val="f06157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Leaves - site of </a:t>
            </a:r>
            <a:r>
              <a:rPr b="0" lang="en-US" sz="2400" spc="-1" strike="noStrike" u="sng">
                <a:solidFill>
                  <a:srgbClr val="ff9218"/>
                </a:solidFill>
                <a:uFillTx/>
                <a:latin typeface="Lucida Grande"/>
                <a:hlinkClick r:id="rId1"/>
              </a:rPr>
              <a:t>photosynthesis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(animation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 spd="slow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Tissu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Like your body, a plant’s body is made up of tissues that form organs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ree types of tissu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609480" indent="-609480">
              <a:spcBef>
                <a:spcPts val="601"/>
              </a:spcBef>
              <a:buClr>
                <a:srgbClr val="3568c7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Dermal – Protective outer layer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609480" indent="-609480">
              <a:spcBef>
                <a:spcPts val="601"/>
              </a:spcBef>
              <a:buClr>
                <a:srgbClr val="3568c7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Vascular – conducts water, minerals, and organic compounds throughout a plan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609480" indent="-609480">
              <a:spcBef>
                <a:spcPts val="601"/>
              </a:spcBef>
              <a:buClr>
                <a:srgbClr val="3568c7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Ground – makes up much of the inside of the roots, stems, and leav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ross Section of a Leaf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09" name="Content Placeholder 3" descr="Picture 1.png"/>
          <p:cNvPicPr/>
          <p:nvPr/>
        </p:nvPicPr>
        <p:blipFill>
          <a:blip r:embed="rId1"/>
          <a:srcRect l="0" t="-23321" r="0" b="-23321"/>
          <a:stretch/>
        </p:blipFill>
        <p:spPr>
          <a:xfrm>
            <a:off x="533520" y="820800"/>
            <a:ext cx="819468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Content Placeholder 3" descr="Picture 1.png"/>
          <p:cNvPicPr/>
          <p:nvPr/>
        </p:nvPicPr>
        <p:blipFill>
          <a:blip r:embed="rId1"/>
          <a:srcRect l="0" t="-23321" r="0" b="-23321"/>
          <a:stretch/>
        </p:blipFill>
        <p:spPr>
          <a:xfrm>
            <a:off x="-3146400" y="838080"/>
            <a:ext cx="8327880" cy="6912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Dermal Tissu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0" y="18748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Epidermis - thick outer layer for protec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Lucida Grande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kin</a:t>
            </a:r>
            <a:r>
              <a:rPr b="0" lang="ja-JP" sz="2400" spc="-1" strike="noStrike">
                <a:solidFill>
                  <a:srgbClr val="000000"/>
                </a:solidFill>
                <a:latin typeface="Lucida Grande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of the plan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epi = up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dermis = ski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found in roots, stems, and leav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3" name="Oval 5"/>
          <p:cNvSpPr/>
          <p:nvPr/>
        </p:nvSpPr>
        <p:spPr>
          <a:xfrm>
            <a:off x="3772080" y="2743200"/>
            <a:ext cx="125712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d1f0"/>
              </a:solidFill>
              <a:latin typeface="Arial"/>
            </a:endParaRPr>
          </a:p>
        </p:txBody>
      </p:sp>
      <p:sp>
        <p:nvSpPr>
          <p:cNvPr id="114" name="Oval 6"/>
          <p:cNvSpPr/>
          <p:nvPr/>
        </p:nvSpPr>
        <p:spPr>
          <a:xfrm>
            <a:off x="3772080" y="4800600"/>
            <a:ext cx="125712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d1f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Vascular Tissu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16" name="Content Placeholder 3" descr="Picture 1.png"/>
          <p:cNvPicPr/>
          <p:nvPr/>
        </p:nvPicPr>
        <p:blipFill>
          <a:blip r:embed="rId1"/>
          <a:srcRect l="0" t="-23321" r="0" b="-23321"/>
          <a:stretch/>
        </p:blipFill>
        <p:spPr>
          <a:xfrm>
            <a:off x="-3146400" y="838080"/>
            <a:ext cx="8327880" cy="6912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0" y="18748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098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Functions of Vascular Tissue: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1009800" indent="-609840">
              <a:spcBef>
                <a:spcPts val="601"/>
              </a:spcBef>
              <a:buClr>
                <a:srgbClr val="f06157"/>
              </a:buClr>
              <a:buFont typeface="Lucida Gran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ransports water, mineral nutrients, and organic molecules between the roots and shoot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1009800" indent="-609840">
              <a:spcBef>
                <a:spcPts val="601"/>
              </a:spcBef>
              <a:buClr>
                <a:srgbClr val="f06157"/>
              </a:buClr>
              <a:buFont typeface="Lucida Gran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ontribute to structural support of plan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8" name="Oval 5"/>
          <p:cNvSpPr/>
          <p:nvPr/>
        </p:nvSpPr>
        <p:spPr>
          <a:xfrm>
            <a:off x="3886200" y="3657600"/>
            <a:ext cx="125748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d1f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Vascular Tissu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20" name="Content Placeholder 3" descr="Picture 1.png"/>
          <p:cNvPicPr/>
          <p:nvPr/>
        </p:nvPicPr>
        <p:blipFill>
          <a:blip r:embed="rId1"/>
          <a:srcRect l="0" t="-23321" r="0" b="-23321"/>
          <a:stretch/>
        </p:blipFill>
        <p:spPr>
          <a:xfrm>
            <a:off x="-3146400" y="838080"/>
            <a:ext cx="8327880" cy="6912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0" y="18748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84080" indent="-3920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Xylem - moves water and minerals from the roots upwards to the stems and leaves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8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84080" indent="-3920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Phloem - transports sugars to roots and non-photosynthetic parts of the plant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8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119960" indent="-3916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Lucida Grande"/>
              </a:rPr>
              <a:t>“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Lucida Grande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OOD =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Lucida Grande"/>
              </a:rPr>
              <a:t>PH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LOEM</a:t>
            </a:r>
            <a:r>
              <a:rPr b="0" lang="ja-JP" sz="2000" spc="-1" strike="noStrike">
                <a:solidFill>
                  <a:srgbClr val="000000"/>
                </a:solidFill>
                <a:latin typeface="Lucida Grande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119960" indent="-3916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ap tap = 60 gallons of sap make 1 gallon of syrup!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2" name="Oval 5"/>
          <p:cNvSpPr/>
          <p:nvPr/>
        </p:nvSpPr>
        <p:spPr>
          <a:xfrm>
            <a:off x="3886200" y="3657600"/>
            <a:ext cx="125748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d1f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Vascular Tissu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Xylem - forms toward the INSIDE of the vascular cambium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hloem - forms toward the OUTSID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25" name="Picture 7" descr=""/>
          <p:cNvPicPr/>
          <p:nvPr/>
        </p:nvPicPr>
        <p:blipFill>
          <a:blip r:embed="rId1"/>
          <a:stretch/>
        </p:blipFill>
        <p:spPr>
          <a:xfrm>
            <a:off x="2025720" y="3308400"/>
            <a:ext cx="5105160" cy="3355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Ground Tissu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Ground Tissu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makes up the inside of most plant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upports the vascular tissue (found in between vessels of xylem and phloem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n leaves – cells packed with chloroplasts and aids in photosynthesi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n stems and roots – storage of water, sugar, and starch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 spd="slow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Content Placeholder 3" descr="Picture 1.png"/>
          <p:cNvPicPr/>
          <p:nvPr/>
        </p:nvPicPr>
        <p:blipFill>
          <a:blip r:embed="rId1"/>
          <a:srcRect l="0" t="-23321" r="0" b="-23321"/>
          <a:stretch/>
        </p:blipFill>
        <p:spPr>
          <a:xfrm>
            <a:off x="3483000" y="762120"/>
            <a:ext cx="8327880" cy="6912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270000" y="2114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In leaves, the grou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tissue is called mesophyl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Meso = “Middle”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Phyllon = “Leaf”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Contains closel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packed cells tha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absorb light that enters the leaf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Main site for photosynthesis!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0" name="Oval 7"/>
          <p:cNvSpPr/>
          <p:nvPr/>
        </p:nvSpPr>
        <p:spPr>
          <a:xfrm>
            <a:off x="5429160" y="3352680"/>
            <a:ext cx="125748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d1f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Palisade Mesophyll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1T16:32:32Z</dcterms:created>
  <dc:creator>Brett Erdmann</dc:creator>
  <dc:description/>
  <dc:language>en-US</dc:language>
  <cp:lastModifiedBy>Patriot</cp:lastModifiedBy>
  <dcterms:modified xsi:type="dcterms:W3CDTF">2012-05-03T02:11:52Z</dcterms:modified>
  <cp:revision>131</cp:revision>
  <dc:subject/>
  <dc:title>The Plant Body</dc:title>
</cp:coreProperties>
</file>