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media/image4.png" ContentType="image/png"/>
  <Override PartName="/ppt/media/image2.pct" ContentType="image/x-pict"/>
  <Override PartName="/ppt/media/image3.pct" ContentType="image/x-pict"/>
  <Override PartName="/ppt/media/image6.png" ContentType="image/png"/>
  <Override PartName="/ppt/media/image5.pct" ContentType="image/x-pict"/>
  <Override PartName="/ppt/media/image10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EF6F-5B71-4C9A-ACB6-1112597DD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BE7F-DB7D-4D25-9949-07EA7AE24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91CB-0969-477A-B89B-C86B4D257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7143-C065-46E4-A070-5C8852EF6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4BEC-4D9C-4D94-9F1E-97A9A8333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B25B-C8F9-4C38-856D-046EDDF4E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8423-3D18-4198-B9F0-D41FD9FF9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C321-1B4F-466C-A382-BD329480A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89BB-A0D9-4FBC-A667-16B4993F1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167C-3160-4171-8BF9-2EB8470F2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405B-D03F-43ED-B283-95B85A13F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8C30-3817-42A9-A411-5C0DEE4AD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F4D5-BECF-439B-BC91-F6585C374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6A82-E326-4560-B2E0-AA01A747A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55E0-91C9-413B-A4C1-E4D48D24F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B544-1951-4001-A403-757D482E2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D4E2-8263-4826-8293-6B7C4541D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C778-39AF-43D3-9F90-27AC2A2CD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C75F-63D6-43C5-BB9D-DA7C796FB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5F10-768B-482D-BFF0-07AC1BD7B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63AA-274B-4746-BBE9-D3DF1259C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E3D0-C894-4943-917F-9101EFD21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F33A-2F2F-4935-BDAE-150F3D3FF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7021-F1A0-4B2A-9FB4-79703ED48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A856-068F-4984-ACD2-207F35536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EE06-710D-4518-B497-6759A3D93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2BF9-EC0D-4E77-A28D-443CC822C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B362-67FA-465C-BC09-10D2DAAE6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5F23-E407-49EA-A294-0AB3CA01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8F36-278A-4718-ABE9-8E5A3B94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7DEF-55F6-4127-9501-228C1271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7379-34E8-4006-9A05-1CCC956F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DD7A-EA40-4AED-B01B-A69843E8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DF04-2C52-4309-832C-FAC3324F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4FA5-1793-466D-B5DA-99E4C264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2346-CD98-4D9C-8083-AFD43778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0DF7-5DFC-419A-9F9B-FA756CE1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A61C-31DA-4898-BA77-542FCCC7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5510-1F6A-4A46-B9CD-F0BEE55A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D4C3-BF00-4CDC-AF47-CB8891E7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E61B-6A85-4572-A06D-4D51FF1AB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rt of the brain that issues instructions to the pituitary gland is t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TPChart"/>
          <p:cNvGraphicFramePr/>
          <p:nvPr/>
        </p:nvGraphicFramePr>
        <p:xfrm>
          <a:off x="4572000" y="1981080"/>
          <a:ext cx="441972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81080"/>
                    <a:ext cx="44197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2742840"/>
            <a:ext cx="3886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ala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ebel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eb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 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rShape1"/>
          <p:cNvSpPr/>
          <p:nvPr/>
        </p:nvSpPr>
        <p:spPr>
          <a:xfrm rot="10800000">
            <a:off x="374400" y="2885760"/>
            <a:ext cx="291960" cy="29196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where implantation occu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TPChart"/>
          <p:cNvGraphicFramePr/>
          <p:nvPr/>
        </p:nvGraphicFramePr>
        <p:xfrm>
          <a:off x="4573440" y="2666880"/>
          <a:ext cx="457056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3440" y="2666880"/>
                    <a:ext cx="457056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1523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44197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structure secretes an alkaline fluid to neutralize the acidity in the female reproductive tra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TPChart"/>
          <p:cNvGraphicFramePr/>
          <p:nvPr/>
        </p:nvGraphicFramePr>
        <p:xfrm>
          <a:off x="5106960" y="2362320"/>
          <a:ext cx="38084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6960" y="2362320"/>
                    <a:ext cx="38084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3"/>
          <a:stretch/>
        </p:blipFill>
        <p:spPr>
          <a:xfrm>
            <a:off x="0" y="1981080"/>
            <a:ext cx="5334120" cy="400068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11"/>
          <p:cNvGrpSpPr/>
          <p:nvPr/>
        </p:nvGrpSpPr>
        <p:grpSpPr>
          <a:xfrm>
            <a:off x="304920" y="2590920"/>
            <a:ext cx="4778280" cy="2135880"/>
            <a:chOff x="304920" y="2590920"/>
            <a:chExt cx="4778280" cy="2135880"/>
          </a:xfrm>
        </p:grpSpPr>
        <p:sp>
          <p:nvSpPr>
            <p:cNvPr id="104" name="Text Box 6"/>
            <p:cNvSpPr/>
            <p:nvPr/>
          </p:nvSpPr>
          <p:spPr>
            <a:xfrm>
              <a:off x="380880" y="28954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304920" y="388620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8"/>
            <p:cNvSpPr/>
            <p:nvPr/>
          </p:nvSpPr>
          <p:spPr>
            <a:xfrm>
              <a:off x="4648320" y="259092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4572000" y="335268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4495680" y="4267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advantage of asexual reprodu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var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a lot of energy to find a m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ffspring are produced over a short period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male and female game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orShape1"/>
          <p:cNvSpPr/>
          <p:nvPr/>
        </p:nvSpPr>
        <p:spPr>
          <a:xfrm rot="10800000">
            <a:off x="228240" y="3962160"/>
            <a:ext cx="546120" cy="46980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hormones are produced they are secreted into th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crine g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orShape1"/>
          <p:cNvSpPr/>
          <p:nvPr/>
        </p:nvSpPr>
        <p:spPr>
          <a:xfrm rot="10800000">
            <a:off x="450720" y="4363920"/>
            <a:ext cx="292320" cy="292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 what stage has the egg been released into the fallopian tub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str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icular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Luteum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any point in th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orShape1"/>
          <p:cNvSpPr/>
          <p:nvPr/>
        </p:nvSpPr>
        <p:spPr>
          <a:xfrm rot="10800000">
            <a:off x="217080" y="3389040"/>
            <a:ext cx="584280" cy="5842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truation occurs beca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icle devel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ulation oc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Luteum App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Luteum Degene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orShape1"/>
          <p:cNvSpPr/>
          <p:nvPr/>
        </p:nvSpPr>
        <p:spPr>
          <a:xfrm>
            <a:off x="217440" y="4948200"/>
            <a:ext cx="584280" cy="58428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cal twins result fr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fertilized eg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fertilized eg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Egg fertilized by 2 sp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Eggs fertilized by 1 sp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orShape1"/>
          <p:cNvSpPr/>
          <p:nvPr/>
        </p:nvSpPr>
        <p:spPr>
          <a:xfrm rot="10800000">
            <a:off x="-360" y="2057040"/>
            <a:ext cx="291960" cy="29196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does ovulation occu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ge in FSH le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ge in LH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ge in Estrogen le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ge in Progesterone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orShape1"/>
          <p:cNvSpPr/>
          <p:nvPr/>
        </p:nvSpPr>
        <p:spPr>
          <a:xfrm>
            <a:off x="380880" y="2743200"/>
            <a:ext cx="290520" cy="2919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SH has a direct effect on what ovarian ev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ion of the corpus lute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integration of the uterine l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of the follicl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ion of progesteron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3746520" cy="5651640"/>
          </a:xfrm>
          <a:prstGeom prst="rect">
            <a:avLst/>
          </a:prstGeom>
          <a:ln w="0">
            <a:noFill/>
          </a:ln>
        </p:spPr>
      </p:pic>
      <p:sp>
        <p:nvSpPr>
          <p:cNvPr id="142" name="CorShape1"/>
          <p:cNvSpPr/>
          <p:nvPr/>
        </p:nvSpPr>
        <p:spPr>
          <a:xfrm rot="10800000">
            <a:off x="-60480" y="3583080"/>
            <a:ext cx="457200" cy="45720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ormation of the corpus luteum coincides with what other ev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owth of the foll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se in the level of progesterone in bloodst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integration of uterine l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str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4952880" y="1206360"/>
            <a:ext cx="3746520" cy="5651640"/>
          </a:xfrm>
          <a:prstGeom prst="rect">
            <a:avLst/>
          </a:prstGeom>
          <a:ln w="0">
            <a:noFill/>
          </a:ln>
        </p:spPr>
      </p:pic>
      <p:sp>
        <p:nvSpPr>
          <p:cNvPr id="146" name="CorShape1"/>
          <p:cNvSpPr/>
          <p:nvPr/>
        </p:nvSpPr>
        <p:spPr>
          <a:xfrm>
            <a:off x="281160" y="3352680"/>
            <a:ext cx="480960" cy="60984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a negative feedback mechanism, high levels of a horm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TPChart"/>
          <p:cNvGraphicFramePr/>
          <p:nvPr/>
        </p:nvGraphicFramePr>
        <p:xfrm>
          <a:off x="4724280" y="1828800"/>
          <a:ext cx="4354560" cy="49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828800"/>
                    <a:ext cx="4354560" cy="49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ibit production of more horm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ate production of more horm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nerve impul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 nerve impul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rShape1"/>
          <p:cNvSpPr/>
          <p:nvPr/>
        </p:nvSpPr>
        <p:spPr>
          <a:xfrm rot="10800000">
            <a:off x="50400" y="2195280"/>
            <a:ext cx="507960" cy="50796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integration of the endometrium is caused by a decrease in this horm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este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oste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4952880" y="1206360"/>
            <a:ext cx="3746520" cy="5651640"/>
          </a:xfrm>
          <a:prstGeom prst="rect">
            <a:avLst/>
          </a:prstGeom>
          <a:ln w="0">
            <a:noFill/>
          </a:ln>
        </p:spPr>
      </p:pic>
      <p:sp>
        <p:nvSpPr>
          <p:cNvPr id="150" name="CorShape1"/>
          <p:cNvSpPr/>
          <p:nvPr/>
        </p:nvSpPr>
        <p:spPr>
          <a:xfrm rot="10800000">
            <a:off x="450720" y="3292200"/>
            <a:ext cx="292320" cy="29196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ich of the following is the correct pathway of the sperm out of the male’s body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    B      C 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    B      E     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    AB     AC 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      C     A   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4495680" y="2182680"/>
            <a:ext cx="4419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9"/>
          <p:cNvGrpSpPr/>
          <p:nvPr/>
        </p:nvGrpSpPr>
        <p:grpSpPr>
          <a:xfrm>
            <a:off x="1066680" y="2286000"/>
            <a:ext cx="2210040" cy="0"/>
            <a:chOff x="1066680" y="2286000"/>
            <a:chExt cx="2210040" cy="0"/>
          </a:xfrm>
        </p:grpSpPr>
        <p:sp>
          <p:nvSpPr>
            <p:cNvPr id="155" name="Line 6"/>
            <p:cNvSpPr/>
            <p:nvPr/>
          </p:nvSpPr>
          <p:spPr>
            <a:xfrm>
              <a:off x="2895480" y="22860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>
              <a:off x="2057400" y="22860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>
              <a:off x="1066680" y="228600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0"/>
          <p:cNvGrpSpPr/>
          <p:nvPr/>
        </p:nvGrpSpPr>
        <p:grpSpPr>
          <a:xfrm>
            <a:off x="1066680" y="2895480"/>
            <a:ext cx="2210040" cy="0"/>
            <a:chOff x="1066680" y="2895480"/>
            <a:chExt cx="2210040" cy="0"/>
          </a:xfrm>
        </p:grpSpPr>
        <p:sp>
          <p:nvSpPr>
            <p:cNvPr id="159" name="Line 11"/>
            <p:cNvSpPr/>
            <p:nvPr/>
          </p:nvSpPr>
          <p:spPr>
            <a:xfrm>
              <a:off x="2895480" y="2895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2"/>
            <p:cNvSpPr/>
            <p:nvPr/>
          </p:nvSpPr>
          <p:spPr>
            <a:xfrm>
              <a:off x="2057400" y="28954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3"/>
            <p:cNvSpPr/>
            <p:nvPr/>
          </p:nvSpPr>
          <p:spPr>
            <a:xfrm>
              <a:off x="1066680" y="2895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22"/>
          <p:cNvGrpSpPr/>
          <p:nvPr/>
        </p:nvGrpSpPr>
        <p:grpSpPr>
          <a:xfrm>
            <a:off x="1143000" y="3429000"/>
            <a:ext cx="2514600" cy="0"/>
            <a:chOff x="1143000" y="3429000"/>
            <a:chExt cx="2514600" cy="0"/>
          </a:xfrm>
        </p:grpSpPr>
        <p:sp>
          <p:nvSpPr>
            <p:cNvPr id="163" name="Line 15"/>
            <p:cNvSpPr/>
            <p:nvPr/>
          </p:nvSpPr>
          <p:spPr>
            <a:xfrm>
              <a:off x="3276720" y="34290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6"/>
            <p:cNvSpPr/>
            <p:nvPr/>
          </p:nvSpPr>
          <p:spPr>
            <a:xfrm>
              <a:off x="2133720" y="34290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7"/>
            <p:cNvSpPr/>
            <p:nvPr/>
          </p:nvSpPr>
          <p:spPr>
            <a:xfrm>
              <a:off x="1143000" y="34290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8"/>
          <p:cNvGrpSpPr/>
          <p:nvPr/>
        </p:nvGrpSpPr>
        <p:grpSpPr>
          <a:xfrm>
            <a:off x="1371600" y="4038480"/>
            <a:ext cx="2209320" cy="0"/>
            <a:chOff x="1371600" y="4038480"/>
            <a:chExt cx="2209320" cy="0"/>
          </a:xfrm>
        </p:grpSpPr>
        <p:sp>
          <p:nvSpPr>
            <p:cNvPr id="167" name="Line 19"/>
            <p:cNvSpPr/>
            <p:nvPr/>
          </p:nvSpPr>
          <p:spPr>
            <a:xfrm>
              <a:off x="3200040" y="40384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0"/>
            <p:cNvSpPr/>
            <p:nvPr/>
          </p:nvSpPr>
          <p:spPr>
            <a:xfrm>
              <a:off x="2361960" y="4038480"/>
              <a:ext cx="38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1"/>
            <p:cNvSpPr/>
            <p:nvPr/>
          </p:nvSpPr>
          <p:spPr>
            <a:xfrm>
              <a:off x="1371600" y="40384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CorShape1"/>
          <p:cNvSpPr/>
          <p:nvPr/>
        </p:nvSpPr>
        <p:spPr>
          <a:xfrm>
            <a:off x="380880" y="3200400"/>
            <a:ext cx="290520" cy="2919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of the female hormones are pituitary horm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este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oste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orShape1"/>
          <p:cNvSpPr/>
          <p:nvPr/>
        </p:nvSpPr>
        <p:spPr>
          <a:xfrm rot="10800000">
            <a:off x="374400" y="2428560"/>
            <a:ext cx="291960" cy="29196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re are 2 hormones A and B, how would they interact during negative feedback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ormone A increases, hormone B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ormone A increases, hormone B 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ormone A increases, nothing happens to hormon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orShape1"/>
          <p:cNvSpPr/>
          <p:nvPr/>
        </p:nvSpPr>
        <p:spPr>
          <a:xfrm rot="10800000">
            <a:off x="-101880" y="3287520"/>
            <a:ext cx="507960" cy="50796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of the following set of hormones would be elevated during pregnanc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G and progeste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H and progeste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H and H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H and progeste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orShape1"/>
          <p:cNvSpPr/>
          <p:nvPr/>
        </p:nvSpPr>
        <p:spPr>
          <a:xfrm rot="10800000">
            <a:off x="217080" y="2677680"/>
            <a:ext cx="584280" cy="5842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xual reproduction ensures survival of a population in the face of environmental challen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32767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orShape1"/>
          <p:cNvSpPr/>
          <p:nvPr/>
        </p:nvSpPr>
        <p:spPr>
          <a:xfrm rot="10800000">
            <a:off x="603000" y="3419280"/>
            <a:ext cx="291960" cy="29196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other name for a fertilized eg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stula (blastocy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orShape1"/>
          <p:cNvSpPr/>
          <p:nvPr/>
        </p:nvSpPr>
        <p:spPr>
          <a:xfrm rot="10800000">
            <a:off x="75960" y="4181400"/>
            <a:ext cx="291960" cy="292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hen this hormone increases, it signals the pituitary gland to stop making FS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este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orShape1"/>
          <p:cNvSpPr/>
          <p:nvPr/>
        </p:nvSpPr>
        <p:spPr>
          <a:xfrm rot="10800000">
            <a:off x="450720" y="4333680"/>
            <a:ext cx="292320" cy="29196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rm cells are produced by meiosis in th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TPChart"/>
          <p:cNvGraphicFramePr/>
          <p:nvPr/>
        </p:nvGraphicFramePr>
        <p:xfrm>
          <a:off x="4573440" y="1716120"/>
          <a:ext cx="457056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3440" y="1716120"/>
                    <a:ext cx="457056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didy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 defer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niferous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o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orShape1"/>
          <p:cNvSpPr/>
          <p:nvPr/>
        </p:nvSpPr>
        <p:spPr>
          <a:xfrm rot="10800000">
            <a:off x="217080" y="3389040"/>
            <a:ext cx="584280" cy="5842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amete-producing organs of the female reproductive system is t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TPChart"/>
          <p:cNvGraphicFramePr/>
          <p:nvPr/>
        </p:nvGraphicFramePr>
        <p:xfrm>
          <a:off x="4724280" y="2057400"/>
          <a:ext cx="426744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2674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3886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lute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opian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niferous Tub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orShape1"/>
          <p:cNvSpPr/>
          <p:nvPr/>
        </p:nvSpPr>
        <p:spPr>
          <a:xfrm rot="10800000">
            <a:off x="450720" y="3825720"/>
            <a:ext cx="292320" cy="292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typical adult 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born with all the sperm he will ever produ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sperm during a monthly cy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several hundred million sperm each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(1) and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rShape1"/>
          <p:cNvSpPr/>
          <p:nvPr/>
        </p:nvSpPr>
        <p:spPr>
          <a:xfrm rot="10800000">
            <a:off x="-243000" y="4731840"/>
            <a:ext cx="685800" cy="68580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sperm mature, they move into the urethra by way of th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 defer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nal ves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orShape1"/>
          <p:cNvSpPr/>
          <p:nvPr/>
        </p:nvSpPr>
        <p:spPr>
          <a:xfrm rot="10800000">
            <a:off x="450720" y="2707920"/>
            <a:ext cx="292320" cy="29196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truation in humans usually occ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28 days after ov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14 days after ov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ing fertilization of eg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rShape1"/>
          <p:cNvSpPr/>
          <p:nvPr/>
        </p:nvSpPr>
        <p:spPr>
          <a:xfrm rot="10800000">
            <a:off x="217080" y="3292200"/>
            <a:ext cx="584280" cy="58428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es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Sp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e testoste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in the scro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orShape1"/>
          <p:cNvSpPr/>
          <p:nvPr/>
        </p:nvSpPr>
        <p:spPr>
          <a:xfrm rot="10800000">
            <a:off x="450720" y="4851360"/>
            <a:ext cx="292320" cy="2923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allopian tu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TPChart"/>
          <p:cNvGraphicFramePr/>
          <p:nvPr/>
        </p:nvGraphicFramePr>
        <p:xfrm>
          <a:off x="4508640" y="1650960"/>
          <a:ext cx="4570200" cy="51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020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e es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eg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where the Ovum travels th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rShape1"/>
          <p:cNvSpPr/>
          <p:nvPr/>
        </p:nvSpPr>
        <p:spPr>
          <a:xfrm rot="10800000">
            <a:off x="217080" y="3876840"/>
            <a:ext cx="584280" cy="583920"/>
          </a:xfrm>
          <a:prstGeom prst="pie">
            <a:avLst/>
          </a:pr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3:12:04Z</dcterms:created>
  <dc:creator>Pat Riot</dc:creator>
  <dc:description/>
  <dc:language>en-US</dc:language>
  <cp:lastModifiedBy>Patriot</cp:lastModifiedBy>
  <dcterms:modified xsi:type="dcterms:W3CDTF">2012-02-27T13:55:10Z</dcterms:modified>
  <cp:revision>22</cp:revision>
  <dc:subject/>
  <dc:title>The part of the brain that issues instructions to the pituitary gland is the</dc:title>
</cp:coreProperties>
</file>