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media/image4.png" ContentType="image/png"/>
  <Override PartName="/ppt/media/image2.pct" ContentType="image/x-pict"/>
  <Override PartName="/ppt/media/image3.pct" ContentType="image/x-pict"/>
  <Override PartName="/ppt/media/image6.png" ContentType="image/png"/>
  <Override PartName="/ppt/media/image5.pct" ContentType="image/x-pict"/>
  <Override PartName="/ppt/media/image10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C284-C916-4711-8942-E4523DB1B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95E0-7F57-4669-BD13-8A8F05169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E26E-826E-44AF-B2CF-90F806A9C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069C-1143-465C-804A-96DBF6FDD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A5E7-F7C8-4FDD-AF40-D1BBC7C00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939B-0E58-440D-8203-9DB3C5019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E192-605C-40D0-9BC8-3AB6153D1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0E95-A913-420A-A374-5A4437DDE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29AE-3B03-49D6-A56A-51D485555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EB5D-A2E7-4983-B71E-8D036A76A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3D9E-EC9A-4C80-8787-4C3379E59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255A-B4FB-4FCA-9464-21A790FD8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CB79-47A8-40F2-B51C-4787E0B8F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6315-D1CC-4991-8835-8B3C1DF9B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2A31-C23C-4F25-B59A-02C4E0FD2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FA37-A6B2-4EF6-844C-DBB88BEC6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9C1D-A1EC-4E98-A267-39527FF5E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0D6F-C9B9-4C84-90C0-C41AF37C0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E8D4-910E-4E53-BAEC-B64132ED9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7CEF-3108-4D1A-A9D6-83C544598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AEFA-83C5-437D-9F97-AFF99A9E4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AD54-56A4-4A6D-B4AD-D42F5D9D2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064B-AAB5-44AF-9CDE-DB629A3BB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4D1E-E448-45D6-92D5-07B60951E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166F-069E-4704-B5F9-2E16C3088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0DAC-8B83-4326-9BA6-D4C5CEA15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1015-ADEA-4801-B245-52FE42A30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1672-F98A-4E71-A9FF-8F5E94EAD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16B-4B32-49AA-B66C-C33EA663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225-D8DD-4504-928C-B3267E95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81D3-CB3F-43F9-B628-C49EEFA4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7266-FCCB-4988-A2BD-1CA7753E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4C6-447C-4663-A54A-A406EFF6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84E-AE9E-430B-B417-F01FEF6A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7D6-CA15-4BBE-8AC6-12C09053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70B-6E8D-4AA7-8B12-94D7C0D3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033-4AD0-4E21-BAF4-3925700A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90D-45D5-4F3F-8017-A8843430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6CB-A476-4AAC-A608-59879980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C8B-8CF3-4B79-81D6-AD229293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DDF2-CD78-453E-92AC-52E503281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t of the brain that issues instructions to the pituitary gland is 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TPChart"/>
          <p:cNvGraphicFramePr/>
          <p:nvPr/>
        </p:nvGraphicFramePr>
        <p:xfrm>
          <a:off x="4572000" y="1981080"/>
          <a:ext cx="44197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81080"/>
                    <a:ext cx="44197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2742840"/>
            <a:ext cx="3886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 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rShape1"/>
          <p:cNvSpPr/>
          <p:nvPr/>
        </p:nvSpPr>
        <p:spPr>
          <a:xfrm rot="10800000">
            <a:off x="374400" y="2885760"/>
            <a:ext cx="291960" cy="2919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where implantation occu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73440" y="2666880"/>
          <a:ext cx="457056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3440" y="2666880"/>
                    <a:ext cx="45705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523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44197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structure secretes an alkaline fluid to neutralize the acidity in the female reproductive tra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5106960" y="2362320"/>
          <a:ext cx="38084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6960" y="2362320"/>
                    <a:ext cx="38084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0" y="1981080"/>
            <a:ext cx="5334120" cy="40006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11"/>
          <p:cNvGrpSpPr/>
          <p:nvPr/>
        </p:nvGrpSpPr>
        <p:grpSpPr>
          <a:xfrm>
            <a:off x="304920" y="2590920"/>
            <a:ext cx="4778280" cy="2135880"/>
            <a:chOff x="304920" y="2590920"/>
            <a:chExt cx="4778280" cy="2135880"/>
          </a:xfrm>
        </p:grpSpPr>
        <p:sp>
          <p:nvSpPr>
            <p:cNvPr id="104" name="Text Box 6"/>
            <p:cNvSpPr/>
            <p:nvPr/>
          </p:nvSpPr>
          <p:spPr>
            <a:xfrm>
              <a:off x="380880" y="28954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304920" y="388620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4648320" y="259092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4572000" y="335268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4495680" y="426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advantage of asexual reprodu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var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 lot of energy to find a m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ffspring are produced over a short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male and female game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rShape1"/>
          <p:cNvSpPr/>
          <p:nvPr/>
        </p:nvSpPr>
        <p:spPr>
          <a:xfrm rot="10800000">
            <a:off x="228240" y="3962160"/>
            <a:ext cx="546120" cy="46980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hormones are produced they are secreted into th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 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orShape1"/>
          <p:cNvSpPr/>
          <p:nvPr/>
        </p:nvSpPr>
        <p:spPr>
          <a:xfrm rot="10800000">
            <a:off x="450720" y="4363920"/>
            <a:ext cx="292320" cy="292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what stage has the egg been released into the fallopian tub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str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icula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Luteum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ny point in th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orShape1"/>
          <p:cNvSpPr/>
          <p:nvPr/>
        </p:nvSpPr>
        <p:spPr>
          <a:xfrm rot="10800000">
            <a:off x="217080" y="3389040"/>
            <a:ext cx="584280" cy="5842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truation occurs bec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icle devel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ulation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Luteum App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Luteum Degene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orShape1"/>
          <p:cNvSpPr/>
          <p:nvPr/>
        </p:nvSpPr>
        <p:spPr>
          <a:xfrm>
            <a:off x="217440" y="4948200"/>
            <a:ext cx="584280" cy="58428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cal twins result fr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fertilized eg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fertilized eg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Egg fertilized by 2 sp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Eggs fertilized by 1 sp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rShape1"/>
          <p:cNvSpPr/>
          <p:nvPr/>
        </p:nvSpPr>
        <p:spPr>
          <a:xfrm rot="10800000">
            <a:off x="-360" y="2057040"/>
            <a:ext cx="291960" cy="2919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oes ovulation occu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 in FSH le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 in LH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 in Estrogen le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 in Progesterone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orShape1"/>
          <p:cNvSpPr/>
          <p:nvPr/>
        </p:nvSpPr>
        <p:spPr>
          <a:xfrm>
            <a:off x="380880" y="2743200"/>
            <a:ext cx="290520" cy="2919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SH has a direct effect on what ovarian ev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ion of the corpus lut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integration of the uterine l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the follic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ion of progestero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3746520" cy="5651640"/>
          </a:xfrm>
          <a:prstGeom prst="rect">
            <a:avLst/>
          </a:prstGeom>
          <a:ln w="0">
            <a:noFill/>
          </a:ln>
        </p:spPr>
      </p:pic>
      <p:sp>
        <p:nvSpPr>
          <p:cNvPr id="142" name="CorShape1"/>
          <p:cNvSpPr/>
          <p:nvPr/>
        </p:nvSpPr>
        <p:spPr>
          <a:xfrm rot="10800000">
            <a:off x="-60480" y="3583080"/>
            <a:ext cx="457200" cy="45720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rmation of the corpus luteum coincides with what other ev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wth of the foll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se in the level of progesterone in bloodst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integration of uterine l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str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4952880" y="1206360"/>
            <a:ext cx="3746520" cy="5651640"/>
          </a:xfrm>
          <a:prstGeom prst="rect">
            <a:avLst/>
          </a:prstGeom>
          <a:ln w="0">
            <a:noFill/>
          </a:ln>
        </p:spPr>
      </p:pic>
      <p:sp>
        <p:nvSpPr>
          <p:cNvPr id="146" name="CorShape1"/>
          <p:cNvSpPr/>
          <p:nvPr/>
        </p:nvSpPr>
        <p:spPr>
          <a:xfrm>
            <a:off x="281160" y="3352680"/>
            <a:ext cx="480960" cy="60984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a negative feedback mechanism, high levels of a horm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724280" y="1828800"/>
          <a:ext cx="4354560" cy="49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828800"/>
                    <a:ext cx="435456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ibit production of more horm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e production of more horm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nerve impul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nerve impul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rShape1"/>
          <p:cNvSpPr/>
          <p:nvPr/>
        </p:nvSpPr>
        <p:spPr>
          <a:xfrm rot="10800000">
            <a:off x="50400" y="2195280"/>
            <a:ext cx="507960" cy="5079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integration of the endometrium is caused by a decrease in this horm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4952880" y="1206360"/>
            <a:ext cx="3746520" cy="5651640"/>
          </a:xfrm>
          <a:prstGeom prst="rect">
            <a:avLst/>
          </a:prstGeom>
          <a:ln w="0">
            <a:noFill/>
          </a:ln>
        </p:spPr>
      </p:pic>
      <p:sp>
        <p:nvSpPr>
          <p:cNvPr id="150" name="CorShape1"/>
          <p:cNvSpPr/>
          <p:nvPr/>
        </p:nvSpPr>
        <p:spPr>
          <a:xfrm rot="10800000">
            <a:off x="450720" y="3292200"/>
            <a:ext cx="292320" cy="2919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ich of the following is the correct pathway of the sperm out of the male’s bod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   B      C 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    B      E    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    AB     AC 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      C     A   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4495680" y="2182680"/>
            <a:ext cx="4419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9"/>
          <p:cNvGrpSpPr/>
          <p:nvPr/>
        </p:nvGrpSpPr>
        <p:grpSpPr>
          <a:xfrm>
            <a:off x="1066680" y="2286000"/>
            <a:ext cx="2210040" cy="0"/>
            <a:chOff x="1066680" y="2286000"/>
            <a:chExt cx="2210040" cy="0"/>
          </a:xfrm>
        </p:grpSpPr>
        <p:sp>
          <p:nvSpPr>
            <p:cNvPr id="155" name="Line 6"/>
            <p:cNvSpPr/>
            <p:nvPr/>
          </p:nvSpPr>
          <p:spPr>
            <a:xfrm>
              <a:off x="2895480" y="22860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>
              <a:off x="2057400" y="22860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1066680" y="22860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0"/>
          <p:cNvGrpSpPr/>
          <p:nvPr/>
        </p:nvGrpSpPr>
        <p:grpSpPr>
          <a:xfrm>
            <a:off x="1066680" y="2895480"/>
            <a:ext cx="2210040" cy="0"/>
            <a:chOff x="1066680" y="2895480"/>
            <a:chExt cx="2210040" cy="0"/>
          </a:xfrm>
        </p:grpSpPr>
        <p:sp>
          <p:nvSpPr>
            <p:cNvPr id="159" name="Line 11"/>
            <p:cNvSpPr/>
            <p:nvPr/>
          </p:nvSpPr>
          <p:spPr>
            <a:xfrm>
              <a:off x="2895480" y="2895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2"/>
            <p:cNvSpPr/>
            <p:nvPr/>
          </p:nvSpPr>
          <p:spPr>
            <a:xfrm>
              <a:off x="2057400" y="28954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"/>
            <p:cNvSpPr/>
            <p:nvPr/>
          </p:nvSpPr>
          <p:spPr>
            <a:xfrm>
              <a:off x="1066680" y="2895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22"/>
          <p:cNvGrpSpPr/>
          <p:nvPr/>
        </p:nvGrpSpPr>
        <p:grpSpPr>
          <a:xfrm>
            <a:off x="1143000" y="3429000"/>
            <a:ext cx="2514600" cy="0"/>
            <a:chOff x="1143000" y="3429000"/>
            <a:chExt cx="2514600" cy="0"/>
          </a:xfrm>
        </p:grpSpPr>
        <p:sp>
          <p:nvSpPr>
            <p:cNvPr id="163" name="Line 15"/>
            <p:cNvSpPr/>
            <p:nvPr/>
          </p:nvSpPr>
          <p:spPr>
            <a:xfrm>
              <a:off x="3276720" y="34290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>
              <a:off x="2133720" y="34290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7"/>
            <p:cNvSpPr/>
            <p:nvPr/>
          </p:nvSpPr>
          <p:spPr>
            <a:xfrm>
              <a:off x="1143000" y="34290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8"/>
          <p:cNvGrpSpPr/>
          <p:nvPr/>
        </p:nvGrpSpPr>
        <p:grpSpPr>
          <a:xfrm>
            <a:off x="1371600" y="4038480"/>
            <a:ext cx="2209320" cy="0"/>
            <a:chOff x="1371600" y="4038480"/>
            <a:chExt cx="2209320" cy="0"/>
          </a:xfrm>
        </p:grpSpPr>
        <p:sp>
          <p:nvSpPr>
            <p:cNvPr id="167" name="Line 19"/>
            <p:cNvSpPr/>
            <p:nvPr/>
          </p:nvSpPr>
          <p:spPr>
            <a:xfrm>
              <a:off x="3200040" y="40384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0"/>
            <p:cNvSpPr/>
            <p:nvPr/>
          </p:nvSpPr>
          <p:spPr>
            <a:xfrm>
              <a:off x="2361960" y="403848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1"/>
            <p:cNvSpPr/>
            <p:nvPr/>
          </p:nvSpPr>
          <p:spPr>
            <a:xfrm>
              <a:off x="1371600" y="40384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CorShape1"/>
          <p:cNvSpPr/>
          <p:nvPr/>
        </p:nvSpPr>
        <p:spPr>
          <a:xfrm>
            <a:off x="380880" y="3200400"/>
            <a:ext cx="290520" cy="2919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emale hormones are pituitary horm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orShape1"/>
          <p:cNvSpPr/>
          <p:nvPr/>
        </p:nvSpPr>
        <p:spPr>
          <a:xfrm rot="10800000">
            <a:off x="374400" y="2428560"/>
            <a:ext cx="291960" cy="2919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re are 2 hormones A and B, how would they interact during negative feedback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ormone A increases, hormone B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ormone A increases, hormone B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ormone A increases, nothing happens to hormon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rShape1"/>
          <p:cNvSpPr/>
          <p:nvPr/>
        </p:nvSpPr>
        <p:spPr>
          <a:xfrm rot="10800000">
            <a:off x="-101880" y="3287520"/>
            <a:ext cx="507960" cy="5079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set of hormones would be elevated during pregnanc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G and proge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H and proge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H and H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H and proge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orShape1"/>
          <p:cNvSpPr/>
          <p:nvPr/>
        </p:nvSpPr>
        <p:spPr>
          <a:xfrm rot="10800000">
            <a:off x="217080" y="2677680"/>
            <a:ext cx="584280" cy="5842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xual reproduction ensures survival of a population in the face of environmental challen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3276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rShape1"/>
          <p:cNvSpPr/>
          <p:nvPr/>
        </p:nvSpPr>
        <p:spPr>
          <a:xfrm rot="10800000">
            <a:off x="603000" y="3419280"/>
            <a:ext cx="291960" cy="2919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other name for a fertilized eg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 (blastoc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orShape1"/>
          <p:cNvSpPr/>
          <p:nvPr/>
        </p:nvSpPr>
        <p:spPr>
          <a:xfrm rot="10800000">
            <a:off x="75960" y="4181400"/>
            <a:ext cx="291960" cy="292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en this hormone increases, it signals the pituitary gland to stop making FS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rShape1"/>
          <p:cNvSpPr/>
          <p:nvPr/>
        </p:nvSpPr>
        <p:spPr>
          <a:xfrm rot="10800000">
            <a:off x="450720" y="4333680"/>
            <a:ext cx="292320" cy="2919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rm cells are produced by meiosis in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TPChart"/>
          <p:cNvGraphicFramePr/>
          <p:nvPr/>
        </p:nvGraphicFramePr>
        <p:xfrm>
          <a:off x="4573440" y="1716120"/>
          <a:ext cx="457056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3440" y="1716120"/>
                    <a:ext cx="457056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didy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 defer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iferous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o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orShape1"/>
          <p:cNvSpPr/>
          <p:nvPr/>
        </p:nvSpPr>
        <p:spPr>
          <a:xfrm rot="10800000">
            <a:off x="217080" y="3389040"/>
            <a:ext cx="584280" cy="5842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amete-producing organs of the female reproductive system is 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TPChart"/>
          <p:cNvGraphicFramePr/>
          <p:nvPr/>
        </p:nvGraphicFramePr>
        <p:xfrm>
          <a:off x="4724280" y="2057400"/>
          <a:ext cx="426744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2674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86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lut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opian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iferous Tub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orShape1"/>
          <p:cNvSpPr/>
          <p:nvPr/>
        </p:nvSpPr>
        <p:spPr>
          <a:xfrm rot="10800000">
            <a:off x="450720" y="3825720"/>
            <a:ext cx="292320" cy="292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ypical adult 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born with all the sperm he will ever produ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sperm during a monthly cy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several hundred million sperm each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(1) and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rShape1"/>
          <p:cNvSpPr/>
          <p:nvPr/>
        </p:nvSpPr>
        <p:spPr>
          <a:xfrm rot="10800000">
            <a:off x="-243000" y="4731840"/>
            <a:ext cx="685800" cy="68580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sperm mature, they move into the urethra by way of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 defer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l ves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orShape1"/>
          <p:cNvSpPr/>
          <p:nvPr/>
        </p:nvSpPr>
        <p:spPr>
          <a:xfrm rot="10800000">
            <a:off x="450720" y="2707920"/>
            <a:ext cx="292320" cy="2919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truation in humans usually occ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28 days after ov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14 days after ov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fertilization of eg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rShape1"/>
          <p:cNvSpPr/>
          <p:nvPr/>
        </p:nvSpPr>
        <p:spPr>
          <a:xfrm rot="10800000">
            <a:off x="217080" y="3292200"/>
            <a:ext cx="584280" cy="5842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es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Sp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e testo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in the scro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rShape1"/>
          <p:cNvSpPr/>
          <p:nvPr/>
        </p:nvSpPr>
        <p:spPr>
          <a:xfrm rot="10800000">
            <a:off x="450720" y="4851360"/>
            <a:ext cx="292320" cy="292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llopian tu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e es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eg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where the Ovum travels 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rShape1"/>
          <p:cNvSpPr/>
          <p:nvPr/>
        </p:nvSpPr>
        <p:spPr>
          <a:xfrm rot="10800000">
            <a:off x="217080" y="3876840"/>
            <a:ext cx="584280" cy="5839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3:12:04Z</dcterms:created>
  <dc:creator>Pat Riot</dc:creator>
  <dc:description/>
  <dc:language>en-US</dc:language>
  <cp:lastModifiedBy>Patriot</cp:lastModifiedBy>
  <dcterms:modified xsi:type="dcterms:W3CDTF">2012-02-27T13:55:10Z</dcterms:modified>
  <cp:revision>22</cp:revision>
  <dc:subject/>
  <dc:title>The part of the brain that issues instructions to the pituitary gland is the</dc:title>
</cp:coreProperties>
</file>