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37107-9115-48DD-AA50-244F3995C1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move the slide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B89255-AC4F-47FB-A8BA-989CCF2F3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ypes of plants reproduce through seeds? – gymnosperms and angiosp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mosses and ferns reproduce? – sp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BB65F-9156-4E45-A0B4-178004A30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ypes of plants reproduce through seeds? – gymnosperms and angiosp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mosses and ferns reproduce? – sp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71B084-F691-4946-A833-03A57FE4F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F1AB-5913-4BC3-AE23-D13AB341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9E5C-31F0-4EDC-92AE-4E40FBAB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E0029-779F-4F6C-8860-3A305830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65876-BE47-402F-9B8C-F588E9CE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19F9E-E928-4625-8258-995F2A12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301F3-5971-4E09-8923-5FFFE380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CE013-EF9F-4171-9FFA-5F6405C7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BB82F-55B7-4EC4-9BA6-0A2FF1A7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6B4C4-056C-4227-BF4F-7083CC3A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28B52-2CA7-4689-AEDC-01494ED4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AFB5F-4302-404A-BF46-08DFE462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CBEB-BB83-4944-98B2-56B30F91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37C0-37A5-425F-8FBC-04674F92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78A1-3499-4E14-8316-D1A6BDA7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8B5B-98CA-43A9-A388-A50C7590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2596-48BA-42DA-BECE-CCC529E9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927B-5DD7-4693-A5AC-4BCCEAB2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A715-DDF1-43DF-826E-0A44A78D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D4E3-B985-474E-B9F0-E4FCD836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54D6-3C86-4667-98DC-160AB164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D969-D764-4224-9EE6-74D8DBE9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E8EF-42BF-42EE-A203-7A5A2B58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3EDB-9984-4488-A572-19496668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E740-792B-4DB3-AFCB-67026F71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1C14-265C-48DB-B2A8-89F86BAF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1E79-4B5B-4FB4-B6B6-79A9DA06F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417D7-A921-4BEE-AA13-0F5F41E5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95F73-5726-48E0-A7D7-283EB97E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3B85B-BBE1-4D9A-B7DB-EB23B415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DCA00-5506-49F5-97CF-129F691C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03B2F-F6B4-4ACA-8C67-6B309716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70C8-3CA4-4298-A8AF-81637EB6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DAAFF-B2CB-47B1-B01D-AC9A24AB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4EDCA-11FE-4ED9-8770-B28C10DB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98E0B-1D77-4DD9-8D5B-D2C57B2C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0C60A-6296-4D4A-A69A-8653AFAE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1AF38-44B4-4173-A0E2-BA87CB95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F582F-BF3A-4978-A750-B4ABBA2F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3FA53-6708-4A17-8DE6-F6039EF7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792C4-633E-44E6-A0A1-40E12CAD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4A529-C611-4763-ADAE-45EEEBD0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3ACB5-17BD-4837-B039-6CA4CC14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AA6D-EDED-44D1-B864-604E28D7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8002F-491A-414A-9F17-EBABE1C3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82899-B357-48C9-BA92-3EA836C6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29971-A599-4E62-9B85-F40B5AA8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BD7D8-5844-45A8-8868-9DDA20F9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BCC9E-2353-4E75-A6D4-8AD40201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B30B5-72F1-4732-884B-090FBC11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8FC4B-00FA-425C-BFBC-E408ED82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4F727-A436-40BE-9415-DFD72600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35DD8-F893-4439-9203-CC919004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DA698-8E88-4D0D-9683-DDA00688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B6E8-3DE0-4C43-822C-4ADA6F98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83007-DE4B-403C-A25D-605A4369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2267E-6C58-4112-A360-3C75D775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A6F80-1FE3-4E01-B8C7-4B24D438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66B03-1CFB-4ABA-9066-51F93063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959D7-20FD-4518-A3C8-70AA0933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E1406-2BD4-46A0-A567-6840FDA4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4AF9A-8331-4980-9456-E507AD27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3D606-9897-43C9-81F6-E91049F9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4D30F-F183-4A39-990C-3806B40B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DEF79-5A19-4F7A-BA97-00BD5E5E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374C-B8A9-4701-A255-73DFD0F8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A7FB9-689F-4CC3-8C58-F989149D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3F10D-243B-465C-A068-48550D16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127FD-5725-4E3E-B1B4-8AC96C23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61EF4-F78B-4A07-B0AC-05409985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83248-5E96-4540-825C-11F99831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F4BEE-5C4E-4FA7-96B5-BA2316BC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B7C96-6C74-4A2B-A5BD-1A6E795A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28D8D-CCEE-4B27-980C-53839E2D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73C66-8427-475B-A016-83CDA55D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E4C70-942E-4E89-BBAB-3F622B67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A1B1-68F6-4C12-AD5A-841B0ECE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F0024-196F-492C-AEDC-A04741BF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AD378-3D0B-492B-A736-5CD9E0A3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2FF5E-BCC2-4774-A396-856B7B70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E85B6-829A-4819-9BAA-CC33080F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EF9C4-B8E4-4C5E-8423-A42FD589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EF103-DA32-4D1C-8419-D203A4F5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0DC8F-8613-4CAA-BD89-6FFE94EA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A9872-5E77-4730-96E9-6FD25596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8812B-9BB3-426C-954C-4FC1D65B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D64A3-70DB-4F94-BB59-93468B86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5F70-00F2-49A7-845E-BC80D5B7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94FA0-51EC-4773-9C03-D2268094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3C2DD-E81A-463F-8DA8-332F6B74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F8A3B-D30E-458B-B532-E5497E4E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51882-88F6-42C7-A9A0-B16F2351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91D0D-DBE0-4B09-A62C-4C340377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4AB3F-98D4-48D4-B4A0-D0EE7B6C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4FCCA-A14A-419B-BB84-C8B0DAFA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588C6-E3E4-4DB6-BCEC-66317929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8E74D-2977-4338-B6D6-58556CB2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8DC9D-317B-44EE-8577-941790E7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3CFC-D593-4989-B304-6DE6E81A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19DCC-2B3E-4AC0-B88E-01611CBE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23565-EF4E-40AF-ADD3-B58662C4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C5246-6710-4FA9-8D7B-3C0599F0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EB7A5-FED8-49F7-BA5B-64A60464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A67CB-034D-4F15-9D83-365A8E32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CB751-D72C-4879-88F6-ED956C26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9A71D-A14D-42D7-9D31-5FB2140B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EA8AD-AE8D-4325-BEF9-EDBCE785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469D8-FD08-475C-9DA5-39DCD399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8E5D3-74D8-4E38-B699-5157387C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E58C7-3F09-43E7-815A-6EB00DDD6D6F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752480" y="28782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800" spc="-1" strike="noStrike">
                <a:solidFill>
                  <a:srgbClr val="74980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61A1E-1B6E-4A0C-8491-1F2714AD326F}" type="slidenum">
              <a:rPr b="1" lang="en-US" sz="1800" spc="-1" strike="noStrike">
                <a:solidFill>
                  <a:srgbClr val="74980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8"/>
          <p:cNvGrpSpPr/>
          <p:nvPr/>
        </p:nvGrpSpPr>
        <p:grpSpPr>
          <a:xfrm>
            <a:off x="843120" y="2971800"/>
            <a:ext cx="914400" cy="914400"/>
            <a:chOff x="843120" y="2971800"/>
            <a:chExt cx="914400" cy="914400"/>
          </a:xfrm>
        </p:grpSpPr>
        <p:sp>
          <p:nvSpPr>
            <p:cNvPr id="6" name="Rounded Rectangle 7"/>
            <p:cNvSpPr/>
            <p:nvPr/>
          </p:nvSpPr>
          <p:spPr>
            <a:xfrm>
              <a:off x="843120" y="29718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10"/>
            <p:cNvGrpSpPr/>
            <p:nvPr/>
          </p:nvGrpSpPr>
          <p:grpSpPr>
            <a:xfrm>
              <a:off x="948600" y="3034080"/>
              <a:ext cx="700920" cy="801000"/>
              <a:chOff x="948600" y="3034080"/>
              <a:chExt cx="700920" cy="801000"/>
            </a:xfrm>
          </p:grpSpPr>
          <p:sp>
            <p:nvSpPr>
              <p:cNvPr id="8" name="Oval 11"/>
              <p:cNvSpPr/>
              <p:nvPr/>
            </p:nvSpPr>
            <p:spPr>
              <a:xfrm>
                <a:off x="948600" y="3034080"/>
                <a:ext cx="700920" cy="455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val 12"/>
              <p:cNvSpPr/>
              <p:nvPr/>
            </p:nvSpPr>
            <p:spPr>
              <a:xfrm>
                <a:off x="1290240" y="3497400"/>
                <a:ext cx="29412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Oval 13"/>
              <p:cNvSpPr/>
              <p:nvPr/>
            </p:nvSpPr>
            <p:spPr>
              <a:xfrm>
                <a:off x="1274400" y="3706560"/>
                <a:ext cx="19080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Oval 14"/>
              <p:cNvSpPr/>
              <p:nvPr/>
            </p:nvSpPr>
            <p:spPr>
              <a:xfrm>
                <a:off x="1144080" y="3278160"/>
                <a:ext cx="302040" cy="19656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 Same Side Corner Rectangle 15"/>
          <p:cNvSpPr/>
          <p:nvPr/>
        </p:nvSpPr>
        <p:spPr>
          <a:xfrm rot="16200000">
            <a:off x="1066680" y="1603080"/>
            <a:ext cx="3475080" cy="3475080"/>
          </a:xfrm>
          <a:prstGeom prst="pie">
            <a:avLst/>
          </a:prstGeom>
          <a:solidFill>
            <a:srgbClr val="749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5"/>
          <p:cNvGrpSpPr/>
          <p:nvPr/>
        </p:nvGrpSpPr>
        <p:grpSpPr>
          <a:xfrm>
            <a:off x="2071800" y="2503440"/>
            <a:ext cx="1466640" cy="1676520"/>
            <a:chOff x="2071800" y="2503440"/>
            <a:chExt cx="1466640" cy="1676520"/>
          </a:xfrm>
        </p:grpSpPr>
        <p:sp>
          <p:nvSpPr>
            <p:cNvPr id="50" name="Oval 17"/>
            <p:cNvSpPr/>
            <p:nvPr/>
          </p:nvSpPr>
          <p:spPr>
            <a:xfrm>
              <a:off x="2071800" y="2503440"/>
              <a:ext cx="1466640" cy="9525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8"/>
            <p:cNvSpPr/>
            <p:nvPr/>
          </p:nvSpPr>
          <p:spPr>
            <a:xfrm>
              <a:off x="2787480" y="3473640"/>
              <a:ext cx="612720" cy="4096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19"/>
            <p:cNvSpPr/>
            <p:nvPr/>
          </p:nvSpPr>
          <p:spPr>
            <a:xfrm>
              <a:off x="2752560" y="3910320"/>
              <a:ext cx="398160" cy="26964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20"/>
            <p:cNvSpPr/>
            <p:nvPr/>
          </p:nvSpPr>
          <p:spPr>
            <a:xfrm>
              <a:off x="2481120" y="3016080"/>
              <a:ext cx="630000" cy="407880"/>
            </a:xfrm>
            <a:prstGeom prst="ellipse">
              <a:avLst/>
            </a:prstGeom>
            <a:solidFill>
              <a:srgbClr val="ffffff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ound Same Side Corner Rectangle 21"/>
          <p:cNvSpPr/>
          <p:nvPr/>
        </p:nvSpPr>
        <p:spPr>
          <a:xfrm flipH="1" rot="5400000">
            <a:off x="4571280" y="1603080"/>
            <a:ext cx="3475080" cy="3475080"/>
          </a:xfrm>
          <a:prstGeom prst="pie">
            <a:avLst/>
          </a:prstGeom>
          <a:solidFill>
            <a:srgbClr val="bac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F464EF-A02C-4FAA-AEAC-81CF1B5CA87F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News Gothic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16EDAB-8337-4A01-B824-4A1F98BDB105}" type="slidenum">
              <a:rPr b="1" lang="en-US" sz="900" spc="-1" strike="noStrike">
                <a:solidFill>
                  <a:srgbClr val="bfbfbf"/>
                </a:solidFill>
                <a:latin typeface="News Gothic M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 Same Side Corner Rectangle 15"/>
          <p:cNvSpPr/>
          <p:nvPr/>
        </p:nvSpPr>
        <p:spPr>
          <a:xfrm rot="16200000">
            <a:off x="1066680" y="1603080"/>
            <a:ext cx="3475080" cy="3475080"/>
          </a:xfrm>
          <a:prstGeom prst="pie">
            <a:avLst/>
          </a:prstGeom>
          <a:solidFill>
            <a:srgbClr val="749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25"/>
          <p:cNvGrpSpPr/>
          <p:nvPr/>
        </p:nvGrpSpPr>
        <p:grpSpPr>
          <a:xfrm>
            <a:off x="2071800" y="1843200"/>
            <a:ext cx="1466640" cy="1676160"/>
            <a:chOff x="2071800" y="1843200"/>
            <a:chExt cx="1466640" cy="1676160"/>
          </a:xfrm>
        </p:grpSpPr>
        <p:sp>
          <p:nvSpPr>
            <p:cNvPr id="98" name="Oval 17"/>
            <p:cNvSpPr/>
            <p:nvPr/>
          </p:nvSpPr>
          <p:spPr>
            <a:xfrm>
              <a:off x="2071800" y="1843200"/>
              <a:ext cx="1466640" cy="9525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8"/>
            <p:cNvSpPr/>
            <p:nvPr/>
          </p:nvSpPr>
          <p:spPr>
            <a:xfrm>
              <a:off x="2787480" y="2813040"/>
              <a:ext cx="612720" cy="40932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9"/>
            <p:cNvSpPr/>
            <p:nvPr/>
          </p:nvSpPr>
          <p:spPr>
            <a:xfrm>
              <a:off x="2752560" y="3249720"/>
              <a:ext cx="398160" cy="26964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0"/>
            <p:cNvSpPr/>
            <p:nvPr/>
          </p:nvSpPr>
          <p:spPr>
            <a:xfrm>
              <a:off x="2481120" y="2355840"/>
              <a:ext cx="630000" cy="407880"/>
            </a:xfrm>
            <a:prstGeom prst="ellipse">
              <a:avLst/>
            </a:prstGeom>
            <a:solidFill>
              <a:srgbClr val="ffffff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F58D56-A35F-486A-B2B5-69CA4F37ADB2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31880-1DD6-4BA6-9C00-5F2E95985B3C}" type="slidenum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6"/>
          <p:cNvGrpSpPr/>
          <p:nvPr/>
        </p:nvGrpSpPr>
        <p:grpSpPr>
          <a:xfrm>
            <a:off x="222120" y="1254240"/>
            <a:ext cx="7893360" cy="3919320"/>
            <a:chOff x="222120" y="1254240"/>
            <a:chExt cx="7893360" cy="3919320"/>
          </a:xfrm>
        </p:grpSpPr>
        <p:sp>
          <p:nvSpPr>
            <p:cNvPr id="144" name="Rounded Rectangle 16"/>
            <p:cNvSpPr/>
            <p:nvPr/>
          </p:nvSpPr>
          <p:spPr>
            <a:xfrm>
              <a:off x="1028520" y="1600200"/>
              <a:ext cx="7086960" cy="3475080"/>
            </a:xfrm>
            <a:prstGeom prst="roundRect">
              <a:avLst>
                <a:gd name="adj" fmla="val 3120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9"/>
            <p:cNvGrpSpPr/>
            <p:nvPr/>
          </p:nvGrpSpPr>
          <p:grpSpPr>
            <a:xfrm>
              <a:off x="222120" y="1254240"/>
              <a:ext cx="3429000" cy="3919320"/>
              <a:chOff x="222120" y="1254240"/>
              <a:chExt cx="3429000" cy="3919320"/>
            </a:xfrm>
          </p:grpSpPr>
          <p:sp>
            <p:nvSpPr>
              <p:cNvPr id="146" name="Oval 18"/>
              <p:cNvSpPr/>
              <p:nvPr/>
            </p:nvSpPr>
            <p:spPr>
              <a:xfrm>
                <a:off x="222120" y="1254240"/>
                <a:ext cx="3429000" cy="22255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19"/>
              <p:cNvSpPr/>
              <p:nvPr/>
            </p:nvSpPr>
            <p:spPr>
              <a:xfrm>
                <a:off x="1895400" y="3522600"/>
                <a:ext cx="1433520" cy="95544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20"/>
              <p:cNvSpPr/>
              <p:nvPr/>
            </p:nvSpPr>
            <p:spPr>
              <a:xfrm>
                <a:off x="1814400" y="4543560"/>
                <a:ext cx="931680" cy="630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21"/>
              <p:cNvSpPr/>
              <p:nvPr/>
            </p:nvSpPr>
            <p:spPr>
              <a:xfrm>
                <a:off x="1177560" y="2452680"/>
                <a:ext cx="1476360" cy="95544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D51CE9-ED22-44CD-A452-459C3326FD2C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News Gothic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9DDA6-4FC2-4601-942D-B4C0F69D3164}" type="slidenum">
              <a:rPr b="1" lang="en-US" sz="900" spc="-1" strike="noStrike">
                <a:solidFill>
                  <a:srgbClr val="bfbfbf"/>
                </a:solidFill>
                <a:latin typeface="News Gothic M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3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192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10"/>
            <p:cNvGrpSpPr/>
            <p:nvPr/>
          </p:nvGrpSpPr>
          <p:grpSpPr>
            <a:xfrm>
              <a:off x="7524720" y="519120"/>
              <a:ext cx="700200" cy="801720"/>
              <a:chOff x="7524720" y="519120"/>
              <a:chExt cx="700200" cy="801720"/>
            </a:xfrm>
          </p:grpSpPr>
          <p:sp>
            <p:nvSpPr>
              <p:cNvPr id="194" name="Oval 18"/>
              <p:cNvSpPr/>
              <p:nvPr/>
            </p:nvSpPr>
            <p:spPr>
              <a:xfrm>
                <a:off x="7524720" y="519120"/>
                <a:ext cx="700200" cy="455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19"/>
              <p:cNvSpPr/>
              <p:nvPr/>
            </p:nvSpPr>
            <p:spPr>
              <a:xfrm>
                <a:off x="7866000" y="982800"/>
                <a:ext cx="29376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0"/>
              <p:cNvSpPr/>
              <p:nvPr/>
            </p:nvSpPr>
            <p:spPr>
              <a:xfrm>
                <a:off x="7850160" y="119232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1"/>
              <p:cNvSpPr/>
              <p:nvPr/>
            </p:nvSpPr>
            <p:spPr>
              <a:xfrm>
                <a:off x="7719840" y="763560"/>
                <a:ext cx="301680" cy="1969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BD9F1-40E9-4E0E-B220-8623391C59DA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321400" y="36360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800" spc="-1" strike="noStrike">
                <a:solidFill>
                  <a:srgbClr val="74980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E7A0E7-F8E9-4E0D-8693-D7A47035707E}" type="slidenum">
              <a:rPr b="1" lang="en-US" sz="1800" spc="-1" strike="noStrike">
                <a:solidFill>
                  <a:srgbClr val="74980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5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240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17"/>
            <p:cNvGrpSpPr/>
            <p:nvPr/>
          </p:nvGrpSpPr>
          <p:grpSpPr>
            <a:xfrm>
              <a:off x="7524720" y="519120"/>
              <a:ext cx="700200" cy="801720"/>
              <a:chOff x="7524720" y="519120"/>
              <a:chExt cx="700200" cy="801720"/>
            </a:xfrm>
          </p:grpSpPr>
          <p:sp>
            <p:nvSpPr>
              <p:cNvPr id="242" name="Oval 18"/>
              <p:cNvSpPr/>
              <p:nvPr/>
            </p:nvSpPr>
            <p:spPr>
              <a:xfrm>
                <a:off x="7524720" y="519120"/>
                <a:ext cx="700200" cy="455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19"/>
              <p:cNvSpPr/>
              <p:nvPr/>
            </p:nvSpPr>
            <p:spPr>
              <a:xfrm>
                <a:off x="7866000" y="982800"/>
                <a:ext cx="29376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20"/>
              <p:cNvSpPr/>
              <p:nvPr/>
            </p:nvSpPr>
            <p:spPr>
              <a:xfrm>
                <a:off x="7850160" y="119232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21"/>
              <p:cNvSpPr/>
              <p:nvPr/>
            </p:nvSpPr>
            <p:spPr>
              <a:xfrm>
                <a:off x="7719840" y="763560"/>
                <a:ext cx="301680" cy="1969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3A39A-66EB-48A6-B6E5-86EB102CFA4E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8321400" y="36504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800" spc="-1" strike="noStrike">
                <a:solidFill>
                  <a:srgbClr val="749805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34F41-E4E5-4394-BA87-1B4AE9271ADF}" type="slidenum">
              <a:rPr b="1" lang="en-US" sz="1800" spc="-1" strike="noStrike">
                <a:solidFill>
                  <a:srgbClr val="749805"/>
                </a:solidFill>
                <a:latin typeface="News Gothic M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8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288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10"/>
            <p:cNvGrpSpPr/>
            <p:nvPr/>
          </p:nvGrpSpPr>
          <p:grpSpPr>
            <a:xfrm>
              <a:off x="7524720" y="519120"/>
              <a:ext cx="700200" cy="801720"/>
              <a:chOff x="7524720" y="519120"/>
              <a:chExt cx="700200" cy="801720"/>
            </a:xfrm>
          </p:grpSpPr>
          <p:sp>
            <p:nvSpPr>
              <p:cNvPr id="290" name="Oval 18"/>
              <p:cNvSpPr/>
              <p:nvPr/>
            </p:nvSpPr>
            <p:spPr>
              <a:xfrm>
                <a:off x="7524720" y="519120"/>
                <a:ext cx="700200" cy="455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19"/>
              <p:cNvSpPr/>
              <p:nvPr/>
            </p:nvSpPr>
            <p:spPr>
              <a:xfrm>
                <a:off x="7866000" y="982800"/>
                <a:ext cx="29376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20"/>
              <p:cNvSpPr/>
              <p:nvPr/>
            </p:nvSpPr>
            <p:spPr>
              <a:xfrm>
                <a:off x="7850160" y="119232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21"/>
              <p:cNvSpPr/>
              <p:nvPr/>
            </p:nvSpPr>
            <p:spPr>
              <a:xfrm>
                <a:off x="7719840" y="763560"/>
                <a:ext cx="301680" cy="1969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C4BB5C-1FC7-406C-930D-2C5F647F7C65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321400" y="36504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800" spc="-1" strike="noStrike">
                <a:solidFill>
                  <a:srgbClr val="74980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58A3FE-DB94-4C23-9159-23958CD6770F}" type="slidenum">
              <a:rPr b="1" lang="en-US" sz="1800" spc="-1" strike="noStrike">
                <a:solidFill>
                  <a:srgbClr val="74980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7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336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Group 10"/>
            <p:cNvGrpSpPr/>
            <p:nvPr/>
          </p:nvGrpSpPr>
          <p:grpSpPr>
            <a:xfrm>
              <a:off x="7524720" y="519120"/>
              <a:ext cx="700200" cy="801720"/>
              <a:chOff x="7524720" y="519120"/>
              <a:chExt cx="700200" cy="801720"/>
            </a:xfrm>
          </p:grpSpPr>
          <p:sp>
            <p:nvSpPr>
              <p:cNvPr id="338" name="Oval 18"/>
              <p:cNvSpPr/>
              <p:nvPr/>
            </p:nvSpPr>
            <p:spPr>
              <a:xfrm>
                <a:off x="7524720" y="519120"/>
                <a:ext cx="700200" cy="455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Oval 19"/>
              <p:cNvSpPr/>
              <p:nvPr/>
            </p:nvSpPr>
            <p:spPr>
              <a:xfrm>
                <a:off x="7866000" y="982800"/>
                <a:ext cx="29376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Oval 20"/>
              <p:cNvSpPr/>
              <p:nvPr/>
            </p:nvSpPr>
            <p:spPr>
              <a:xfrm>
                <a:off x="7850160" y="119232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Oval 21"/>
              <p:cNvSpPr/>
              <p:nvPr/>
            </p:nvSpPr>
            <p:spPr>
              <a:xfrm>
                <a:off x="7719840" y="763560"/>
                <a:ext cx="301680" cy="1969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F527D-A966-46BA-93BF-D7BF00BDD47B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8321400" y="36504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800" spc="-1" strike="noStrike">
                <a:solidFill>
                  <a:srgbClr val="74980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52BBB1-60FE-4621-9089-79BB4892EB62}" type="slidenum">
              <a:rPr b="1" lang="en-US" sz="1800" spc="-1" strike="noStrike">
                <a:solidFill>
                  <a:srgbClr val="74980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18"/>
          <p:cNvGrpSpPr/>
          <p:nvPr/>
        </p:nvGrpSpPr>
        <p:grpSpPr>
          <a:xfrm>
            <a:off x="843120" y="2971800"/>
            <a:ext cx="914400" cy="914400"/>
            <a:chOff x="843120" y="2971800"/>
            <a:chExt cx="914400" cy="914400"/>
          </a:xfrm>
        </p:grpSpPr>
        <p:sp>
          <p:nvSpPr>
            <p:cNvPr id="384" name="Rounded Rectangle 7"/>
            <p:cNvSpPr/>
            <p:nvPr/>
          </p:nvSpPr>
          <p:spPr>
            <a:xfrm>
              <a:off x="843120" y="29718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Group 10"/>
            <p:cNvGrpSpPr/>
            <p:nvPr/>
          </p:nvGrpSpPr>
          <p:grpSpPr>
            <a:xfrm>
              <a:off x="948600" y="3034080"/>
              <a:ext cx="700920" cy="801000"/>
              <a:chOff x="948600" y="3034080"/>
              <a:chExt cx="700920" cy="801000"/>
            </a:xfrm>
          </p:grpSpPr>
          <p:sp>
            <p:nvSpPr>
              <p:cNvPr id="386" name="Oval 11"/>
              <p:cNvSpPr/>
              <p:nvPr/>
            </p:nvSpPr>
            <p:spPr>
              <a:xfrm>
                <a:off x="948600" y="3034080"/>
                <a:ext cx="700920" cy="455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Oval 12"/>
              <p:cNvSpPr/>
              <p:nvPr/>
            </p:nvSpPr>
            <p:spPr>
              <a:xfrm>
                <a:off x="1290240" y="3497400"/>
                <a:ext cx="29412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Oval 13"/>
              <p:cNvSpPr/>
              <p:nvPr/>
            </p:nvSpPr>
            <p:spPr>
              <a:xfrm>
                <a:off x="1274400" y="3706560"/>
                <a:ext cx="19080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Oval 14"/>
              <p:cNvSpPr/>
              <p:nvPr/>
            </p:nvSpPr>
            <p:spPr>
              <a:xfrm>
                <a:off x="1144080" y="3278160"/>
                <a:ext cx="302040" cy="19656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75D760-CBC0-47BF-B0A6-E6C076A83C98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1752480" y="28782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800" spc="-1" strike="noStrike">
                <a:solidFill>
                  <a:srgbClr val="74980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2F328-9758-4738-9684-92BD36ED134B}" type="slidenum">
              <a:rPr b="1" lang="en-US" sz="1800" spc="-1" strike="noStrike">
                <a:solidFill>
                  <a:srgbClr val="74980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50840" y="1680840"/>
            <a:ext cx="3273480" cy="16398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Seeds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News Gothic MT"/>
              </a:rPr>
              <a:t>Monocot vs. Dico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650840" y="3384720"/>
            <a:ext cx="3273480" cy="5299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News Gothic MT"/>
              </a:rPr>
              <a:t>Accelerated Biology</a:t>
            </a:r>
            <a:endParaRPr b="0" lang="en-US" sz="14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Monocots vs. Dicots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pic>
        <p:nvPicPr>
          <p:cNvPr id="465" name="Content Placeholder 3" descr="monocots_vs_dicots.jpg"/>
          <p:cNvPicPr/>
          <p:nvPr/>
        </p:nvPicPr>
        <p:blipFill>
          <a:blip r:embed="rId1"/>
          <a:srcRect l="-16354" t="0" r="-16354" b="0"/>
          <a:stretch/>
        </p:blipFill>
        <p:spPr>
          <a:xfrm>
            <a:off x="1928880" y="1754280"/>
            <a:ext cx="75042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Content Placeholder 3" descr="Akira seed 2.jpg"/>
          <p:cNvPicPr/>
          <p:nvPr/>
        </p:nvPicPr>
        <p:blipFill>
          <a:blip r:embed="rId1"/>
          <a:srcRect l="-17124" t="0" r="-17124" b="0"/>
          <a:stretch/>
        </p:blipFill>
        <p:spPr>
          <a:xfrm>
            <a:off x="-307800" y="809640"/>
            <a:ext cx="88088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0880" y="228240"/>
            <a:ext cx="4800600" cy="887400"/>
          </a:xfrm>
          <a:prstGeom prst="rect">
            <a:avLst/>
          </a:prstGeom>
          <a:noFill/>
          <a:ln w="0">
            <a:noFill/>
          </a:ln>
        </p:spPr>
        <p:txBody>
          <a:bodyPr l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Monocots vs. Dicots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tretch/>
        </p:blipFill>
        <p:spPr>
          <a:xfrm>
            <a:off x="1825560" y="1631880"/>
            <a:ext cx="535932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40880" y="228240"/>
            <a:ext cx="4800600" cy="887400"/>
          </a:xfrm>
          <a:prstGeom prst="rect">
            <a:avLst/>
          </a:prstGeom>
          <a:noFill/>
          <a:ln w="0">
            <a:noFill/>
          </a:ln>
        </p:spPr>
        <p:txBody>
          <a:bodyPr l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Monocots vs. Dicots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1920960" y="1498680"/>
            <a:ext cx="529092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5" descr=""/>
          <p:cNvPicPr/>
          <p:nvPr/>
        </p:nvPicPr>
        <p:blipFill>
          <a:blip r:embed="rId1"/>
          <a:stretch/>
        </p:blipFill>
        <p:spPr>
          <a:xfrm>
            <a:off x="0" y="1933560"/>
            <a:ext cx="3765600" cy="325116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Seed Anatomy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Seed coat – protects embryo from injury and harsh environment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develops from the outer layers of the ovule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Endosperm – portion of seed that stores food (energy) for the developing embryo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Content Placeholder 3" descr="mono-dicot.gif"/>
          <p:cNvPicPr/>
          <p:nvPr/>
        </p:nvPicPr>
        <p:blipFill>
          <a:blip r:embed="rId1"/>
          <a:srcRect l="-17763" t="0" r="-17763" b="0"/>
          <a:stretch/>
        </p:blipFill>
        <p:spPr>
          <a:xfrm>
            <a:off x="0" y="2766960"/>
            <a:ext cx="3746520" cy="31100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Seed Anatomy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News Gothic MT"/>
              </a:rPr>
              <a:t>Cotyledon – seed leaves</a:t>
            </a:r>
            <a:endParaRPr b="0" lang="en-US" sz="22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bacc82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News Gothic MT"/>
              </a:rPr>
              <a:t>part of the embryo</a:t>
            </a:r>
            <a:endParaRPr b="0" lang="en-US" sz="22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bacc82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News Gothic MT"/>
              </a:rPr>
              <a:t>the first leaves</a:t>
            </a:r>
            <a:endParaRPr b="0" lang="en-US" sz="22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bacc82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News Gothic MT"/>
              </a:rPr>
              <a:t>transfer nutrients to the embryo</a:t>
            </a:r>
            <a:endParaRPr b="0" lang="en-US" sz="22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News Gothic MT"/>
              </a:rPr>
              <a:t>Monocot – I cotyledon</a:t>
            </a:r>
            <a:endParaRPr b="0" lang="en-US" sz="22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lnSpc>
                <a:spcPct val="90000"/>
              </a:lnSpc>
              <a:spcBef>
                <a:spcPts val="601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News Gothic MT"/>
              </a:rPr>
              <a:t>Ex) corn</a:t>
            </a:r>
            <a:endParaRPr b="0" lang="en-US" sz="22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lnSpc>
                <a:spcPct val="90000"/>
              </a:lnSpc>
              <a:spcBef>
                <a:spcPts val="601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News Gothic MT"/>
              </a:rPr>
              <a:t>Dicot – 2 cotyledons</a:t>
            </a:r>
            <a:endParaRPr b="0" lang="en-US" sz="22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lnSpc>
                <a:spcPct val="90000"/>
              </a:lnSpc>
              <a:spcBef>
                <a:spcPts val="601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News Gothic MT"/>
              </a:rPr>
              <a:t>Ex) Kidney and Lima beans</a:t>
            </a:r>
            <a:endParaRPr b="0" lang="en-US" sz="2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Monocot vs. Dico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1"/>
          <a:stretch/>
        </p:blipFill>
        <p:spPr>
          <a:xfrm>
            <a:off x="757080" y="2427120"/>
            <a:ext cx="7620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Monocot vs. Dico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pic>
        <p:nvPicPr>
          <p:cNvPr id="449" name="Picture 4" descr=""/>
          <p:cNvPicPr/>
          <p:nvPr/>
        </p:nvPicPr>
        <p:blipFill>
          <a:blip r:embed="rId1"/>
          <a:stretch/>
        </p:blipFill>
        <p:spPr>
          <a:xfrm>
            <a:off x="2192400" y="2243160"/>
            <a:ext cx="618480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Seed Anatomy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428640" y="2021040"/>
            <a:ext cx="494676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Radicle – embryonic root (becomes root)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</p:txBody>
      </p:sp>
      <p:pic>
        <p:nvPicPr>
          <p:cNvPr id="452" name="Picture 3" descr=""/>
          <p:cNvPicPr/>
          <p:nvPr/>
        </p:nvPicPr>
        <p:blipFill>
          <a:blip r:embed="rId1"/>
          <a:stretch/>
        </p:blipFill>
        <p:spPr>
          <a:xfrm>
            <a:off x="147600" y="2246400"/>
            <a:ext cx="323064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Seed Anatomy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News Gothic MT"/>
              </a:rPr>
              <a:t>Epi</a:t>
            </a: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cotyl – part of the shoot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stem </a:t>
            </a:r>
            <a:r>
              <a:rPr b="0" i="1" lang="en-US" sz="2400" spc="-1" strike="noStrike">
                <a:solidFill>
                  <a:srgbClr val="404040"/>
                </a:solidFill>
                <a:latin typeface="News Gothic MT"/>
              </a:rPr>
              <a:t>above </a:t>
            </a: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cotyledons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News Gothic MT"/>
              </a:rPr>
              <a:t>Hypo</a:t>
            </a: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cotyl – part of root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stem </a:t>
            </a:r>
            <a:r>
              <a:rPr b="0" i="1" lang="en-US" sz="2400" spc="-1" strike="noStrike">
                <a:solidFill>
                  <a:srgbClr val="404040"/>
                </a:solidFill>
                <a:latin typeface="News Gothic MT"/>
              </a:rPr>
              <a:t>below </a:t>
            </a: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cotyledons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</p:txBody>
      </p:sp>
      <p:pic>
        <p:nvPicPr>
          <p:cNvPr id="455" name="Picture 5" descr=""/>
          <p:cNvPicPr/>
          <p:nvPr/>
        </p:nvPicPr>
        <p:blipFill>
          <a:blip r:embed="rId1"/>
          <a:stretch/>
        </p:blipFill>
        <p:spPr>
          <a:xfrm>
            <a:off x="263520" y="2021040"/>
            <a:ext cx="316548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Monocots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Leaf veins parallel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Vascular tissue scattered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Flower parts in threes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Ex) lilies, grasses, corn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</p:txBody>
      </p:sp>
      <p:pic>
        <p:nvPicPr>
          <p:cNvPr id="458" name="Picture 9" descr=""/>
          <p:cNvPicPr/>
          <p:nvPr/>
        </p:nvPicPr>
        <p:blipFill>
          <a:blip r:embed="rId1"/>
          <a:stretch/>
        </p:blipFill>
        <p:spPr>
          <a:xfrm>
            <a:off x="304920" y="2389320"/>
            <a:ext cx="2806560" cy="21430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6" descr=""/>
          <p:cNvPicPr/>
          <p:nvPr/>
        </p:nvPicPr>
        <p:blipFill>
          <a:blip r:embed="rId2"/>
          <a:stretch/>
        </p:blipFill>
        <p:spPr>
          <a:xfrm>
            <a:off x="4416480" y="4419720"/>
            <a:ext cx="230508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Dicots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Leaf veins netlike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Ring of vascular tissue 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Flower parts in fours or fives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Ex) trees, geranium, cacti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</p:txBody>
      </p:sp>
      <p:pic>
        <p:nvPicPr>
          <p:cNvPr id="462" name="Picture 6" descr=""/>
          <p:cNvPicPr/>
          <p:nvPr/>
        </p:nvPicPr>
        <p:blipFill>
          <a:blip r:embed="rId1"/>
          <a:stretch/>
        </p:blipFill>
        <p:spPr>
          <a:xfrm>
            <a:off x="4152960" y="4343400"/>
            <a:ext cx="3098880" cy="2276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7" descr=""/>
          <p:cNvPicPr/>
          <p:nvPr/>
        </p:nvPicPr>
        <p:blipFill>
          <a:blip r:embed="rId2"/>
          <a:stretch/>
        </p:blipFill>
        <p:spPr>
          <a:xfrm>
            <a:off x="439560" y="2487600"/>
            <a:ext cx="2565720" cy="2195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12:02:17Z</dcterms:created>
  <dc:creator>Patriot</dc:creator>
  <dc:description/>
  <dc:language>en-US</dc:language>
  <cp:lastModifiedBy>Patriot</cp:lastModifiedBy>
  <dcterms:modified xsi:type="dcterms:W3CDTF">2012-05-04T13:07:18Z</dcterms:modified>
  <cp:revision>10</cp:revision>
  <dc:subject/>
  <dc:title>Monocots vs. Dicots</dc:title>
</cp:coreProperties>
</file>