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EC339-85EB-445B-AEAE-A834E9EE62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move the sl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0F05E-A95C-42D1-B27E-CF831D336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s of plants reproduce through seeds? – gymnosperms and angiosp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mosses and ferns reproduce? – sp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93D9A-CB7D-4A53-8CEC-F3D6C51D9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s of plants reproduce through seeds? – gymnosperms and angiosp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mosses and ferns reproduce? – sp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17902-FB4B-41B6-9076-89DCDFE22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9ED-71DC-4698-8633-68175FF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D2B-571A-4B93-A352-3B6914AB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AFF7E-71BC-4A39-83C6-ED2857D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1A908-B48A-49AC-B583-1E9F21FB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26FC3-CB97-442C-8785-04688A7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C9327-5B36-465B-9A11-1469973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2920D-D136-4EB1-92EE-3FF06180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D5D86-79A3-478D-B2FA-EF56641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54073-9A33-4008-B711-342A334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62EE-20E6-4641-93C4-5BFC130F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546E1-2C93-4CB7-846A-1ED87553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3BB7-39C1-4E08-A33E-0064383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C53-3B24-4487-9B0B-05734683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0628-5D13-4328-9F52-CAF3EC1F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DFA-45ED-49B4-A771-C1AC7AA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F71E-9578-4476-88E1-84D09C5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473B-DF34-4F11-96B4-8AE1FEA0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D48-E354-45A6-9D8B-127758E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59D7-8A4B-43AE-9F24-E8CEDD07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1665-A8FC-46F0-B5EF-3343AA1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711-224E-4EBB-A938-BA76D2DE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BE7-45FB-4739-A767-701B3DBB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0B9-5123-48A4-A1E0-7EF1D748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062A-2F7D-4226-B66A-21AD367F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AAC4-0D8B-4728-8096-6180533F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6CBC-D991-4859-8BF0-B60C2761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4462-1355-4B3E-8754-E831D775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5D43C-DC00-453B-90E3-B197EC2B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E169-7903-47C3-BC03-EB966D8F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3EC1-FFC7-4B85-B1C2-317B2D3E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4C88-5724-40B4-88B6-EDC6E59F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DDB-159A-48A0-A047-391AA7F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8E17-F798-4261-8087-41743F3F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1648-5768-4941-9133-17FE759D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3575-20DD-4CC0-8E60-F05441B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3213-A91F-478E-B6BE-AA74513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BE66-FDCD-4687-9A34-925BA84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9098-8590-4870-954D-06BA519A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630A-C5D7-4BCF-BD94-89C00788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C8AA-C599-4AF7-96C7-0CF9DEA7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367F-A3EE-4642-A51B-26F0A017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820E2-1F0F-44EC-8B60-25FB47CA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81B0-C0A9-44A7-8DAC-CD79A168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D8F1-560A-46EA-82A6-1EFAEE54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7739-7F9D-4BD3-B0F1-39E4F8AE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2F96-CF8A-4755-81B5-AD133EE1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1EE1-58EB-4383-B21F-8CB68DC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3C4F8-9960-4850-9E9F-AF3F408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940C4-A3B0-41C2-9146-97057D6A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7A28-17E6-4883-BBE0-2ECFA954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F3B8-F5E8-4398-8025-A8CC382B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3D0E-14D4-4B73-B8A5-249C66F7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B791-1931-4902-8534-EE5FF1D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CE0-0515-44C5-8A8B-CB8E74C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D83D-2FAA-412B-9505-7AA324B4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E3DF9-50B1-4EC7-BE00-679AE59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4C7C5-DD40-43BF-970B-F5B11CC2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BD78-CB14-4446-8403-E755EDCC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81E64-8C98-421C-8D11-37EE753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9E50-A163-4F54-8CBB-1BB20D4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60A76-18C9-4B8F-91AB-95E6BD06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D9C4-04EA-407E-B517-CBC018F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64D2-76C7-4792-8268-F676972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65F9-FD9C-463D-B154-22AA16C8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196-300C-4F58-B12C-CF6DB738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805C-8D63-4F7F-A8DE-96685D00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298A-D9C7-4C7A-9A1C-74B58A8C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6BBAF-DE35-4D06-BEEA-F644A788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291D6-7EB9-4058-99A0-47E5A714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42D0A-409D-4C12-8DE7-40468F37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C381-A9EC-40B7-8ACA-38FE57B1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157A9-0178-435F-9557-CC57EA59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A004-0CDA-4EC4-BDFD-9224F50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AAFF2-AFEC-465C-968C-440F6780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A1023-73DB-4459-A29A-B4BD7C8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D7A-22DF-464A-8FA2-43C168D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BC737-28ED-48B6-B565-1F0EE672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7079-61F5-4328-89C1-1E64494E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A2B5-B6D2-4152-965A-21F9F74F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982B-4DC8-44A9-BC32-40DD6A7F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4C74-BAA6-4895-9BE4-B56DD3D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0E89-7398-4EBE-BA2B-1D8FB73D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63DDD-ABCF-4B25-8E97-8A641DAC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A428-1CDA-44D0-A5FE-8A83FB3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03E7-9C3C-488C-9E2F-E74954D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552B5-7F70-4BE6-B11B-FB159F43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F2A-592B-4307-977C-9062046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6DA86-C031-41BD-B82B-AF3E5A0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4BD8F-04A7-436E-831B-4BD19A3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A897-107B-461E-B75A-A2F313D2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37DBC-5A89-443A-A9B6-DFE29AAF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80DE5-0A77-4ED6-B479-7AA489D1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32B84-283F-445B-ACCC-B8D26F8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5A88B-B1C3-4A76-80AC-1B5C8FDD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925AD-9ADF-47BF-AA44-19FC888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2433C-DCE9-4454-8B60-651B32C8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84DBB-EDFF-4615-B773-6CA09DFA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E31-095B-4297-9180-DB3AF7C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76A6-29E1-43E1-9BDF-D8B4508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BFEC5-7DB6-488C-837A-7F46EEC5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4F8F-568E-4D00-8070-1CB55347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A309A-09E8-4B72-BD09-35A053E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57FFC-0AB0-4B45-82E6-38AAEFBB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7C1D0-3FC6-45DE-9D28-092619B7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033CD-1006-42A9-9A65-58D05816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66A05-929B-4592-9D18-C00913B4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825DC-EC63-4A53-8856-7C6D5B93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26EC-D9D9-4438-AB8D-FD13BFE3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80BF6-6832-453A-89E5-C956D11B97A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40C9A-F621-4705-AD63-D58B0D6B2B07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480" y="3473640"/>
              <a:ext cx="612720" cy="4096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2560" y="39103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1120" y="301608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716FA-0DEA-47A1-8250-1B67D6BD0CED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D4B09-3D0D-4B23-9B02-7DC98F8E78E7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25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480" y="2813040"/>
              <a:ext cx="612720" cy="4093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2560" y="3249720"/>
              <a:ext cx="398160" cy="2696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1120" y="2355840"/>
              <a:ext cx="630000" cy="40788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1D7C9-25BE-4042-B5BA-42EB648FBE01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C8743-56B4-4465-A4F0-7B5D11482162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8520" y="1600200"/>
              <a:ext cx="7086960" cy="347508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000" cy="3919320"/>
              <a:chOff x="222120" y="1254240"/>
              <a:chExt cx="342900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000" cy="222552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5400" y="3522600"/>
                <a:ext cx="1433520" cy="95544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4400" y="4543560"/>
                <a:ext cx="931680" cy="630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560" y="2452680"/>
                <a:ext cx="1476360" cy="95544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0BEAC-32FA-4603-88BD-49995D3D52E1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News Gothic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75460-8662-480C-82F7-10A29FC96D79}" type="slidenum">
              <a:rPr b="1" lang="en-US" sz="900" spc="-1" strike="noStrike">
                <a:solidFill>
                  <a:srgbClr val="bfbfbf"/>
                </a:solidFill>
                <a:latin typeface="News Gothic M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6DA1D-AF28-4FBB-9AE9-F4A12BF3B42D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BDAF6-7D06-4730-A204-ECBCE72C9B3D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7BC92-4944-45B4-8729-13ACB1F3DDAE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News Gothic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45DE3-7B14-42A1-8B46-17206FCECC31}" type="slidenum">
              <a:rPr b="1" lang="en-US" sz="1800" spc="-1" strike="noStrike">
                <a:solidFill>
                  <a:srgbClr val="749805"/>
                </a:solidFill>
                <a:latin typeface="News Gothic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7D91E-0B7A-4411-8E7F-4D3B26C53648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A4019-F9C4-4CCD-9A08-F41E1C5D0264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720" y="519120"/>
              <a:ext cx="700200" cy="801720"/>
              <a:chOff x="7524720" y="519120"/>
              <a:chExt cx="700200" cy="80172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720" y="519120"/>
                <a:ext cx="700200" cy="4557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2800"/>
                <a:ext cx="29376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50160" y="119232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840" y="763560"/>
                <a:ext cx="301680" cy="1969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A988B-75FE-4DE3-99FC-090D947E2EF9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E0740-0D83-4B54-BC6C-CCA2CC8B6869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384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386" name="Oval 11"/>
              <p:cNvSpPr/>
              <p:nvPr/>
            </p:nvSpPr>
            <p:spPr>
              <a:xfrm>
                <a:off x="948600" y="3034080"/>
                <a:ext cx="700920" cy="455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2"/>
              <p:cNvSpPr/>
              <p:nvPr/>
            </p:nvSpPr>
            <p:spPr>
              <a:xfrm>
                <a:off x="1290240" y="3497400"/>
                <a:ext cx="29412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Oval 13"/>
              <p:cNvSpPr/>
              <p:nvPr/>
            </p:nvSpPr>
            <p:spPr>
              <a:xfrm>
                <a:off x="1274400" y="3706560"/>
                <a:ext cx="19080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14"/>
              <p:cNvSpPr/>
              <p:nvPr/>
            </p:nvSpPr>
            <p:spPr>
              <a:xfrm>
                <a:off x="1144080" y="3278160"/>
                <a:ext cx="302040" cy="19656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8BC2F-5475-4737-B8D9-30A05830E7D0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8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43FC0-B5A2-4A58-A83F-40F4F7351161}" type="slidenum">
              <a:rPr b="1" lang="en-US" sz="18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Seeds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Accelerated Biology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65" name="Content Placeholder 3" descr="monocots_vs_dicots.jpg"/>
          <p:cNvPicPr/>
          <p:nvPr/>
        </p:nvPicPr>
        <p:blipFill>
          <a:blip r:embed="rId1"/>
          <a:srcRect l="-16354" t="0" r="-16354" b="0"/>
          <a:stretch/>
        </p:blipFill>
        <p:spPr>
          <a:xfrm>
            <a:off x="1928880" y="1754280"/>
            <a:ext cx="75042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Content Placeholder 3" descr="Akira seed 2.jpg"/>
          <p:cNvPicPr/>
          <p:nvPr/>
        </p:nvPicPr>
        <p:blipFill>
          <a:blip r:embed="rId1"/>
          <a:srcRect l="-17124" t="0" r="-17124" b="0"/>
          <a:stretch/>
        </p:blipFill>
        <p:spPr>
          <a:xfrm>
            <a:off x="-307800" y="809640"/>
            <a:ext cx="880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825560" y="1631880"/>
            <a:ext cx="53593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 vs. 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1920960" y="1498680"/>
            <a:ext cx="52909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0" y="1933560"/>
            <a:ext cx="3765600" cy="32511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eed coat – protects embryo from injury and harsh environmen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develops from the outer layers of the ovule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ndosperm – portion of seed that stores food (energy) for the developing embryo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Content Placeholder 3" descr="mono-dicot.gif"/>
          <p:cNvPicPr/>
          <p:nvPr/>
        </p:nvPicPr>
        <p:blipFill>
          <a:blip r:embed="rId1"/>
          <a:srcRect l="-17763" t="0" r="-17763" b="0"/>
          <a:stretch/>
        </p:blipFill>
        <p:spPr>
          <a:xfrm>
            <a:off x="0" y="2766960"/>
            <a:ext cx="3746520" cy="31100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Cotyledon – seed leave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part of the embryo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the first leave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transfer nutrients to the embryo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Monocot – I cotyledon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Ex) corn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lnSpc>
                <a:spcPct val="90000"/>
              </a:lnSpc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Dicot – 2 cotyledon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lnSpc>
                <a:spcPct val="90000"/>
              </a:lnSpc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News Gothic MT"/>
              </a:rPr>
              <a:t>Ex) Kidney and Lima beans</a:t>
            </a:r>
            <a:endParaRPr b="0" lang="en-US" sz="22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757080" y="242712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 vs. Dico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2192400" y="2243160"/>
            <a:ext cx="6184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428640" y="2021040"/>
            <a:ext cx="494676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Radicle – embryonic root (becomes root)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147600" y="2246400"/>
            <a:ext cx="323064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Seed Anatom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News Gothic MT"/>
              </a:rPr>
              <a:t>Epi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 – part of the shoo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tem </a:t>
            </a:r>
            <a:r>
              <a:rPr b="0" i="1" lang="en-US" sz="2400" spc="-1" strike="noStrike">
                <a:solidFill>
                  <a:srgbClr val="404040"/>
                </a:solidFill>
                <a:latin typeface="News Gothic MT"/>
              </a:rPr>
              <a:t>above 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edon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News Gothic MT"/>
              </a:rPr>
              <a:t>Hypo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 – part of root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stem </a:t>
            </a:r>
            <a:r>
              <a:rPr b="0" i="1" lang="en-US" sz="2400" spc="-1" strike="noStrike">
                <a:solidFill>
                  <a:srgbClr val="404040"/>
                </a:solidFill>
                <a:latin typeface="News Gothic MT"/>
              </a:rPr>
              <a:t>below </a:t>
            </a: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cotyledon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263520" y="2021040"/>
            <a:ext cx="31654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Mono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Leaf veins parallel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Vascular tissue scattered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Flower parts in three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x) lilies, grasses, corn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1"/>
          <a:stretch/>
        </p:blipFill>
        <p:spPr>
          <a:xfrm>
            <a:off x="304920" y="2389320"/>
            <a:ext cx="2806560" cy="2143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4416480" y="4419720"/>
            <a:ext cx="23050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Dicots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Leaf veins netlike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Ring of vascular tissue 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Flower parts in fours or fives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News Gothic MT"/>
              </a:rPr>
              <a:t>Ex) trees, geranium, cacti</a:t>
            </a:r>
            <a:endParaRPr b="0" lang="en-US" sz="2400" spc="-1" strike="noStrike">
              <a:solidFill>
                <a:srgbClr val="404040"/>
              </a:solidFill>
              <a:latin typeface="News Gothic MT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4152960" y="4343400"/>
            <a:ext cx="3098880" cy="2276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"/>
          <p:cNvPicPr/>
          <p:nvPr/>
        </p:nvPicPr>
        <p:blipFill>
          <a:blip r:embed="rId2"/>
          <a:stretch/>
        </p:blipFill>
        <p:spPr>
          <a:xfrm>
            <a:off x="439560" y="2487600"/>
            <a:ext cx="256572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2:02:17Z</dcterms:created>
  <dc:creator>Patriot</dc:creator>
  <dc:description/>
  <dc:language>en-US</dc:language>
  <cp:lastModifiedBy>Patriot</cp:lastModifiedBy>
  <dcterms:modified xsi:type="dcterms:W3CDTF">2012-05-04T13:07:18Z</dcterms:modified>
  <cp:revision>10</cp:revision>
  <dc:subject/>
  <dc:title>Monocots vs. Dicots</dc:title>
</cp:coreProperties>
</file>