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DD78-842B-4298-B31E-48F31768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C619-10F4-4EB1-86D8-CF135DAF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BD9D-FC12-4F5E-8B56-804C1F7F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D5F4-ABDE-44EE-96F4-047D0BD2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B8DC-9CC8-4C22-A021-82017F01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9B12-0EF6-430B-9895-6686F066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29E-AB70-48C4-A1E6-F77EC4CE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7A96-C2C4-4179-BA65-88A4C02A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4C6A-FC94-4C6E-A8CD-792EF3A6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6367-7B5A-48B5-86E1-878C3F6A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772-2945-4AF1-9F78-C9AD8A98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9907-730B-4D0D-B956-CDBAA8F7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697BE-6481-4ECF-828C-D64931AE86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4B5C3-E6EC-403F-BC9F-ABCB38416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sms and Grow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ccelerated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4309920" y="1417680"/>
            <a:ext cx="4821480" cy="5433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 Grow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will this carving look like 50 years from now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cuss with your partn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482F9C-B4BD-4D00-A29D-AEDC1FEBF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s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imulus – an environmental condition that causes a plant respo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opism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rowth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plant in a certain way in response to a stimul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trop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ototropism – growth toward (+) or away from (–) lig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nt shoots display positive phototropis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nt roots display negative phototropis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146320" y="3532320"/>
            <a:ext cx="219564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220px-Phototropism.jpg"/>
          <p:cNvPicPr/>
          <p:nvPr/>
        </p:nvPicPr>
        <p:blipFill>
          <a:blip r:embed="rId2"/>
          <a:stretch/>
        </p:blipFill>
        <p:spPr>
          <a:xfrm>
            <a:off x="4751280" y="353232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vitrop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avitropism – growth toward (+) or away from (–) grav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nt shoots display negative gravitropis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nt roots display positive gravitropis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edling shoot grows upwards and roots grow downwards, no matter how seed landed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308240" y="3762360"/>
            <a:ext cx="3136680" cy="2425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4716360" y="3762360"/>
            <a:ext cx="23655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gmotrop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gmotropism – response to physical conta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nt shoots can coil or grasp and use objects for support while growing toward lig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) morning glories, clemat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is also how the Venus fly trap clo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278080" y="3900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22200" y="390060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5567400" y="3900600"/>
            <a:ext cx="3265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 Horm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uxin – a plant hormone that causes cell walls to become more flexible which allows cells to elongate as they gro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uxin accumulates on the dark side of the pl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lls on the dark side elongate more than cells on the light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uses stem to grow towards the lig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2155680" y="3933720"/>
            <a:ext cx="48564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 Grow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ristems – a region of undifferentiated plant cells that are capable of dividing and developing into specialized plant tiss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0" descr=""/>
          <p:cNvPicPr/>
          <p:nvPr/>
        </p:nvPicPr>
        <p:blipFill>
          <a:blip r:embed="rId1"/>
          <a:stretch/>
        </p:blipFill>
        <p:spPr>
          <a:xfrm>
            <a:off x="4971960" y="2390760"/>
            <a:ext cx="37148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 Grow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mary Grow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ical meristems – located at the tips of the stems and roo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ems and roots become longer, without becoming wid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ke stacking plates one on top of another, the pile will only get taller, but never wid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6543720" y="1724040"/>
            <a:ext cx="2324160" cy="3708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>
            <a:off x="4861080" y="4464000"/>
            <a:ext cx="214128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4919760" y="817560"/>
            <a:ext cx="3849480" cy="3535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 Grow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ary Grow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dramatic in woody 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ccurs in two meri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rk cambium – produces cork ce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scular cambium – produces vascular tiss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em grows in diame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ult = annual rin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4951440" y="4197240"/>
            <a:ext cx="35542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7:23:04Z</dcterms:created>
  <dc:creator>Patriot</dc:creator>
  <dc:description/>
  <dc:language>en-US</dc:language>
  <cp:lastModifiedBy>Patriot</cp:lastModifiedBy>
  <dcterms:modified xsi:type="dcterms:W3CDTF">2012-05-09T16:12:10Z</dcterms:modified>
  <cp:revision>21</cp:revision>
  <dc:subject/>
  <dc:title>Tropisms</dc:title>
</cp:coreProperties>
</file>