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A7E19-CA05-4496-9AAF-3F6FBB6B0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8DCE6-E3F4-4659-9729-E206C42C3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793FC-D6A3-4101-BF8B-9434FDD5E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3F6CB-BD6F-4CA9-84D1-CCFE71819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22412-DF99-4C2B-85A2-E25870249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313D3-9F82-4E47-8A85-0A8E8E1E3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AB32E-2592-4161-8F0C-A9A220B4E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FA1EB-8E56-4313-83F4-2D77DB744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DC658-FD81-4F12-BB0A-D1EA6BC39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8A535-FDD4-4769-80B9-D789365D4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E733B-0EFB-4B72-8AE7-4D06FBAA9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40D39-2F95-4EA2-BCA6-8A24DF1F0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6551FD6-E658-4A1E-94A5-3DA2D4E89DB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469BF02-DB7A-4612-8CCB-5539F34960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ropisms and Growt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Accelerated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4" descr=""/>
          <p:cNvPicPr/>
          <p:nvPr/>
        </p:nvPicPr>
        <p:blipFill>
          <a:blip r:embed="rId1"/>
          <a:stretch/>
        </p:blipFill>
        <p:spPr>
          <a:xfrm>
            <a:off x="4309920" y="1417680"/>
            <a:ext cx="4821480" cy="543384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lant Growt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hat will this carving look like 50 years from now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iscuss with your partner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F7C1AC-ADB5-46FE-BDFE-9F1163D85B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ropis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imulus – an environmental condition that causes a plant respon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ropism –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growth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f plant in a certain way in response to a stimulu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hototropis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hototropism – growth toward (+) or away from (–) ligh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ant shoots display positive phototropis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ant roots display negative phototropis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4" descr=""/>
          <p:cNvPicPr/>
          <p:nvPr/>
        </p:nvPicPr>
        <p:blipFill>
          <a:blip r:embed="rId1"/>
          <a:stretch/>
        </p:blipFill>
        <p:spPr>
          <a:xfrm>
            <a:off x="2146320" y="3532320"/>
            <a:ext cx="2195640" cy="18288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5" descr="220px-Phototropism.jpg"/>
          <p:cNvPicPr/>
          <p:nvPr/>
        </p:nvPicPr>
        <p:blipFill>
          <a:blip r:embed="rId2"/>
          <a:stretch/>
        </p:blipFill>
        <p:spPr>
          <a:xfrm>
            <a:off x="4751280" y="3532320"/>
            <a:ext cx="243864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ravitropis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Gravitropism – growth toward (+) or away from (–) gravit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ant shoots display negative gravitropis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ant roots display positive gravitropis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edling shoot grows upwards and roots grow downwards, no matter how seed landed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4" descr=""/>
          <p:cNvPicPr/>
          <p:nvPr/>
        </p:nvPicPr>
        <p:blipFill>
          <a:blip r:embed="rId1"/>
          <a:stretch/>
        </p:blipFill>
        <p:spPr>
          <a:xfrm>
            <a:off x="1308240" y="3762360"/>
            <a:ext cx="3136680" cy="2425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"/>
          <p:cNvPicPr/>
          <p:nvPr/>
        </p:nvPicPr>
        <p:blipFill>
          <a:blip r:embed="rId2"/>
          <a:stretch/>
        </p:blipFill>
        <p:spPr>
          <a:xfrm>
            <a:off x="4716360" y="3762360"/>
            <a:ext cx="236556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gmotropis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gmotropism – response to physical contac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ant shoots can coil or grasp and use objects for support while growing toward ligh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x) morning glories, clemati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s is also how the Venus fly trap clos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4" descr=""/>
          <p:cNvPicPr/>
          <p:nvPr/>
        </p:nvPicPr>
        <p:blipFill>
          <a:blip r:embed="rId1"/>
          <a:stretch/>
        </p:blipFill>
        <p:spPr>
          <a:xfrm>
            <a:off x="2278080" y="390060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" descr=""/>
          <p:cNvPicPr/>
          <p:nvPr/>
        </p:nvPicPr>
        <p:blipFill>
          <a:blip r:embed="rId2"/>
          <a:stretch/>
        </p:blipFill>
        <p:spPr>
          <a:xfrm>
            <a:off x="322200" y="3900600"/>
            <a:ext cx="1714680" cy="22860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7" descr=""/>
          <p:cNvPicPr/>
          <p:nvPr/>
        </p:nvPicPr>
        <p:blipFill>
          <a:blip r:embed="rId3"/>
          <a:stretch/>
        </p:blipFill>
        <p:spPr>
          <a:xfrm>
            <a:off x="5567400" y="3900600"/>
            <a:ext cx="32655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lant Hormon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uxin – a plant hormone that causes cell walls to become more flexible which allows cells to elongate as they grow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uxin accumulates on the dark side of the plan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ells on the dark side elongate more than cells on the light sid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auses stem to grow towards the ligh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8" descr=""/>
          <p:cNvPicPr/>
          <p:nvPr/>
        </p:nvPicPr>
        <p:blipFill>
          <a:blip r:embed="rId1"/>
          <a:stretch/>
        </p:blipFill>
        <p:spPr>
          <a:xfrm>
            <a:off x="2155680" y="3933720"/>
            <a:ext cx="485640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lant Growt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eristems – a region of undifferentiated plant cells that are capable of dividing and developing into specialized plant tissu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10" descr=""/>
          <p:cNvPicPr/>
          <p:nvPr/>
        </p:nvPicPr>
        <p:blipFill>
          <a:blip r:embed="rId1"/>
          <a:stretch/>
        </p:blipFill>
        <p:spPr>
          <a:xfrm>
            <a:off x="4971960" y="2390760"/>
            <a:ext cx="3714840" cy="412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lant Growt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imary Growth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pical meristems – located at the tips of the stems and roo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tems and roots become longer, without becoming wid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like stacking plates one on top of another, the pile will only get taller, but never wid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9" descr=""/>
          <p:cNvPicPr/>
          <p:nvPr/>
        </p:nvPicPr>
        <p:blipFill>
          <a:blip r:embed="rId1"/>
          <a:stretch/>
        </p:blipFill>
        <p:spPr>
          <a:xfrm>
            <a:off x="6543720" y="1724040"/>
            <a:ext cx="2324160" cy="37083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8" descr=""/>
          <p:cNvPicPr/>
          <p:nvPr/>
        </p:nvPicPr>
        <p:blipFill>
          <a:blip r:embed="rId2"/>
          <a:stretch/>
        </p:blipFill>
        <p:spPr>
          <a:xfrm>
            <a:off x="4861080" y="4464000"/>
            <a:ext cx="2141280" cy="21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6" descr=""/>
          <p:cNvPicPr/>
          <p:nvPr/>
        </p:nvPicPr>
        <p:blipFill>
          <a:blip r:embed="rId1"/>
          <a:stretch/>
        </p:blipFill>
        <p:spPr>
          <a:xfrm>
            <a:off x="4919760" y="817560"/>
            <a:ext cx="3849480" cy="353520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lant Growt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ary Growth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ost dramatic in woody plan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occurs in two meristem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rk cambium – produces cork cell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ascular cambium – produces vascular tissu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tem grows in diamet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sult = annual ring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5" descr=""/>
          <p:cNvPicPr/>
          <p:nvPr/>
        </p:nvPicPr>
        <p:blipFill>
          <a:blip r:embed="rId2"/>
          <a:stretch/>
        </p:blipFill>
        <p:spPr>
          <a:xfrm>
            <a:off x="4951440" y="4197240"/>
            <a:ext cx="355428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8T17:23:04Z</dcterms:created>
  <dc:creator>Patriot</dc:creator>
  <dc:description/>
  <dc:language>en-US</dc:language>
  <cp:lastModifiedBy>Patriot</cp:lastModifiedBy>
  <dcterms:modified xsi:type="dcterms:W3CDTF">2012-05-09T16:12:10Z</dcterms:modified>
  <cp:revision>21</cp:revision>
  <dc:subject/>
  <dc:title>Tropisms</dc:title>
</cp:coreProperties>
</file>